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gif" ContentType="image/gif"/>
  <Override PartName="/ppt/media/image22.png" ContentType="image/png"/>
  <Override PartName="/ppt/media/image17.gif" ContentType="image/gif"/>
  <Override PartName="/ppt/media/image50.jpeg" ContentType="image/jpeg"/>
  <Override PartName="/ppt/media/image16.gif" ContentType="image/gif"/>
  <Override PartName="/ppt/media/image12.wmf" ContentType="image/x-wmf"/>
  <Override PartName="/ppt/media/image15.gif" ContentType="image/gif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media/image4.wmf" ContentType="image/x-wmf"/>
  <Override PartName="/ppt/media/image34.wmf" ContentType="image/x-wmf"/>
  <Override PartName="/ppt/media/image42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41.gif" ContentType="image/gif"/>
  <Override PartName="/ppt/media/image40.gif" ContentType="image/gif"/>
  <Override PartName="/ppt/media/image33.png" ContentType="image/png"/>
  <Override PartName="/ppt/media/image45.png" ContentType="image/png"/>
  <Override PartName="/ppt/media/image10.png" ContentType="image/png"/>
  <Override PartName="/ppt/media/image28.wmf" ContentType="image/x-wmf"/>
  <Override PartName="/ppt/media/image46.jpeg" ContentType="image/jpeg"/>
  <Override PartName="/ppt/media/image48.jpeg" ContentType="image/jpeg"/>
  <Override PartName="/ppt/media/image5.wmf" ContentType="image/x-wmf"/>
  <Override PartName="/ppt/media/image9.gif" ContentType="image/gif"/>
  <Override PartName="/ppt/media/image36.gif" ContentType="image/gif"/>
  <Override PartName="/ppt/media/image39.wmf" ContentType="image/x-wmf"/>
  <Override PartName="/ppt/media/image49.jpeg" ContentType="image/jpeg"/>
  <Override PartName="/ppt/media/image37.wmf" ContentType="image/x-wmf"/>
  <Override PartName="/ppt/media/image7.wmf" ContentType="image/x-wmf"/>
  <Override PartName="/ppt/media/image35.gif" ContentType="image/gif"/>
  <Override PartName="/ppt/media/image31.wmf" ContentType="image/x-wmf"/>
  <Override PartName="/ppt/media/image11.png" ContentType="image/png"/>
  <Override PartName="/ppt/media/image38.wmf" ContentType="image/x-wmf"/>
  <Override PartName="/ppt/media/image8.wmf" ContentType="image/x-wmf"/>
  <Override PartName="/ppt/media/image13.png" ContentType="image/png"/>
  <Override PartName="/ppt/media/image30.wmf" ContentType="image/x-wmf"/>
  <Override PartName="/ppt/media/image27.png" ContentType="image/png"/>
  <Override PartName="/ppt/media/image6.wmf" ContentType="image/x-wmf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F32-C4DC-43BB-AE3F-F1BC99F2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998-D58A-4B3D-BC39-39323BFE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BE2-AA7B-419F-AAF6-F7752856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FFA-E324-4EB0-911C-E16A6FCF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921-8C64-401D-934E-E12E61AF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85F-8C04-485A-91A3-946BF027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158-707F-4B79-8DBB-97DF0270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1E2-ED6E-4E6F-9FBC-B2DC6033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F3D-5389-4D18-8B85-2B8ECEF7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C4F-C169-42AB-B991-1DC66387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871-D52F-423E-BEAD-D8AA89F2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9BD-C57C-43BE-8645-DC8BF3B3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5F01-86A5-47AF-A1AE-274F9A7E76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gif"/><Relationship Id="rId8" Type="http://schemas.openxmlformats.org/officeDocument/2006/relationships/image" Target="../media/image41.gif"/><Relationship Id="rId9" Type="http://schemas.openxmlformats.org/officeDocument/2006/relationships/image" Target="../media/image42.wmf"/><Relationship Id="rId10" Type="http://schemas.openxmlformats.org/officeDocument/2006/relationships/image" Target="../media/image43.wmf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04920"/>
            <a:ext cx="3216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Разговор о правильном пита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876920" y="53341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Подготовила учитель Дармаева С.Ц., начальных класс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FD00357_"/>
          <p:cNvPicPr/>
          <p:nvPr/>
        </p:nvPicPr>
        <p:blipFill>
          <a:blip r:embed="rId1"/>
          <a:stretch/>
        </p:blipFill>
        <p:spPr>
          <a:xfrm>
            <a:off x="3962520" y="762120"/>
            <a:ext cx="2743200" cy="114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EGGS"/>
          <p:cNvPicPr/>
          <p:nvPr/>
        </p:nvPicPr>
        <p:blipFill>
          <a:blip r:embed="rId2"/>
          <a:stretch/>
        </p:blipFill>
        <p:spPr>
          <a:xfrm rot="943200">
            <a:off x="2445840" y="1709640"/>
            <a:ext cx="2133720" cy="1478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ROASTTUR"/>
          <p:cNvPicPr/>
          <p:nvPr/>
        </p:nvPicPr>
        <p:blipFill>
          <a:blip r:embed="rId3"/>
          <a:stretch/>
        </p:blipFill>
        <p:spPr>
          <a:xfrm>
            <a:off x="4648320" y="2209680"/>
            <a:ext cx="2361960" cy="1357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PEAPOD"/>
          <p:cNvPicPr/>
          <p:nvPr/>
        </p:nvPicPr>
        <p:blipFill>
          <a:blip r:embed="rId4"/>
          <a:stretch/>
        </p:blipFill>
        <p:spPr>
          <a:xfrm>
            <a:off x="0" y="1143000"/>
            <a:ext cx="2679840" cy="1173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PECANS"/>
          <p:cNvPicPr/>
          <p:nvPr/>
        </p:nvPicPr>
        <p:blipFill>
          <a:blip r:embed="rId5"/>
          <a:stretch/>
        </p:blipFill>
        <p:spPr>
          <a:xfrm>
            <a:off x="6705720" y="533520"/>
            <a:ext cx="1574640" cy="202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GOODBEAN"/>
          <p:cNvPicPr/>
          <p:nvPr/>
        </p:nvPicPr>
        <p:blipFill>
          <a:blip r:embed="rId6"/>
          <a:stretch/>
        </p:blipFill>
        <p:spPr>
          <a:xfrm>
            <a:off x="380880" y="2286000"/>
            <a:ext cx="1676520" cy="1123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533520" y="4572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Белки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– строительный материал орган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15" descr="Cheese-02"/>
          <p:cNvPicPr/>
          <p:nvPr/>
        </p:nvPicPr>
        <p:blipFill>
          <a:blip r:embed="rId7"/>
          <a:stretch/>
        </p:blipFill>
        <p:spPr>
          <a:xfrm>
            <a:off x="7831080" y="0"/>
            <a:ext cx="1312920" cy="1343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9"/>
          <p:cNvSpPr/>
          <p:nvPr/>
        </p:nvSpPr>
        <p:spPr>
          <a:xfrm>
            <a:off x="4114800" y="3886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Жиры – источник энерг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17" descr="IMAGE0058"/>
          <p:cNvPicPr/>
          <p:nvPr/>
        </p:nvPicPr>
        <p:blipFill>
          <a:blip r:embed="rId8"/>
          <a:stretch/>
        </p:blipFill>
        <p:spPr>
          <a:xfrm>
            <a:off x="7467480" y="4419720"/>
            <a:ext cx="1281240" cy="1857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IMAGE0057"/>
          <p:cNvPicPr/>
          <p:nvPr/>
        </p:nvPicPr>
        <p:blipFill>
          <a:blip r:embed="rId9"/>
          <a:stretch/>
        </p:blipFill>
        <p:spPr>
          <a:xfrm>
            <a:off x="457200" y="4191120"/>
            <a:ext cx="1143000" cy="2219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RD071"/>
          <p:cNvPicPr/>
          <p:nvPr/>
        </p:nvPicPr>
        <p:blipFill>
          <a:blip r:embed="rId10"/>
          <a:stretch/>
        </p:blipFill>
        <p:spPr>
          <a:xfrm>
            <a:off x="1905120" y="4572000"/>
            <a:ext cx="228600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IMAGE0056"/>
          <p:cNvPicPr/>
          <p:nvPr/>
        </p:nvPicPr>
        <p:blipFill>
          <a:blip r:embed="rId11"/>
          <a:stretch/>
        </p:blipFill>
        <p:spPr>
          <a:xfrm>
            <a:off x="3048120" y="5748480"/>
            <a:ext cx="160020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Безимени-1в"/>
          <p:cNvPicPr/>
          <p:nvPr/>
        </p:nvPicPr>
        <p:blipFill>
          <a:blip r:embed="rId12"/>
          <a:stretch/>
        </p:blipFill>
        <p:spPr>
          <a:xfrm>
            <a:off x="5029200" y="4343400"/>
            <a:ext cx="1725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ineapple_jumps"/>
          <p:cNvPicPr/>
          <p:nvPr/>
        </p:nvPicPr>
        <p:blipFill>
          <a:blip r:embed="rId1"/>
          <a:stretch/>
        </p:blipFill>
        <p:spPr>
          <a:xfrm>
            <a:off x="380880" y="4419720"/>
            <a:ext cx="1565280" cy="19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Candy"/>
          <p:cNvPicPr/>
          <p:nvPr/>
        </p:nvPicPr>
        <p:blipFill>
          <a:blip r:embed="rId2"/>
          <a:stretch/>
        </p:blipFill>
        <p:spPr>
          <a:xfrm>
            <a:off x="457200" y="1828800"/>
            <a:ext cx="24382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Cherries_3"/>
          <p:cNvPicPr/>
          <p:nvPr/>
        </p:nvPicPr>
        <p:blipFill>
          <a:blip r:embed="rId3"/>
          <a:stretch/>
        </p:blipFill>
        <p:spPr>
          <a:xfrm>
            <a:off x="6781680" y="0"/>
            <a:ext cx="1024200" cy="21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Green_grapes"/>
          <p:cNvPicPr/>
          <p:nvPr/>
        </p:nvPicPr>
        <p:blipFill>
          <a:blip r:embed="rId4"/>
          <a:stretch/>
        </p:blipFill>
        <p:spPr>
          <a:xfrm>
            <a:off x="7086600" y="4419720"/>
            <a:ext cx="1362240" cy="20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BEET"/>
          <p:cNvPicPr/>
          <p:nvPr/>
        </p:nvPicPr>
        <p:blipFill>
          <a:blip r:embed="rId5"/>
          <a:stretch/>
        </p:blipFill>
        <p:spPr>
          <a:xfrm>
            <a:off x="1219320" y="2590920"/>
            <a:ext cx="11635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CORNICOP"/>
          <p:cNvPicPr/>
          <p:nvPr/>
        </p:nvPicPr>
        <p:blipFill>
          <a:blip r:embed="rId6"/>
          <a:stretch/>
        </p:blipFill>
        <p:spPr>
          <a:xfrm>
            <a:off x="2971800" y="3276720"/>
            <a:ext cx="3352680" cy="262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BREAD"/>
          <p:cNvPicPr/>
          <p:nvPr/>
        </p:nvPicPr>
        <p:blipFill>
          <a:blip r:embed="rId7"/>
          <a:stretch/>
        </p:blipFill>
        <p:spPr>
          <a:xfrm>
            <a:off x="6400800" y="2590920"/>
            <a:ext cx="2286000" cy="107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3"/>
          <p:cNvSpPr/>
          <p:nvPr/>
        </p:nvSpPr>
        <p:spPr>
          <a:xfrm>
            <a:off x="685800" y="304920"/>
            <a:ext cx="3886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25" descr="Безимени-1"/>
          <p:cNvPicPr/>
          <p:nvPr/>
        </p:nvPicPr>
        <p:blipFill>
          <a:blip r:embed="rId8"/>
          <a:stretch/>
        </p:blipFill>
        <p:spPr>
          <a:xfrm>
            <a:off x="3657600" y="1523880"/>
            <a:ext cx="18288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0"/>
          <p:cNvSpPr/>
          <p:nvPr/>
        </p:nvSpPr>
        <p:spPr>
          <a:xfrm>
            <a:off x="380880" y="5335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А – улучшает з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80880" y="1600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В – укрепляет организм, даёт запас энерг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457200" y="304812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D</a:t>
            </a: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 – укрепляет костную систе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457200" y="53341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С –  закаливает организм, помогает бороться с болезн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24" descr="mag009"/>
          <p:cNvPicPr/>
          <p:nvPr/>
        </p:nvPicPr>
        <p:blipFill>
          <a:blip r:embed="rId1"/>
          <a:stretch/>
        </p:blipFill>
        <p:spPr>
          <a:xfrm>
            <a:off x="4343400" y="4343400"/>
            <a:ext cx="4191120" cy="22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IMAGE0086"/>
          <p:cNvPicPr/>
          <p:nvPr/>
        </p:nvPicPr>
        <p:blipFill>
          <a:blip r:embed="rId2"/>
          <a:stretch/>
        </p:blipFill>
        <p:spPr>
          <a:xfrm>
            <a:off x="4191120" y="304920"/>
            <a:ext cx="4419360" cy="998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7" descr="IMAGE0085"/>
          <p:cNvPicPr/>
          <p:nvPr/>
        </p:nvPicPr>
        <p:blipFill>
          <a:blip r:embed="rId3"/>
          <a:stretch/>
        </p:blipFill>
        <p:spPr>
          <a:xfrm>
            <a:off x="4114800" y="1600200"/>
            <a:ext cx="4572000" cy="95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8" descr="IMAGE0084"/>
          <p:cNvPicPr/>
          <p:nvPr/>
        </p:nvPicPr>
        <p:blipFill>
          <a:blip r:embed="rId4"/>
          <a:stretch/>
        </p:blipFill>
        <p:spPr>
          <a:xfrm>
            <a:off x="4114800" y="2895480"/>
            <a:ext cx="4572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здоровые продукты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09480" y="380880"/>
            <a:ext cx="830592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Comic Sans MS"/>
              </a:rPr>
              <a:t>Правильное питание – это здоровая, полезная пища и выполнение следующих правил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1. Перед едой мой с мылом ру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2. Старайся соблюдать режим питания (завтрак, обед, полдник, ужин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3. Ешь не торопясь, небольшими кусочками, тщательно пережёвывай пищу с закрытым рто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4. Во время еды не разговаривай и не чита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5. Ешь в меру, не перееда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6. Воздерживайся от очень жирной, острой, солёной пищи. Не ешь много сладосте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7. Старайся питаться разнообразно, организм должен получать всё необходимое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0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7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редные и опасные для здоровья продук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9" descr="CHOCCAKE"/>
          <p:cNvPicPr/>
          <p:nvPr/>
        </p:nvPicPr>
        <p:blipFill>
          <a:blip r:embed="rId1"/>
          <a:stretch/>
        </p:blipFill>
        <p:spPr>
          <a:xfrm>
            <a:off x="457200" y="4572000"/>
            <a:ext cx="2627280" cy="168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HOTDOG"/>
          <p:cNvPicPr/>
          <p:nvPr/>
        </p:nvPicPr>
        <p:blipFill>
          <a:blip r:embed="rId2"/>
          <a:stretch/>
        </p:blipFill>
        <p:spPr>
          <a:xfrm>
            <a:off x="5105520" y="464832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AMBURGD"/>
          <p:cNvPicPr/>
          <p:nvPr/>
        </p:nvPicPr>
        <p:blipFill>
          <a:blip r:embed="rId3"/>
          <a:stretch/>
        </p:blipFill>
        <p:spPr>
          <a:xfrm>
            <a:off x="6629400" y="1143000"/>
            <a:ext cx="2286000" cy="168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SODAPOPT"/>
          <p:cNvPicPr/>
          <p:nvPr/>
        </p:nvPicPr>
        <p:blipFill>
          <a:blip r:embed="rId4"/>
          <a:stretch/>
        </p:blipFill>
        <p:spPr>
          <a:xfrm>
            <a:off x="6858000" y="2971800"/>
            <a:ext cx="681120" cy="1371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5"/>
          <p:cNvSpPr/>
          <p:nvPr/>
        </p:nvSpPr>
        <p:spPr>
          <a:xfrm>
            <a:off x="762120" y="990720"/>
            <a:ext cx="56386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Газированная сладкая вода –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“Fanta”, “Pepsi”, “Coca-cola”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и другие напитки с консервантами, на ароматизаторах и с красител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Чип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Продукты быстрого приготовления (супы, лапша, пюре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Гамбургеры, хот-дог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Сладости (в большом количеств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18" descr="с"/>
          <p:cNvPicPr/>
          <p:nvPr/>
        </p:nvPicPr>
        <p:blipFill>
          <a:blip r:embed="rId5"/>
          <a:stretch/>
        </p:blipFill>
        <p:spPr>
          <a:xfrm>
            <a:off x="7391520" y="4724280"/>
            <a:ext cx="1276200" cy="173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Безимавени-1"/>
          <p:cNvPicPr/>
          <p:nvPr/>
        </p:nvPicPr>
        <p:blipFill>
          <a:blip r:embed="rId6"/>
          <a:stretch/>
        </p:blipFill>
        <p:spPr>
          <a:xfrm>
            <a:off x="3505320" y="4876920"/>
            <a:ext cx="1206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5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5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5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15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15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5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15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15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5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15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15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5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15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15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5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175"/>
                            </p:stCondLst>
                            <p:childTnLst>
                              <p:par>
                                <p:cTn id="3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BERRYSH"/>
          <p:cNvPicPr/>
          <p:nvPr/>
        </p:nvPicPr>
        <p:blipFill>
          <a:blip r:embed="rId1"/>
          <a:stretch/>
        </p:blipFill>
        <p:spPr>
          <a:xfrm>
            <a:off x="3352680" y="3962520"/>
            <a:ext cx="1752840" cy="132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Lollipop"/>
          <p:cNvPicPr/>
          <p:nvPr/>
        </p:nvPicPr>
        <p:blipFill>
          <a:blip r:embed="rId2"/>
          <a:stretch/>
        </p:blipFill>
        <p:spPr>
          <a:xfrm>
            <a:off x="2438280" y="3581280"/>
            <a:ext cx="781200" cy="113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Burger-01"/>
          <p:cNvPicPr/>
          <p:nvPr/>
        </p:nvPicPr>
        <p:blipFill>
          <a:blip r:embed="rId3"/>
          <a:stretch/>
        </p:blipFill>
        <p:spPr>
          <a:xfrm>
            <a:off x="2590920" y="190512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HAM"/>
          <p:cNvPicPr/>
          <p:nvPr/>
        </p:nvPicPr>
        <p:blipFill>
          <a:blip r:embed="rId4"/>
          <a:stretch/>
        </p:blipFill>
        <p:spPr>
          <a:xfrm>
            <a:off x="4952880" y="3429000"/>
            <a:ext cx="1465560" cy="10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229"/>
          <p:cNvPicPr/>
          <p:nvPr/>
        </p:nvPicPr>
        <p:blipFill>
          <a:blip r:embed="rId5"/>
          <a:stretch/>
        </p:blipFill>
        <p:spPr>
          <a:xfrm>
            <a:off x="3124080" y="2590920"/>
            <a:ext cx="1649520" cy="135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237"/>
          <p:cNvPicPr/>
          <p:nvPr/>
        </p:nvPicPr>
        <p:blipFill>
          <a:blip r:embed="rId6"/>
          <a:stretch/>
        </p:blipFill>
        <p:spPr>
          <a:xfrm>
            <a:off x="4114800" y="152280"/>
            <a:ext cx="1752480" cy="1211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3D_apple_2"/>
          <p:cNvPicPr/>
          <p:nvPr/>
        </p:nvPicPr>
        <p:blipFill>
          <a:blip r:embed="rId7"/>
          <a:stretch/>
        </p:blipFill>
        <p:spPr>
          <a:xfrm>
            <a:off x="2514600" y="5638680"/>
            <a:ext cx="638280" cy="69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Grapes_swing"/>
          <p:cNvPicPr/>
          <p:nvPr/>
        </p:nvPicPr>
        <p:blipFill>
          <a:blip r:embed="rId8"/>
          <a:stretch/>
        </p:blipFill>
        <p:spPr>
          <a:xfrm>
            <a:off x="3581280" y="5334120"/>
            <a:ext cx="1524240" cy="1238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265"/>
          <p:cNvPicPr/>
          <p:nvPr/>
        </p:nvPicPr>
        <p:blipFill>
          <a:blip r:embed="rId9"/>
          <a:stretch/>
        </p:blipFill>
        <p:spPr>
          <a:xfrm>
            <a:off x="4800600" y="2057400"/>
            <a:ext cx="1474920" cy="125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j0246199"/>
          <p:cNvPicPr/>
          <p:nvPr/>
        </p:nvPicPr>
        <p:blipFill>
          <a:blip r:embed="rId10"/>
          <a:stretch/>
        </p:blipFill>
        <p:spPr>
          <a:xfrm>
            <a:off x="3962520" y="1523880"/>
            <a:ext cx="946080" cy="1038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6"/>
          <p:cNvSpPr/>
          <p:nvPr/>
        </p:nvSpPr>
        <p:spPr>
          <a:xfrm>
            <a:off x="365040" y="351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поль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7021440" y="3808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р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28" descr="IMAGE0056у"/>
          <p:cNvPicPr/>
          <p:nvPr/>
        </p:nvPicPr>
        <p:blipFill>
          <a:blip r:embed="rId11"/>
          <a:stretch/>
        </p:blipFill>
        <p:spPr>
          <a:xfrm>
            <a:off x="5410080" y="5181480"/>
            <a:ext cx="957240" cy="1181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IMAGE0089"/>
          <p:cNvPicPr/>
          <p:nvPr/>
        </p:nvPicPr>
        <p:blipFill>
          <a:blip r:embed="rId12"/>
          <a:stretch/>
        </p:blipFill>
        <p:spPr>
          <a:xfrm>
            <a:off x="3352680" y="228600"/>
            <a:ext cx="4809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C -0.16892 -0.10278 -0.3375 -0.20556 -0.36805 -0.1537 C -0.39861 -0.10185 -0.32292 0.21412 -0.18333 0.31088 C -0.04375 0.40764 0.33368 0.40301 0.46962 0.42685 E">
                                      <p:cBhvr>
                                        <p:cTn id="33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C 0.21424 0.04814 0.42466 0.09676 0.35122 0.22777 C 0.27778 0.35879 -0.27534 0.66967 -0.44027 0.78564 E">
                                      <p:cBhvr>
                                        <p:cTn id="33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7 C -0.2276 -0.07338 -0.45503 -0.14652 -0.39444 -0.23703 C -0.33385 -0.32754 0.23594 -0.49189 0.36389 -0.54259 C 0.49184 -0.59328 0.43264 -0.56713 0.37361 -0.54074 E">
                                      <p:cBhvr>
                                        <p:cTn id="34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C -0.2309 -0.09954 -0.46181 -0.19908 -0.39583 -0.26112 C -0.32986 -0.32315 0.38958 -0.29237 0.39583 -0.37223 C 0.40208 -0.45209 -0.20139 -0.66366 -0.35833 -0.74028 E">
                                      <p:cBhvr>
                                        <p:cTn id="34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C -0.1941 -0.1125 -0.38907 -0.21783 -0.4625 -0.16297 C -0.53594 -0.10811 -0.44497 0.22638 -0.44028 0.32893 E">
                                      <p:cBhvr>
                                        <p:cTn id="35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8.14815E-006 C 0.25833 0.01226 0.51666 0.02476 0.44861 0.07407 C 0.38055 0.12337 -0.01389 0.20972 -0.40834 0.29629 E">
                                      <p:cBhvr>
                                        <p:cTn id="35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C 0.18333 0.10926 0.36667 0.21875 0.28351 0.25186 C 0.20035 0.28496 -0.38107 0.2625 -0.49844 0.19815 C -0.6158 0.1338 -0.43663 -0.06504 -0.42031 -0.13426 E">
                                      <p:cBhvr>
                                        <p:cTn id="36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C -0.03889 -0.09422 -0.1849 -0.44769 -0.23351 -0.56551 E">
                                      <p:cBhvr>
                                        <p:cTn id="36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C 0.17327 0.00532 0.34653 0.01713 0.44028 0.1037 C 0.53403 0.19028 0.53715 0.43264 0.56268 0.51898 E">
                                      <p:cBhvr>
                                        <p:cTn id="37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17726 -0.14445 -0.35417 -0.28866 -0.24705 -0.34074 C -0.13994 -0.39283 0.52136 -0.37315 0.64323 -0.31297 C 0.76476 -0.25278 0.62396 -0.11621 0.48351 0.02037 E">
                                      <p:cBhvr>
                                        <p:cTn id="37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C 0.17726 0.22986 0.35434 0.45394 0.45833 0.44815 C 0.56233 0.44236 0.58924 0.06621 0.62361 -0.03426 E">
                                      <p:cBhvr>
                                        <p:cTn id="38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33333E-006 C -0.14079 -0.18982 -0.27968 -0.37616 -0.25277 -0.45371 C -0.22586 -0.53125 0.07535 -0.4632 0.16164 -0.46574 E">
                                      <p:cBhvr>
                                        <p:cTn id="38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8"/>
          <p:cNvSpPr/>
          <p:nvPr/>
        </p:nvSpPr>
        <p:spPr>
          <a:xfrm>
            <a:off x="609480" y="3049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Пословица не даром молвится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57200" y="1600200"/>
            <a:ext cx="1828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Худ обед,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7200" y="27723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аковы еда  да питье, 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380880" y="37328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сякому нужен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464760" y="495180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огда я ем,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6078240" y="16308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и обед и уж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6436440" y="2742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я глух и н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6230520" y="376452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оли хлеба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6090120" y="510444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таково и жит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00463 C -0.12968 -0.00209 -0.24809 0.000690000000000003 -0.26388 0.04351 C -0.27968 0.08634 -0.09913 0.21111 -0.10555 0.25277 C -0.11197 0.29444 -0.26875 0.28541 -0.30225 0.29351 C -0.33576 0.30162 -0.30781 0.2993 -0.30642 0.30092 C -0.30503 0.30254 -0.29652 0.30231 -0.29392 0.30277 E">
                                      <p:cBhvr>
                                        <p:cTn id="39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9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5185E-006 C -0.23715 -0.14166 -0.47431 -0.2831 -0.54583 -0.26481 C -0.61736 -0.24653 -0.51337 0.03241 -0.42917 0.10926 C -0.34496 0.18611 -0.05816 0.16088 -0.04028 0.1963 C -0.0224 0.23171 -0.2691 0.3007 -0.32222 0.32222 C -0.37535 0.34375 -0.35156 0.32454 -0.3592 0.325 E">
                                      <p:cBhvr>
                                        <p:cTn id="40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0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C -0.06615 0.15879 -0.13264 0.31782 -0.26372 0.3074 C -0.39497 0.29699 -0.76163 0.04051 -0.78733 -0.06297 C -0.81302 -0.16644 -0.49462 -0.26158 -0.41771 -0.31389 E">
                                      <p:cBhvr>
                                        <p:cTn id="405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6 C 0.00035 -0.29629 0.000689999999999996 -0.59236 -0.125 -0.69259 C -0.25069 -0.79282 -0.73594 -0.66111 -0.75417 -0.60185 C -0.7724 -0.54259 -0.50365 -0.43981 -0.23472 -0.33704 E">
                                      <p:cBhvr>
                                        <p:cTn id="41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IMG_4961.JPG"/>
          <p:cNvPicPr/>
          <p:nvPr/>
        </p:nvPicPr>
        <p:blipFill>
          <a:blip r:embed="rId1"/>
          <a:srcRect l="0" t="7995" r="0" b="16006"/>
          <a:stretch/>
        </p:blipFill>
        <p:spPr>
          <a:xfrm>
            <a:off x="4495680" y="609480"/>
            <a:ext cx="1905120" cy="1683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IMG_4967.JPG"/>
          <p:cNvPicPr/>
          <p:nvPr/>
        </p:nvPicPr>
        <p:blipFill>
          <a:blip r:embed="rId2"/>
          <a:srcRect l="0" t="38237" r="0" b="16177"/>
          <a:stretch/>
        </p:blipFill>
        <p:spPr>
          <a:xfrm>
            <a:off x="5029200" y="380988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IMG_4928.JPG"/>
          <p:cNvPicPr/>
          <p:nvPr/>
        </p:nvPicPr>
        <p:blipFill>
          <a:blip r:embed="rId3"/>
          <a:srcRect l="4231" t="31751" r="0" b="7942"/>
          <a:stretch/>
        </p:blipFill>
        <p:spPr>
          <a:xfrm>
            <a:off x="762120" y="3505320"/>
            <a:ext cx="3448080" cy="2895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IMG_4926.JPG"/>
          <p:cNvPicPr/>
          <p:nvPr/>
        </p:nvPicPr>
        <p:blipFill>
          <a:blip r:embed="rId4"/>
          <a:srcRect l="8194" t="3280" r="0" b="6559"/>
          <a:stretch/>
        </p:blipFill>
        <p:spPr>
          <a:xfrm>
            <a:off x="6705720" y="533520"/>
            <a:ext cx="1981080" cy="2593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IMG_4921.JPG"/>
          <p:cNvPicPr/>
          <p:nvPr/>
        </p:nvPicPr>
        <p:blipFill>
          <a:blip r:embed="rId5"/>
          <a:srcRect l="0" t="37686" r="0" b="11592"/>
          <a:stretch/>
        </p:blipFill>
        <p:spPr>
          <a:xfrm>
            <a:off x="228600" y="457200"/>
            <a:ext cx="3943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20-12-03T11:54:1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