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86123-092D-47AF-84DF-D0AA65C992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B9BBD-47A0-45FB-8064-4D838833F43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292DE-02C3-4F55-9C11-5E3F747763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71954-4EF2-405A-A0A9-E6D046A80D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58474-649D-46E9-BF9A-BD0B44DFFF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DD8-2989-4B4D-BAFA-FFD50F45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8B2-60B1-420D-990C-CDFA844D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D226-64B9-46CC-90C2-15510E2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2A37D-7E06-42EB-87F1-9A60DB4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EDB75-EC7F-4283-8CF4-C9092839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39FC8-314A-42D5-8643-B7B22100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E0484-845D-484F-8992-06E64309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9550E-98A4-4C8B-BD57-005E257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E52DD-817D-4C97-9840-5DBF990F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9C9F7-536D-4F2C-8F15-468D2919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4A396-8951-4A00-B50E-63D84A6F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1B7CE-6A0C-48A2-A260-3D4838F6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B5D-B6EA-45AE-AB89-4FEF374B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A96D9-8E51-4C9B-BF7D-95892C2E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2AD3E-374B-470E-82FD-81FE4013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27094-4FD2-4558-B485-1735E10D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D9352-D6AB-45D0-BFCA-41A4D9D6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0FE5E-CEC1-43F3-BD17-595C27E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AB954-4AFE-483B-9286-2A7B1F9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53B3-EEDA-48FB-A5AC-E19860FC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2D0F5-1A64-4DB5-8FAF-EF45AC8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034B8-9DF3-41A9-BA3F-DC62C31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F95D1-BD03-474C-87B5-C07E326B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CBC-A1A4-4B52-9594-3BFE4F6A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38BE-B02A-4F01-AACD-D4915BD3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514EE-B2C9-421A-AEBF-F72A4448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99FF-B448-43F4-A8F0-E8BEC03F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7006D-910F-4BDD-A922-FDEFDD2F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5C298-73AA-4FDB-B80D-CE63AE3D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B8D03-85A3-4B77-A220-D8398209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C5F0-8A4C-4FB5-9F6A-A0EAD12B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42A8F-1624-463C-B45B-7AD90AC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F48D6-7679-435D-B38C-405ADB91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FEC90-6949-4C69-B5C2-F6C6317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BA26-3854-47A7-AD0D-A19C2737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B58F2-BD71-4D52-8033-91E0E37C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8EA1B-98C6-4F53-A3A5-54DA9F10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1E768-FA46-4F0F-8F75-F50664AE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302C3-E259-4DA1-AA1D-FC07E72B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3ABA-272B-4552-8141-DEE9BBB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3187C-A109-48DA-86E1-A736708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045AE-7B42-4F63-9CAE-0AB2D8A1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79BF0-64DE-4E14-BDD4-9AA61D5C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A8BB1-42AE-4739-A13D-352EA666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71189-70D5-469F-AC5F-67CF2EC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B717-D15D-4D70-ABF9-57DC0519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C0FDE-0100-488F-80C8-52AAF5C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7C6E3-D6A6-41AE-99D2-9EA907E1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1AB1B-39AA-4166-A6D3-2D362D0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BA8F3-FD0D-4E54-8CE3-9A1554B7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7FF56-1926-47DA-8FD3-3D860382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64998-A9C2-4F72-A4C3-7F08BCD2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08DF9-DB6B-4D76-8DCB-499C1F5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6F52F-4A4B-43CB-A508-8CE04D33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E03BE-F75E-4AC9-B62B-8FF03EB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E400F-8BB4-4A41-9921-6B71280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975D-710A-4D7B-B2AA-151F4EB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F3F3E-C513-4597-A2DB-2A4C1CB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43DCB-2B12-405A-8820-CECB46F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FA4F8-333F-4925-8263-6C3DA417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4C1FD-F428-4502-8728-8D264D1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BF24D-6FEA-4DC7-8EF8-2B21779A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45894-ECC6-41A9-B950-C92BB2B5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15897-5BC4-4D8E-B2B5-7605EA98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2148B-6F4A-4102-8D61-BDC9112E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2A8E2-F91F-4B3C-BAF5-5E8DDEF6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2F7D6-CCE2-4C90-BA04-0A865EC7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E34-BDD5-444A-82CF-AF359E19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E0249-C786-4642-BF14-0F263311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AA176-0766-408D-AF3C-AB500474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570DA-2945-4355-BB5D-55A0756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610FE-C350-4AD1-B82C-2CEA7FDB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9DFF3-3D0C-43BA-9B88-13B75CE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96B35-9254-47C1-8EBA-C399FA9A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EBA85-D146-4E32-89FD-CC3E42F0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B3F09-64B1-423C-9157-1298BB17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7A696-2810-4B19-BEDA-A1B0504D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6A315-F86F-453B-ACDA-EB7DB329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8241-C9D0-4944-AA98-4162473C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1BAB6-7C67-4688-A77C-724583AE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F996A-C0DB-4B43-8666-6A474AC2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994AF-AE68-4737-88F9-E35128FE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E81E6-38E8-4BDE-AFB3-D92EC49F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EB0C6-8AAA-49B5-9EBD-4AA08ECF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BD06B-7B1E-48D4-81D6-5FB3413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F02D3-828E-454B-8948-DC66F2B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97468-8B34-423C-8C81-5DD4C52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F03F8-C408-46C2-91E7-6E3AD546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FF6CD-5692-434E-9250-81DE716A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F7D1-92E4-43EE-8807-9DB77EA3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4D9B7-68AB-4DD7-AAA5-E486E581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F2FA2-8DDB-4E73-A86B-06263B01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FF231-4E40-4B7A-BDD1-0CDB896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F1110-7906-4C26-AAB6-6602364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FAE23-0407-46BF-815C-B44CCE22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A98B5-842A-4DBE-BA06-6F75211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EA062-A16E-4324-8F52-984C4D8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894EE-7B06-401B-A0CD-49CFD763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2877F-0343-415E-9C1B-975ED2B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D21D7-F95D-4883-BD42-C6F30FB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F68D-9DB1-480C-AE76-7C16D00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5C925-8242-480E-9007-833CCF4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C244E-A0D0-44D6-A3FA-821DC764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C7006-8FD9-42E6-AF97-5688F92F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431CF-A283-45B6-A707-49C8A5FE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94C91-371F-4FF1-BC2D-3AC36F33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9FE59-7E36-43C6-B547-BDFE266A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C1876-55F0-44B6-BE5F-2184307D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88F6A-8086-4EBE-B70A-A8AD3D9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FF675-6BF9-4DA1-A678-244BB4F3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48F7E-0E45-45D2-9C12-1F3C1DA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7F2-E90E-4031-8FE9-A5B03B7F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242C-91C2-44E0-AB20-1F1C472C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EC17F-5B6B-404B-89C0-7F0AC70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CA075-A1F3-41F7-A622-D77A403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B922A-7979-480A-A16B-AF8A1BB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EB4B7-C73A-4418-B165-3DE083F8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75129-7637-4744-9107-19AE40FE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DBEC5-6276-4320-96F0-848F9FD3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98A65-6ADC-4E58-A13B-DA1F85CA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FEF65-617C-40D4-A590-F2F894D9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F138E-D289-4C39-B55D-FF9EEBEC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1FB02-CEE2-44D1-88C4-3345039E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284B-21AB-4269-88DA-4CEE02E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DB158-2EEC-4637-860C-704163C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DFC303-6C4B-4206-A2CE-919E0388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331F4-5CD2-40B0-A25F-6C1A5CA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0A689C-1BB4-4356-9A0C-B6069EA1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35376-07BE-41E4-AB6A-682024EA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BC536-85C6-443F-B659-E96FFFD1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81ED1-509E-45B9-9704-87BA7515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F68F-AD5B-42CB-8084-64AE23BE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5AFC-F67E-4FF5-8722-1B43E21B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AA5-7487-40DD-BB8B-892421BC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225B-D74B-41D1-9AAE-001343C4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01C5-045F-4910-9895-034A3A7C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B7E1-4A80-42F7-A1BA-BA26E962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E086-A919-43D9-90BF-DCA32170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62D5-E2A6-469D-9DA8-7E664FA2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8B1-BD5B-4596-A72A-B52F2D8D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DE1B-6289-4273-A500-3ADC8FE8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8A1E-F35C-4D4F-9A39-1759BE4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73E0-F8AE-4859-98ED-F938AC4B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3563-639D-47CF-8427-F29F72B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CA30-78E2-4FFA-B58F-6C26ACD5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AC36-5BD0-46E7-9A58-EC24DEB3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8BC1-5101-433C-B997-4F83FEC1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0467-83A4-4266-B1BC-BB72DB40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94FC-E61C-442C-944F-87434396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D640-5FB1-4783-B803-DACC785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458-73A8-4A60-8518-7FA981A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ACAB-CED5-41A1-BA94-D768915F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F8E2-91D6-481A-B4B9-FDBF5A2F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054CC-E71D-469C-AF72-74040F9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0B61-4742-4A16-A7B7-A4381EF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F023A-233B-4219-9814-945C447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7822-3E9E-4B52-922D-99174E0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350E-78B9-40C1-B751-44255F7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2DCF-667C-4605-A43A-3F2D3A5C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8114B-7FA0-458A-87A7-BA0307B5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B1CE-5F65-41BC-93E3-8D34288A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AF3-7B5E-4F15-9630-94535492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45FF-6582-4B3C-9393-6A43BA67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7BB8-DB21-4D9B-ACEB-A00082C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DE1E-07B5-44E0-A87D-D7DEED19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412A-51AE-457D-88D7-C4D72493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B66A-A6DD-4CF8-A1B7-7F2F9CFB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C3E99-5141-4554-AAB9-D7EFAC6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0B54-7DA6-4986-8D77-EACC57BC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52C3-6BC7-4C37-A7B5-9BB651A5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5C03-4663-4260-9D83-60B9CA2E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9FE4-18B3-409E-AD0D-1F6D85FA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40B-AA54-43EE-8A7D-F452FF28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8CBD-BF8C-4AB7-A6BB-FF2034E4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5A3D-A3CB-4032-A3C8-1C58349B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EDA2D-A0EF-4B10-B6D3-F105C01B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E66BA-4A25-4C9F-9082-0DF5F87C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E746-4EA1-4F6A-900C-7188C8C5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19BA-86FD-4D2B-8110-7672706C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D92B8-C128-44AB-BCC7-2F2FA153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B6F9F-7BB6-49C9-819F-7534DE6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186E5-794C-46AB-91A7-0AB9013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BFBB-1977-4614-B7F2-D04C4D6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8F5-1E12-4BFF-9A9A-A062488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5997-F47B-4463-A4AC-0212828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F9905-B56F-4C0A-B75D-88CD876B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D79C-5459-4C45-B51C-79B40C72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3B111-8A04-489F-834D-94EC3ED2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86F6-F40E-4AB9-98DC-0376F2AD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3EC0E-A549-4E3B-92BA-ACE8D368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C385-91A6-4293-9833-CB2CE8EE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9DCC-B7DB-4FC3-9E84-72482A1A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BBA60-0DC8-4EBD-B95F-5DE7F85E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B4F71-F15F-4448-82A4-97159DBE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84A-FDB6-4EDB-BF72-E83CF0A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6B5D0-AAEF-425F-89E0-08F3651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7DCE5-7448-4056-82F8-E729A201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A4A19-F1B9-43B3-B79C-7332EE31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4FD44-B0B1-46C8-B8EE-A4BD0BFE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4EBF-33E7-4DA8-8448-B2296B59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30ED3-8D4F-46D5-A232-0682AA64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EA65C-1E0F-4A94-9CFC-B96DBF3D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8F91-D019-4CEE-843F-85AB331E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78AAB-439F-48B4-A2B1-85268FB5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848B6-CA96-4A5B-9D7B-55B559FB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67D-2932-4FC4-B1AF-952D5ED4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FC86E-45CF-4D43-AC5D-971A18A8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19652-02CC-40C9-8FDA-BB59A92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44EEB-1FB7-4D88-BD36-9BDF5D9C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55F49-AA47-4291-A243-D5410C82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49D82-3381-4EF8-93AC-9618CCAD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AB32-0F0B-4C06-9523-5136235B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3D46B-4014-4D54-8B1E-3F953385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0990A-4AA5-4C8D-9238-02E60F42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80ED3-3CFE-4D66-9D25-8471E948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6DA6F-8A16-4A48-831A-C0EDC0BE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E87D0-7C5C-4C69-9E89-3EC0A9C341F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012F8-446A-4328-B4D6-9C4E3A1CFAB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D4CE7-0A28-4894-A00A-D3BFAC2F6AD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1B5BA-6FC4-4975-93C1-26A1186AC1C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584280" y="7477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TextBox 12"/>
          <p:cNvSpPr/>
          <p:nvPr/>
        </p:nvSpPr>
        <p:spPr>
          <a:xfrm>
            <a:off x="9663120" y="30337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66F35-38A2-45DA-96C4-F15704FC745F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0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79B2A-5F92-4676-90D5-FA47BB0F45B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5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2ECC3-BD89-4071-84B4-56670D9B218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43A7C-BE62-4EC7-B776-F744BC421F9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E7A2F-648A-48FB-89A6-AA91891733CD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 rot="5400000">
            <a:off x="8115480" y="1869120"/>
            <a:ext cx="510696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Rectangle 7"/>
          <p:cNvSpPr/>
          <p:nvPr/>
        </p:nvSpPr>
        <p:spPr>
          <a:xfrm rot="5400000">
            <a:off x="9867240" y="5371920"/>
            <a:ext cx="1603440" cy="1368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680724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680760" y="5935680"/>
            <a:ext cx="612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10098000" y="539892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DC9FA-5999-4D21-B29F-C07807530FC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896796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9112320" y="4243320"/>
            <a:ext cx="307656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896796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12320" y="2590920"/>
            <a:ext cx="3076560" cy="16588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255240" y="2749680"/>
            <a:ext cx="1171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A5F61-F98D-4AFC-B669-C86914D5EEF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84865-1066-4B5A-8D52-0FAA90D21B49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D-ShadowLong.png"/>
          <p:cNvPicPr/>
          <p:nvPr/>
        </p:nvPicPr>
        <p:blipFill>
          <a:blip r:embed="rId3"/>
          <a:stretch/>
        </p:blipFill>
        <p:spPr>
          <a:xfrm>
            <a:off x="0" y="4086360"/>
            <a:ext cx="10437840" cy="32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408780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72556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0585440" y="272556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729800" y="286992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3F4B-3329-4519-91D5-3BC2E2B5ACC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00A6F-8232-4C33-9A08-98926DBECAD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0CCA2-DCC7-4625-9EC5-EE03C560C38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B95E0-0F58-4D6B-AE49-E10F8B331B29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D-ShadowShort.png"/>
          <p:cNvPicPr/>
          <p:nvPr/>
        </p:nvPicPr>
        <p:blipFill>
          <a:blip r:embed="rId3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05184-3E6C-4735-AC48-3EA40E6D60FF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a2bf"/>
            </a:gs>
            <a:gs pos="100000">
              <a:srgbClr val="345b0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17DC1-570E-4F63-BD6E-C7DF0229379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-360" y="2800440"/>
            <a:ext cx="895356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rebuchet MS"/>
              </a:rPr>
              <a:t>ОСОБЕННОСТИ ПОДГОТОВКИ К ЗАНЯТИЯМ</a:t>
            </a:r>
            <a:br>
              <a:rPr sz="3300"/>
            </a:br>
            <a:r>
              <a:rPr b="0" lang="ru-RU" sz="3300" spc="-1" strike="noStrike">
                <a:solidFill>
                  <a:srgbClr val="ffffff"/>
                </a:solidFill>
                <a:latin typeface="Trebuchet MS"/>
              </a:rPr>
              <a:t>С ПРИМЕНЕНИЕМ ДИСТАНЦИОННЫХ ТЕХНОЛОГИЙ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9760" y="221760"/>
            <a:ext cx="11044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МУНИЦИПАЛЬНОЕ БЮДЖЕТНОЕ УЧРЕЖДЕНИЕ ДОПОЛНИТЕЛЬНОГО ОБРАЗОВАНИ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«ЦЕНТР ДОПОЛНИТЕЛЬНОГО ОБРАЗОВАНИЯ ДЕТЕЙ»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Подзаголовок 2"/>
          <p:cNvSpPr/>
          <p:nvPr/>
        </p:nvSpPr>
        <p:spPr>
          <a:xfrm>
            <a:off x="404640" y="6238800"/>
            <a:ext cx="11044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ТАМБОВ 2020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Прямоугольник 4"/>
          <p:cNvSpPr/>
          <p:nvPr/>
        </p:nvSpPr>
        <p:spPr>
          <a:xfrm>
            <a:off x="9070920" y="3164040"/>
            <a:ext cx="32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Степанова Алиса Юрьевна, методис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7280"/>
            <a:ext cx="105156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ahnschrift Condensed"/>
              </a:rPr>
              <a:t>МЕТОДЫ ОБУЧЕ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4" name="Объект 5" descr=""/>
          <p:cNvPicPr/>
          <p:nvPr/>
        </p:nvPicPr>
        <p:blipFill>
          <a:blip r:embed="rId1"/>
          <a:stretch/>
        </p:blipFill>
        <p:spPr>
          <a:xfrm>
            <a:off x="781200" y="615960"/>
            <a:ext cx="11252160" cy="6138720"/>
          </a:xfrm>
          <a:prstGeom prst="rect">
            <a:avLst/>
          </a:prstGeom>
          <a:ln w="0">
            <a:noFill/>
          </a:ln>
        </p:spPr>
      </p:pic>
      <p:grpSp>
        <p:nvGrpSpPr>
          <p:cNvPr id="835" name="Полилиния: фигура 7"/>
          <p:cNvGrpSpPr/>
          <p:nvPr/>
        </p:nvGrpSpPr>
        <p:grpSpPr>
          <a:xfrm>
            <a:off x="4816440" y="384120"/>
            <a:ext cx="7242120" cy="4578480"/>
            <a:chOff x="4816440" y="384120"/>
            <a:chExt cx="7242120" cy="4578480"/>
          </a:xfrm>
        </p:grpSpPr>
        <p:pic>
          <p:nvPicPr>
            <p:cNvPr id="836" name="Полилиния: фигура 7" descr=""/>
            <p:cNvPicPr/>
            <p:nvPr/>
          </p:nvPicPr>
          <p:blipFill>
            <a:blip r:embed="rId2"/>
            <a:stretch/>
          </p:blipFill>
          <p:spPr>
            <a:xfrm>
              <a:off x="4816440" y="384120"/>
              <a:ext cx="724212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4991040" y="560520"/>
              <a:ext cx="6881760" cy="42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838" name="Группа 8"/>
          <p:cNvGrpSpPr/>
          <p:nvPr/>
        </p:nvGrpSpPr>
        <p:grpSpPr>
          <a:xfrm>
            <a:off x="5460840" y="1033560"/>
            <a:ext cx="3251520" cy="3044880"/>
            <a:chOff x="5460840" y="1033560"/>
            <a:chExt cx="3251520" cy="3044880"/>
          </a:xfrm>
        </p:grpSpPr>
        <p:sp>
          <p:nvSpPr>
            <p:cNvPr id="839" name="Прямоугольник: скругленные углы 9"/>
            <p:cNvSpPr/>
            <p:nvPr/>
          </p:nvSpPr>
          <p:spPr>
            <a:xfrm>
              <a:off x="5551200" y="1033560"/>
              <a:ext cx="3070800" cy="304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40" name="Прямоугольник: скругленные углы 4"/>
            <p:cNvSpPr/>
            <p:nvPr/>
          </p:nvSpPr>
          <p:spPr>
            <a:xfrm>
              <a:off x="5460840" y="1182600"/>
              <a:ext cx="3251520" cy="2746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rebuchet MS"/>
                </a:rPr>
                <a:t>Объяснительно-иллюстративные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1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143280" y="0"/>
            <a:ext cx="124779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ahnschrift Condensed"/>
              </a:rPr>
              <a:t>МЕТОДЫ, ПРИМЕНИМЫЕ В РАМКАХ ОБУЧЕНИЯ В ДИСТАНЦИОННОМ ФОРМАТ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2" name="Объект 3" descr=""/>
          <p:cNvPicPr/>
          <p:nvPr/>
        </p:nvPicPr>
        <p:blipFill>
          <a:blip r:embed="rId1"/>
          <a:stretch/>
        </p:blipFill>
        <p:spPr>
          <a:xfrm>
            <a:off x="682560" y="1279440"/>
            <a:ext cx="9613800" cy="4840200"/>
          </a:xfrm>
          <a:prstGeom prst="rect">
            <a:avLst/>
          </a:prstGeom>
          <a:ln w="0">
            <a:noFill/>
          </a:ln>
        </p:spPr>
      </p:pic>
      <p:pic>
        <p:nvPicPr>
          <p:cNvPr id="843" name="Схема 4" descr=""/>
          <p:cNvPicPr/>
          <p:nvPr/>
        </p:nvPicPr>
        <p:blipFill>
          <a:blip r:embed="rId2"/>
          <a:stretch/>
        </p:blipFill>
        <p:spPr>
          <a:xfrm>
            <a:off x="554040" y="689040"/>
            <a:ext cx="11022120" cy="590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75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43280" y="0"/>
            <a:ext cx="124779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ahnschrift Condensed"/>
              </a:rPr>
              <a:t>МЕТОДЫ, ПРИМЕНИМЫЕ В РАМКАХ ОБУЧЕНИЯ В ДИСТАНЦИОННОМ ФОРМАТ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Объект 3" descr=""/>
          <p:cNvPicPr/>
          <p:nvPr/>
        </p:nvPicPr>
        <p:blipFill>
          <a:blip r:embed="rId1"/>
          <a:stretch/>
        </p:blipFill>
        <p:spPr>
          <a:xfrm>
            <a:off x="682560" y="1279440"/>
            <a:ext cx="9613800" cy="4840200"/>
          </a:xfrm>
          <a:prstGeom prst="rect">
            <a:avLst/>
          </a:prstGeom>
          <a:ln w="0">
            <a:noFill/>
          </a:ln>
        </p:spPr>
      </p:pic>
      <p:pic>
        <p:nvPicPr>
          <p:cNvPr id="846" name="Схема 4" descr=""/>
          <p:cNvPicPr/>
          <p:nvPr/>
        </p:nvPicPr>
        <p:blipFill>
          <a:blip r:embed="rId2"/>
          <a:stretch/>
        </p:blipFill>
        <p:spPr>
          <a:xfrm>
            <a:off x="549360" y="792000"/>
            <a:ext cx="10959840" cy="5870880"/>
          </a:xfrm>
          <a:prstGeom prst="rect">
            <a:avLst/>
          </a:prstGeom>
          <a:ln w="0">
            <a:noFill/>
          </a:ln>
        </p:spPr>
      </p:pic>
      <p:grpSp>
        <p:nvGrpSpPr>
          <p:cNvPr id="847" name="Группа 9"/>
          <p:cNvGrpSpPr/>
          <p:nvPr/>
        </p:nvGrpSpPr>
        <p:grpSpPr>
          <a:xfrm>
            <a:off x="3700440" y="971640"/>
            <a:ext cx="7810560" cy="1523880"/>
            <a:chOff x="3700440" y="971640"/>
            <a:chExt cx="7810560" cy="1523880"/>
          </a:xfrm>
        </p:grpSpPr>
        <p:sp>
          <p:nvSpPr>
            <p:cNvPr id="848" name="Прямоугольник 7"/>
            <p:cNvSpPr/>
            <p:nvPr/>
          </p:nvSpPr>
          <p:spPr>
            <a:xfrm>
              <a:off x="3700440" y="971640"/>
              <a:ext cx="7810560" cy="1523880"/>
            </a:xfrm>
            <a:prstGeom prst="rect">
              <a:avLst/>
            </a:prstGeom>
            <a:solidFill>
              <a:srgbClr val="3e8853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49" name="TextBox 8"/>
            <p:cNvSpPr/>
            <p:nvPr/>
          </p:nvSpPr>
          <p:spPr>
            <a:xfrm>
              <a:off x="3860640" y="1008360"/>
              <a:ext cx="7490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rebuchet MS"/>
                </a:rPr>
                <a:t>готовые тематические видеоролики с YouTube, мастер-классы с педагогических порталов;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rebuchet MS"/>
                </a:rPr>
                <a:t>занятия в режиме онлайн через Zoom, Skype или другие программы;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rebuchet MS"/>
                </a:rPr>
                <a:t>авторские обучающие видео, презентации, мастер-классы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850" name="Группа 12"/>
          <p:cNvGrpSpPr/>
          <p:nvPr/>
        </p:nvGrpSpPr>
        <p:grpSpPr>
          <a:xfrm>
            <a:off x="3700440" y="2868480"/>
            <a:ext cx="7877160" cy="1509840"/>
            <a:chOff x="3700440" y="2868480"/>
            <a:chExt cx="7877160" cy="1509840"/>
          </a:xfrm>
        </p:grpSpPr>
        <p:sp>
          <p:nvSpPr>
            <p:cNvPr id="851" name="Прямоугольник 10"/>
            <p:cNvSpPr/>
            <p:nvPr/>
          </p:nvSpPr>
          <p:spPr>
            <a:xfrm>
              <a:off x="3700440" y="2868480"/>
              <a:ext cx="7877160" cy="15098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52" name="TextBox 11"/>
            <p:cNvSpPr/>
            <p:nvPr/>
          </p:nvSpPr>
          <p:spPr>
            <a:xfrm>
              <a:off x="3860640" y="3057120"/>
              <a:ext cx="749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rebuchet MS"/>
                </a:rPr>
                <a:t>Обучающие онлайн- викторины, игры, квесты по теме Вашего занятия.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rebuchet MS"/>
                </a:rPr>
                <a:t>Подойдут для изучения нового материала, закрепления полученных знаний и итогового контроля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853" name="Прямоугольник 13"/>
          <p:cNvSpPr/>
          <p:nvPr/>
        </p:nvSpPr>
        <p:spPr>
          <a:xfrm>
            <a:off x="3700440" y="4846680"/>
            <a:ext cx="7877160" cy="1549440"/>
          </a:xfrm>
          <a:prstGeom prst="rect">
            <a:avLst/>
          </a:prstGeom>
          <a:solidFill>
            <a:srgbClr val="1cade4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Практические упражнения, творческие задания, индивидуальные или групповые проекты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75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ahnschrift Condensed"/>
              </a:rPr>
              <a:t>ФОРМЫ РАБОТЫ С УЧАЩИМИСЯ В ДИСТАНЦИОННОМ ФОРМАТ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5" name="Схема 10" descr=""/>
          <p:cNvPicPr/>
          <p:nvPr/>
        </p:nvPicPr>
        <p:blipFill>
          <a:blip r:embed="rId1"/>
          <a:stretch/>
        </p:blipFill>
        <p:spPr>
          <a:xfrm>
            <a:off x="1103400" y="493560"/>
            <a:ext cx="9978840" cy="6364440"/>
          </a:xfrm>
          <a:prstGeom prst="rect">
            <a:avLst/>
          </a:prstGeom>
          <a:ln w="0">
            <a:noFill/>
          </a:ln>
        </p:spPr>
      </p:pic>
      <p:sp>
        <p:nvSpPr>
          <p:cNvPr id="856" name="Прямоугольник 3"/>
          <p:cNvSpPr/>
          <p:nvPr/>
        </p:nvSpPr>
        <p:spPr>
          <a:xfrm>
            <a:off x="1938240" y="5772240"/>
            <a:ext cx="7877160" cy="799920"/>
          </a:xfrm>
          <a:prstGeom prst="rect">
            <a:avLst/>
          </a:prstGeom>
          <a:solidFill>
            <a:srgbClr val="1cade4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ИНДИВИДУАЛЬНЫЕ И ГРУППОВЫ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5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04560" y="76320"/>
            <a:ext cx="96138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Bahnschrift Condensed"/>
              </a:rPr>
              <a:t>ВЫДЕРЖКА ИЗ КТП РАБОЧЕЙ ПРОГРАММЫ «ВОЛШЕБНЫЙ БИСЕР»</a:t>
            </a:r>
            <a:endParaRPr b="0" lang="en-US" sz="23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46040" y="819000"/>
          <a:ext cx="11307960" cy="5642280"/>
        </p:xfrm>
        <a:graphic>
          <a:graphicData uri="http://schemas.openxmlformats.org/drawingml/2006/table">
            <a:tbl>
              <a:tblPr/>
              <a:tblGrid>
                <a:gridCol w="3983040"/>
                <a:gridCol w="7324920"/>
              </a:tblGrid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ЕМА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ba9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ba9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хнология плетения объёмных цв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7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нференция 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o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с демонстрацией иллюстр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атная связь (то есть домашнее задание) представлен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картинках, фотоотчёт с выполненным зад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7dd"/>
                    </a:solidFill>
                  </a:tcPr>
                </a:tc>
              </a:tr>
              <a:tr h="10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ы в технике параллельного низания: плетение лепест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3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то мастер-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атная связь – фотоотчёт с выполненным издел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3ef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ы в технике параллельного низания: плетение листоч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7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то мастер-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атная связь – фотоотчёт с выполненным издел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7dd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формление композиции для мам «Голубая пролес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3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навательный ролик о цветке Голубая пролеска, схема сбора лепестков и листочков в готовый цве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атная связь – педагог монтирует видеоролик из фотографий готовых работ и публикует его перед началом следующего 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3e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66400" y="133200"/>
            <a:ext cx="96138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Bahnschrift Condensed"/>
              </a:rPr>
              <a:t>ТЕХНОЛОГИЧЕСКАЯ КАРТА ЗАНЯТИЯ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0" name="Объект 3" descr=""/>
          <p:cNvPicPr/>
          <p:nvPr/>
        </p:nvPicPr>
        <p:blipFill>
          <a:blip r:embed="rId1"/>
          <a:stretch/>
        </p:blipFill>
        <p:spPr>
          <a:xfrm>
            <a:off x="182520" y="596880"/>
            <a:ext cx="11876040" cy="596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ahnschrift Condensed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2" name="Объект 4" descr=""/>
          <p:cNvPicPr/>
          <p:nvPr/>
        </p:nvPicPr>
        <p:blipFill>
          <a:blip r:embed="rId1"/>
          <a:stretch/>
        </p:blipFill>
        <p:spPr>
          <a:xfrm>
            <a:off x="4024440" y="2690640"/>
            <a:ext cx="3894120" cy="3598920"/>
          </a:xfrm>
          <a:prstGeom prst="rect">
            <a:avLst/>
          </a:prstGeom>
          <a:ln w="0">
            <a:noFill/>
          </a:ln>
        </p:spPr>
      </p:pic>
      <p:sp>
        <p:nvSpPr>
          <p:cNvPr id="863" name="Подзаголовок 2"/>
          <p:cNvSpPr/>
          <p:nvPr/>
        </p:nvSpPr>
        <p:spPr>
          <a:xfrm>
            <a:off x="447840" y="2193840"/>
            <a:ext cx="11045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БУДЬТЕ НА СВЯЗИ!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1T08:13:34Z</dcterms:created>
  <dc:creator>Мой компьютер</dc:creator>
  <dc:description/>
  <dc:language>en-US</dc:language>
  <cp:lastModifiedBy>Мой компьютер</cp:lastModifiedBy>
  <dcterms:modified xsi:type="dcterms:W3CDTF">2020-12-02T12:07:16Z</dcterms:modified>
  <cp:revision>59</cp:revision>
  <dc:subject/>
  <dc:title>МЕТОДЫ РАБОТЫ</dc:title>
</cp:coreProperties>
</file>