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2.wmf" ContentType="image/x-wmf"/>
  <Override PartName="/ppt/media/image3.png" ContentType="image/png"/>
  <Override PartName="/ppt/media/~PP3785.WAV" ContentType="audio/x-wav"/>
  <Override PartName="/ppt/media/image7.wmf" ContentType="image/x-wmf"/>
  <Override PartName="/ppt/media/whoosh.wav" ContentType="audio/x-wav"/>
  <Override PartName="/ppt/media/image4.jpeg" ContentType="image/jpeg"/>
  <Override PartName="/ppt/media/carbrake.wav" ContentType="audio/x-wav"/>
  <Override PartName="/ppt/media/typ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784-0A10-4FCA-B434-43C91A48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E70-5B02-4E70-B866-B51CEAF5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93C-1B60-46F3-B82D-AD04E734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340-9FA6-46C9-BF7C-3ACBDE7D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5F56-3E3B-4DB0-BC00-7E289AB9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D54E-68D2-4ADB-8C1F-9256BBD9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107C-3FF0-4F40-AF1D-1FFD330F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7BD7-0004-4860-8F4B-DC3293F2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691D-2163-49E2-BD74-1B26A7D7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DE72-B582-457E-8539-B1C3F50B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112C-7711-422D-933E-2C947D0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8E4-1931-47FE-9286-C239AE63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5C88-B4B8-4624-9943-5EDBBD9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C771-882D-458F-A893-59ED4F68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CA5C-D47D-4733-B717-61867DC1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CFA4-301A-4C46-9B2F-DD89EDB6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3EDD-32DB-4335-90FE-282CC502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76AD-46D8-4BDA-914A-A8A523DC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BB50-3B52-4EC5-938A-32A7278A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485B-585A-485F-8A8B-0EAF39FF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0488-38F2-4052-ADF3-AA2B9271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DD98-9CD0-4424-A99E-1BF02616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A1D-D909-41C9-BE08-AB147FA1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F440-8A6F-4689-BC96-83C9DA3E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8F012-5FDE-460B-98AD-CC353F6E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4107-BC20-4748-86E4-6D41DF90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7BF36-9002-4D67-9508-67E7978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54F5-4864-4409-BDF0-8A981550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D940-BEB0-43FD-8830-A4DF77D0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8F0A-C8C5-479A-B2E5-6D339023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BA9-2AF1-40C2-B281-FA8FC74C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760-C88E-4D7C-AF39-E3F8CC27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8F7-1D68-4750-B6C3-0DCA1CCD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ADA-FCDE-4890-ACCB-1CD9EA93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BB5-1B72-4E07-90AA-8E0B32B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680-0C5E-41A4-9AE5-0CE7D67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E343-BB8A-4C5F-81A4-032CC401CA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48C6-EBE0-4214-A3D4-C9383E700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6FA2-87E6-453A-AE87-5EBE164CAC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~PP3785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~PP3785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audio" Target="../media/~PP3785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1642680"/>
            <a:ext cx="40003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мочь ребенку подготовиться  к будущим экзаменам?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ОДИТЕЛЬСКОЕ СОБРАНИ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6" descr="Экзамен"/>
          <p:cNvPicPr/>
          <p:nvPr/>
        </p:nvPicPr>
        <p:blipFill>
          <a:blip r:embed="rId1"/>
          <a:stretch/>
        </p:blipFill>
        <p:spPr>
          <a:xfrm>
            <a:off x="4714920" y="1571760"/>
            <a:ext cx="353052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 flipV="1" rot="10800000">
            <a:off x="4214520" y="53010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ченко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МБОУ БГО ООШ №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4357800" y="47862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llegro BT"/>
              </a:rPr>
              <a:t>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ь  спать  на  1 час  раньше,  в  хорошо  проветренной  комна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у, которую планирует  ребенок  одеть  на  экзамен, примерьте  накануне  еще  и убедитесь  в  том, что  ребенку  в  ней  удобно  и  комфорт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75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853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нь сдачи экзамена н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удьт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время разбудить;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готовить одежду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ожить необходимы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инадлежности                                           (тетрадь, ручку, документы)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желать удач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7" descr="j0287289"/>
          <p:cNvPicPr/>
          <p:nvPr/>
        </p:nvPicPr>
        <p:blipFill>
          <a:blip r:embed="rId2"/>
          <a:stretch/>
        </p:blipFill>
        <p:spPr>
          <a:xfrm>
            <a:off x="6572160" y="1428840"/>
            <a:ext cx="83988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25"/>
          <p:cNvGrpSpPr/>
          <p:nvPr/>
        </p:nvGrpSpPr>
        <p:grpSpPr>
          <a:xfrm>
            <a:off x="6215040" y="4357800"/>
            <a:ext cx="1778040" cy="1778040"/>
            <a:chOff x="6215040" y="4357800"/>
            <a:chExt cx="1778040" cy="1778040"/>
          </a:xfrm>
        </p:grpSpPr>
        <p:sp>
          <p:nvSpPr>
            <p:cNvPr id="161" name="AutoShape 1024"/>
            <p:cNvSpPr/>
            <p:nvPr/>
          </p:nvSpPr>
          <p:spPr>
            <a:xfrm>
              <a:off x="6215040" y="4357800"/>
              <a:ext cx="177804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26"/>
            <p:cNvSpPr/>
            <p:nvPr/>
          </p:nvSpPr>
          <p:spPr>
            <a:xfrm>
              <a:off x="6215040" y="4359600"/>
              <a:ext cx="1778040" cy="1776240"/>
            </a:xfrm>
            <a:prstGeom prst="rect">
              <a:avLst/>
            </a:pr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27"/>
            <p:cNvSpPr/>
            <p:nvPr/>
          </p:nvSpPr>
          <p:spPr>
            <a:xfrm>
              <a:off x="6215040" y="5889960"/>
              <a:ext cx="1774800" cy="245880"/>
            </a:xfrm>
            <a:prstGeom prst="rect">
              <a:avLst/>
            </a:prstGeom>
            <a:solidFill>
              <a:srgbClr val="c6c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28"/>
            <p:cNvSpPr/>
            <p:nvPr/>
          </p:nvSpPr>
          <p:spPr>
            <a:xfrm>
              <a:off x="6215040" y="4361040"/>
              <a:ext cx="1395360" cy="89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29"/>
            <p:cNvSpPr/>
            <p:nvPr/>
          </p:nvSpPr>
          <p:spPr>
            <a:xfrm>
              <a:off x="6218280" y="4357800"/>
              <a:ext cx="1341360" cy="84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30"/>
            <p:cNvSpPr/>
            <p:nvPr/>
          </p:nvSpPr>
          <p:spPr>
            <a:xfrm>
              <a:off x="6215040" y="4359600"/>
              <a:ext cx="1328760" cy="825480"/>
            </a:xfrm>
            <a:prstGeom prst="rect">
              <a:avLst/>
            </a:prstGeom>
            <a:solidFill>
              <a:srgbClr val="f2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31"/>
            <p:cNvSpPr/>
            <p:nvPr/>
          </p:nvSpPr>
          <p:spPr>
            <a:xfrm>
              <a:off x="7105680" y="4429440"/>
              <a:ext cx="757440" cy="168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32"/>
            <p:cNvSpPr/>
            <p:nvPr/>
          </p:nvSpPr>
          <p:spPr>
            <a:xfrm>
              <a:off x="7782120" y="4876920"/>
              <a:ext cx="60120" cy="12240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33"/>
            <p:cNvSpPr/>
            <p:nvPr/>
          </p:nvSpPr>
          <p:spPr>
            <a:xfrm>
              <a:off x="7639200" y="4856400"/>
              <a:ext cx="163440" cy="25236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34"/>
            <p:cNvSpPr/>
            <p:nvPr/>
          </p:nvSpPr>
          <p:spPr>
            <a:xfrm>
              <a:off x="7678800" y="4937400"/>
              <a:ext cx="127080" cy="12852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35"/>
            <p:cNvSpPr/>
            <p:nvPr/>
          </p:nvSpPr>
          <p:spPr>
            <a:xfrm>
              <a:off x="7631280" y="4697640"/>
              <a:ext cx="57240" cy="9540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36"/>
            <p:cNvSpPr/>
            <p:nvPr/>
          </p:nvSpPr>
          <p:spPr>
            <a:xfrm>
              <a:off x="7523280" y="4788000"/>
              <a:ext cx="19080" cy="12384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37"/>
            <p:cNvSpPr/>
            <p:nvPr/>
          </p:nvSpPr>
          <p:spPr>
            <a:xfrm>
              <a:off x="7589880" y="4678560"/>
              <a:ext cx="44640" cy="9720"/>
            </a:xfrm>
            <a:prstGeom prst="pie">
              <a:avLst/>
            </a:prstGeom>
            <a:solidFill>
              <a:srgbClr val="b59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38"/>
            <p:cNvSpPr/>
            <p:nvPr/>
          </p:nvSpPr>
          <p:spPr>
            <a:xfrm>
              <a:off x="7620120" y="4691160"/>
              <a:ext cx="33480" cy="4140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39"/>
            <p:cNvSpPr/>
            <p:nvPr/>
          </p:nvSpPr>
          <p:spPr>
            <a:xfrm>
              <a:off x="7605720" y="4737240"/>
              <a:ext cx="19080" cy="6372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40"/>
            <p:cNvSpPr/>
            <p:nvPr/>
          </p:nvSpPr>
          <p:spPr>
            <a:xfrm>
              <a:off x="7575480" y="4712040"/>
              <a:ext cx="36720" cy="38160"/>
            </a:xfrm>
            <a:prstGeom prst="pie">
              <a:avLst/>
            </a:prstGeom>
            <a:solidFill>
              <a:srgbClr val="d3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41"/>
            <p:cNvSpPr/>
            <p:nvPr/>
          </p:nvSpPr>
          <p:spPr>
            <a:xfrm>
              <a:off x="7574040" y="4688280"/>
              <a:ext cx="4680" cy="1404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42"/>
            <p:cNvSpPr/>
            <p:nvPr/>
          </p:nvSpPr>
          <p:spPr>
            <a:xfrm>
              <a:off x="7559640" y="4741920"/>
              <a:ext cx="9720" cy="3816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43"/>
            <p:cNvSpPr/>
            <p:nvPr/>
          </p:nvSpPr>
          <p:spPr>
            <a:xfrm>
              <a:off x="7550280" y="4754880"/>
              <a:ext cx="49320" cy="172800"/>
            </a:xfrm>
            <a:prstGeom prst="pie">
              <a:avLst/>
            </a:prstGeom>
            <a:solidFill>
              <a:srgbClr val="d3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44"/>
            <p:cNvSpPr/>
            <p:nvPr/>
          </p:nvSpPr>
          <p:spPr>
            <a:xfrm>
              <a:off x="7535880" y="4705560"/>
              <a:ext cx="19080" cy="6336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45"/>
            <p:cNvSpPr/>
            <p:nvPr/>
          </p:nvSpPr>
          <p:spPr>
            <a:xfrm>
              <a:off x="7580520" y="4800960"/>
              <a:ext cx="60120" cy="9828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46"/>
            <p:cNvSpPr/>
            <p:nvPr/>
          </p:nvSpPr>
          <p:spPr>
            <a:xfrm>
              <a:off x="7643880" y="4672080"/>
              <a:ext cx="4680" cy="3240"/>
            </a:xfrm>
            <a:prstGeom prst="pie">
              <a:avLst/>
            </a:prstGeom>
            <a:solidFill>
              <a:srgbClr val="b59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47"/>
            <p:cNvSpPr/>
            <p:nvPr/>
          </p:nvSpPr>
          <p:spPr>
            <a:xfrm>
              <a:off x="7635960" y="4454640"/>
              <a:ext cx="58680" cy="88920"/>
            </a:xfrm>
            <a:prstGeom prst="pie">
              <a:avLst/>
            </a:prstGeom>
            <a:solidFill>
              <a:srgbClr val="3a3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8"/>
            <p:cNvSpPr/>
            <p:nvPr/>
          </p:nvSpPr>
          <p:spPr>
            <a:xfrm>
              <a:off x="7537680" y="4449960"/>
              <a:ext cx="90360" cy="93600"/>
            </a:xfrm>
            <a:prstGeom prst="pie">
              <a:avLst/>
            </a:prstGeom>
            <a:solidFill>
              <a:srgbClr val="3a3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49"/>
            <p:cNvSpPr/>
            <p:nvPr/>
          </p:nvSpPr>
          <p:spPr>
            <a:xfrm>
              <a:off x="7554960" y="4488120"/>
              <a:ext cx="123840" cy="17460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50"/>
            <p:cNvSpPr/>
            <p:nvPr/>
          </p:nvSpPr>
          <p:spPr>
            <a:xfrm>
              <a:off x="7108920" y="4434120"/>
              <a:ext cx="100080" cy="324000"/>
            </a:xfrm>
            <a:prstGeom prst="pie">
              <a:avLst/>
            </a:prstGeom>
            <a:solidFill>
              <a:srgbClr val="c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51"/>
            <p:cNvSpPr/>
            <p:nvPr/>
          </p:nvSpPr>
          <p:spPr>
            <a:xfrm>
              <a:off x="7162920" y="4713480"/>
              <a:ext cx="17280" cy="972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52"/>
            <p:cNvSpPr/>
            <p:nvPr/>
          </p:nvSpPr>
          <p:spPr>
            <a:xfrm>
              <a:off x="7180200" y="4746960"/>
              <a:ext cx="32040" cy="3636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53"/>
            <p:cNvSpPr/>
            <p:nvPr/>
          </p:nvSpPr>
          <p:spPr>
            <a:xfrm>
              <a:off x="7186680" y="4785120"/>
              <a:ext cx="36360" cy="1728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54"/>
            <p:cNvSpPr/>
            <p:nvPr/>
          </p:nvSpPr>
          <p:spPr>
            <a:xfrm>
              <a:off x="7196400" y="4805640"/>
              <a:ext cx="29880" cy="1116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55"/>
            <p:cNvSpPr/>
            <p:nvPr/>
          </p:nvSpPr>
          <p:spPr>
            <a:xfrm>
              <a:off x="7209000" y="4719960"/>
              <a:ext cx="63360" cy="10800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56"/>
            <p:cNvSpPr/>
            <p:nvPr/>
          </p:nvSpPr>
          <p:spPr>
            <a:xfrm>
              <a:off x="7243920" y="4712040"/>
              <a:ext cx="290520" cy="60624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57"/>
            <p:cNvSpPr/>
            <p:nvPr/>
          </p:nvSpPr>
          <p:spPr>
            <a:xfrm>
              <a:off x="7472520" y="5324760"/>
              <a:ext cx="122040" cy="68580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58"/>
            <p:cNvSpPr/>
            <p:nvPr/>
          </p:nvSpPr>
          <p:spPr>
            <a:xfrm>
              <a:off x="7615440" y="6089760"/>
              <a:ext cx="936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59"/>
            <p:cNvSpPr/>
            <p:nvPr/>
          </p:nvSpPr>
          <p:spPr>
            <a:xfrm>
              <a:off x="7413840" y="5994720"/>
              <a:ext cx="1807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60"/>
            <p:cNvSpPr/>
            <p:nvPr/>
          </p:nvSpPr>
          <p:spPr>
            <a:xfrm>
              <a:off x="7412040" y="6054840"/>
              <a:ext cx="1508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61"/>
            <p:cNvSpPr/>
            <p:nvPr/>
          </p:nvSpPr>
          <p:spPr>
            <a:xfrm>
              <a:off x="7580520" y="6046920"/>
              <a:ext cx="15840" cy="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62"/>
            <p:cNvSpPr/>
            <p:nvPr/>
          </p:nvSpPr>
          <p:spPr>
            <a:xfrm>
              <a:off x="7661520" y="6086880"/>
              <a:ext cx="6012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63"/>
            <p:cNvSpPr/>
            <p:nvPr/>
          </p:nvSpPr>
          <p:spPr>
            <a:xfrm>
              <a:off x="7612200" y="6016680"/>
              <a:ext cx="11268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64"/>
            <p:cNvSpPr/>
            <p:nvPr/>
          </p:nvSpPr>
          <p:spPr>
            <a:xfrm>
              <a:off x="7577280" y="5337360"/>
              <a:ext cx="162000" cy="67464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65"/>
            <p:cNvSpPr/>
            <p:nvPr/>
          </p:nvSpPr>
          <p:spPr>
            <a:xfrm>
              <a:off x="7548480" y="4723200"/>
              <a:ext cx="258840" cy="60156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66"/>
            <p:cNvSpPr/>
            <p:nvPr/>
          </p:nvSpPr>
          <p:spPr>
            <a:xfrm>
              <a:off x="7766280" y="5004000"/>
              <a:ext cx="81000" cy="8568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067"/>
            <p:cNvSpPr/>
            <p:nvPr/>
          </p:nvSpPr>
          <p:spPr>
            <a:xfrm>
              <a:off x="7629480" y="4561200"/>
              <a:ext cx="1800" cy="1440"/>
            </a:xfrm>
            <a:prstGeom prst="pie">
              <a:avLst/>
            </a:pr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68"/>
            <p:cNvSpPr/>
            <p:nvPr/>
          </p:nvSpPr>
          <p:spPr>
            <a:xfrm>
              <a:off x="7585200" y="4629240"/>
              <a:ext cx="57240" cy="2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69"/>
            <p:cNvSpPr/>
            <p:nvPr/>
          </p:nvSpPr>
          <p:spPr>
            <a:xfrm>
              <a:off x="7599600" y="4637160"/>
              <a:ext cx="28440" cy="6480"/>
            </a:xfrm>
            <a:prstGeom prst="pie">
              <a:avLst/>
            </a:prstGeom>
            <a:solidFill>
              <a:srgbClr val="d3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70"/>
            <p:cNvSpPr/>
            <p:nvPr/>
          </p:nvSpPr>
          <p:spPr>
            <a:xfrm>
              <a:off x="7629480" y="4556520"/>
              <a:ext cx="3492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71"/>
            <p:cNvSpPr/>
            <p:nvPr/>
          </p:nvSpPr>
          <p:spPr>
            <a:xfrm>
              <a:off x="6651720" y="4753080"/>
              <a:ext cx="433440" cy="32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72"/>
            <p:cNvSpPr/>
            <p:nvPr/>
          </p:nvSpPr>
          <p:spPr>
            <a:xfrm>
              <a:off x="7012080" y="4950000"/>
              <a:ext cx="30240" cy="11124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073"/>
            <p:cNvSpPr/>
            <p:nvPr/>
          </p:nvSpPr>
          <p:spPr>
            <a:xfrm>
              <a:off x="6937560" y="4759560"/>
              <a:ext cx="31680" cy="30168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74"/>
            <p:cNvSpPr/>
            <p:nvPr/>
          </p:nvSpPr>
          <p:spPr>
            <a:xfrm>
              <a:off x="6853320" y="4865760"/>
              <a:ext cx="31680" cy="19548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75"/>
            <p:cNvSpPr/>
            <p:nvPr/>
          </p:nvSpPr>
          <p:spPr>
            <a:xfrm>
              <a:off x="6770880" y="4891320"/>
              <a:ext cx="31680" cy="16992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76"/>
            <p:cNvSpPr/>
            <p:nvPr/>
          </p:nvSpPr>
          <p:spPr>
            <a:xfrm>
              <a:off x="6688080" y="4845240"/>
              <a:ext cx="30240" cy="21600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d"/>
    <p:sndAc>
      <p:stSnd>
        <p:snd r:embed="rId3" name="~PP3785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нтролируйте,  что  ваш  ребенок  собираясь  на  экзамен,  позавтра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чески  не  рекомендуется  в  день  экзамена принимать  успокаивающие  препараты,  так  как  они  вызывают  торможение  и  нарушают  координ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вы  решили,  что  вашему  ребенку  необходимо  пропить  успокаивающие  препараты  то  вы  должны  проконсультироваться  с  врачом  какие  препараты  можно  пропить  и  в  каком  количестве  какой  эффект они  могут  произвести.  Курс  употребления  препарата  должен  прекратиться  за  неделю  до  экзам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2600" y="1025640"/>
            <a:ext cx="80154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Рекомендации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1285920"/>
            <a:ext cx="792504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ли экзамены вызывают у вашего ребенка выраженную тревогу, если вы отмечали у него признаки экзаменационного стресса ( учащенное сердцебиение, нарушение сна, дрожание рук и пр.), вам следует принять меры для снижения уровня стр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ам следует с ребенком трижды ( за день до экзаменов, перед выходом из дома и за полчаса до экзамена) провести сеансы расслабления и снизить уровень нервно-психического напря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этого используйте: медитацию на дыхании,  формулы самовнушения и мысленного создания идеальной картины экзамена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Экзамены без стресса». Пособие для  учителей, воспитателей, психологов. М-200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ww.ed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ww.1 septembe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ww.isma.org.uk/exams.htm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2484360" y="404640"/>
            <a:ext cx="4465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D06982_"/>
          <p:cNvPicPr/>
          <p:nvPr/>
        </p:nvPicPr>
        <p:blipFill>
          <a:blip r:embed="rId1"/>
          <a:stretch/>
        </p:blipFill>
        <p:spPr>
          <a:xfrm>
            <a:off x="900000" y="2708280"/>
            <a:ext cx="7344000" cy="3230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79292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замен – это  первое  испытание  на  пути  взрослую  жи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~PP3785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993600" y="2981160"/>
            <a:ext cx="7785360" cy="1114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826920" y="793800"/>
            <a:ext cx="7245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907920"/>
            <a:ext cx="3059280" cy="1584360"/>
          </a:xfrm>
          <a:prstGeom prst="rightArrowCallout">
            <a:avLst>
              <a:gd name="adj1" fmla="val 33336"/>
              <a:gd name="adj2" fmla="val 50000"/>
              <a:gd name="adj3" fmla="val 34319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мнение в полноте и прочности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0" y="2708280"/>
            <a:ext cx="3021120" cy="1363680"/>
          </a:xfrm>
          <a:prstGeom prst="rightArrowCallout">
            <a:avLst>
              <a:gd name="adj1" fmla="val 33336"/>
              <a:gd name="adj2" fmla="val 50000"/>
              <a:gd name="adj3" fmla="val 33313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есс незнаком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0" y="4365720"/>
            <a:ext cx="3021120" cy="1655640"/>
          </a:xfrm>
          <a:prstGeom prst="rightArrowCallout">
            <a:avLst>
              <a:gd name="adj1" fmla="val 33336"/>
              <a:gd name="adj2" fmla="val 50000"/>
              <a:gd name="adj3" fmla="val 37416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тресс ответственности перед родителями и шко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7"/>
          <p:cNvSpPr/>
          <p:nvPr/>
        </p:nvSpPr>
        <p:spPr>
          <a:xfrm flipH="1">
            <a:off x="4142520" y="3013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 flipH="1">
            <a:off x="5650920" y="907920"/>
            <a:ext cx="3214440" cy="2881440"/>
          </a:xfrm>
          <a:prstGeom prst="rightArrowCallout">
            <a:avLst>
              <a:gd name="adj1" fmla="val 33336"/>
              <a:gd name="adj2" fmla="val 50000"/>
              <a:gd name="adj3" fmla="val 13206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мнение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бственных способностях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:  в логическом мышлении, умении анализировать, концентрации и распределении 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 flipH="1">
            <a:off x="5363280" y="4214880"/>
            <a:ext cx="3351240" cy="2309760"/>
          </a:xfrm>
          <a:prstGeom prst="rightArrowCallout">
            <a:avLst>
              <a:gd name="adj1" fmla="val 33336"/>
              <a:gd name="adj2" fmla="val 50000"/>
              <a:gd name="adj3" fmla="val 29878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сихофизические и личностные особенности: тревожность, астеничность, неуверенность в себ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7" descr="Старшеклассники"/>
          <p:cNvPicPr/>
          <p:nvPr/>
        </p:nvPicPr>
        <p:blipFill>
          <a:blip r:embed="rId2"/>
          <a:stretch/>
        </p:blipFill>
        <p:spPr>
          <a:xfrm>
            <a:off x="3059280" y="2133720"/>
            <a:ext cx="2309760" cy="3600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2" descr=""/>
          <p:cNvPicPr/>
          <p:nvPr/>
        </p:nvPicPr>
        <p:blipFill>
          <a:blip r:embed="rId3"/>
          <a:stretch/>
        </p:blipFill>
        <p:spPr>
          <a:xfrm>
            <a:off x="1332000" y="0"/>
            <a:ext cx="677376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4" name="~PP3785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10920" y="2997360"/>
            <a:ext cx="771516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вожьтесь о количестве баллов, которые ребенок получит на экзамене, и не критикуйте ребенка после экзамена. Внушайте ребенку мысль, что количество баллов не является совершенным измерением его возмож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000080" y="13572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родители могут помочь ребенку в сложный период подготовки и сдачи ОГ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684360" y="1484280"/>
            <a:ext cx="768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вышайте тревожность ребенка накануне экзаменов - это может отрицательно сказаться на результате тестирования. Ребенку всегда передается волнение родителей, и если взрослые в ответственный момент могут справиться со своими эмоциями, то ребенок в силу возрастных особенностей может эмоционально "сорваться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971640" y="1557360"/>
            <a:ext cx="655308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адривайте детей, хвалите их за то, что они делают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йте их уверенность в себе, так как чем больше ребенок боится неудачи, тем более вероятности допущения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йте за самочувствием ребенка, никто, кроме Вас, не сможет вовремя заметить и предотвратить ухудшение состояние ребенка, связанное с переутомл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детям распределить темы подготовки по дн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режим подготовки ребенка, не допускайте перегрузок, объясните ему, что он обязательно должен чередовать занятия с отды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ьте дома удобное место для занятий, проследите, чтобы никто из домашних не меш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324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на питание ребенка: во время интенсивного умственного напряжения ему необходима питательная и разнообразная пища и сбалансированный комплекс витаминов. Такие продукты, как рыба, творог, орехи, курага и т.д. стимулируют работу головного моз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6:54:33Z</dcterms:created>
  <dc:creator>Имя</dc:creator>
  <dc:description/>
  <dc:language>en-US</dc:language>
  <cp:lastModifiedBy>user</cp:lastModifiedBy>
  <dcterms:modified xsi:type="dcterms:W3CDTF">2020-12-03T17:47:39Z</dcterms:modified>
  <cp:revision>33</cp:revision>
  <dc:subject/>
  <dc:title>Родительское собрание.</dc:title>
</cp:coreProperties>
</file>