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camera.wav" ContentType="audio/x-wav"/>
  <Override PartName="/ppt/media/image6.png" ContentType="image/png"/>
  <Override PartName="/ppt/media/image2.wmf" ContentType="image/x-wmf"/>
  <Override PartName="/ppt/media/image3.png" ContentType="image/png"/>
  <Override PartName="/ppt/media/~PP3785.WAV" ContentType="audio/x-wav"/>
  <Override PartName="/ppt/media/image7.wmf" ContentType="image/x-wmf"/>
  <Override PartName="/ppt/media/whoosh.wav" ContentType="audio/x-wav"/>
  <Override PartName="/ppt/media/image4.jpeg" ContentType="image/jpeg"/>
  <Override PartName="/ppt/media/carbrake.wav" ContentType="audio/x-wav"/>
  <Override PartName="/ppt/media/typ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AC8F-776E-48DF-BAF8-FEDB4247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1B7B-C625-452A-9111-EF4D3ECB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3A0F-0936-42AC-8F0B-7E053170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744-6378-4BEC-998A-743402BC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EC78-5A43-4881-B8E2-2A8DD276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1A8A-3D7C-4F46-A13C-4736E20C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40B4-3FFF-487D-B079-49897A42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2D6B-72EF-454A-9567-A3E293DB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53F1-0B64-4588-A14C-825A60D8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44CA-2F64-461F-BFF8-866F26D9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F241-389D-430B-8FB1-7826FD4B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7C1-DD3D-4504-ACD8-BD870AD9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0674-8461-44CF-B739-428051EF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2D69-02E2-445F-B468-05FB40A7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EFCC-40AF-490E-8651-68231715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B977-F731-4D05-85A7-DBDEE6A9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EED9-178B-4DAC-B7D4-6EBF3516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4D7F0-A673-4144-9305-B5F37ACA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6DF9A-7761-4F3A-B34C-5B90B3CE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3BFE7-85C5-4950-8865-C28F61D9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1C026-FE04-4572-A698-D7AB7142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8AAF3-5067-4961-BDD8-3FD0C34E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60FE-3111-4A1C-A47C-346BBF7A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AC000-4196-4DC9-8B9B-8AD1EF55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C1A8B-5BE9-4538-9E36-17B9EB69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7BB71-5919-4FBD-9480-8C299F1D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6EDA6-302C-4B3E-8232-8EADF70D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B9D6E-A543-4CE2-B7E7-6690325E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C4DD4-1C46-4136-8DDD-541BB3E8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982C8-452F-4B31-876D-879AD994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C01A-AC4C-427C-924D-F2D6322D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CA7-07F0-4924-B2B7-8E782442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9CE-6BCE-45AA-A27D-CDF6B8E0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D8D-6CA7-4C26-BA61-04B21945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1EE-B9B8-4038-B85F-6DC04E33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F2C-2A77-4C34-9DF2-10ABDADC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E5B4-39CB-43E2-9413-63D81E412A5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2ADE-F3E3-4A78-BC2A-F37A2179C2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169C-5C39-4C83-BF91-7B0C3A6B35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audio" Target="../media/~PP3785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~PP3785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~PP3785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~PP3785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audio" Target="../media/~PP3785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~PP3785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~PP3785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~PP3785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~PP3785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~PP3785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~PP3785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1642680"/>
            <a:ext cx="400032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помочь ребенку подготовиться  к будущим экзаменам?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4000" y="333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ОДИТЕЛЬСКОЕ СОБРАНИЕ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6" descr="Экзамен"/>
          <p:cNvPicPr/>
          <p:nvPr/>
        </p:nvPicPr>
        <p:blipFill>
          <a:blip r:embed="rId1"/>
          <a:stretch/>
        </p:blipFill>
        <p:spPr>
          <a:xfrm>
            <a:off x="4714920" y="1571760"/>
            <a:ext cx="353052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 flipV="1" rot="10800000">
            <a:off x="4214520" y="530100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ченко И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 МБОУ БГО ООШ №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4357800" y="478620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llegro BT"/>
              </a:rPr>
              <a:t>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Накануне экзамен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ь  спать  на  1 час  раньше,  в  хорошо  проветренной  комна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у, которую планирует  ребенок  одеть  на  экзамен, примерьте  накануне  еще  и убедитесь  в  том, что  ребенку  в  ней  удобно  и  комфорт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75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853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нь сдачи экзамена н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удьте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время разбудить;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готовить одежду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ожить необходимы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принадлежности                                           (тетрадь, ручку, документы)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желать удач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7" descr="j0287289"/>
          <p:cNvPicPr/>
          <p:nvPr/>
        </p:nvPicPr>
        <p:blipFill>
          <a:blip r:embed="rId2"/>
          <a:stretch/>
        </p:blipFill>
        <p:spPr>
          <a:xfrm>
            <a:off x="6572160" y="1428840"/>
            <a:ext cx="839880" cy="12142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1025"/>
          <p:cNvGrpSpPr/>
          <p:nvPr/>
        </p:nvGrpSpPr>
        <p:grpSpPr>
          <a:xfrm>
            <a:off x="6215040" y="4357800"/>
            <a:ext cx="1778040" cy="1778040"/>
            <a:chOff x="6215040" y="4357800"/>
            <a:chExt cx="1778040" cy="1778040"/>
          </a:xfrm>
        </p:grpSpPr>
        <p:sp>
          <p:nvSpPr>
            <p:cNvPr id="161" name="AutoShape 1024"/>
            <p:cNvSpPr/>
            <p:nvPr/>
          </p:nvSpPr>
          <p:spPr>
            <a:xfrm>
              <a:off x="6215040" y="4357800"/>
              <a:ext cx="1778040" cy="17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026"/>
            <p:cNvSpPr/>
            <p:nvPr/>
          </p:nvSpPr>
          <p:spPr>
            <a:xfrm>
              <a:off x="6215040" y="4359600"/>
              <a:ext cx="1778040" cy="1776240"/>
            </a:xfrm>
            <a:prstGeom prst="rect">
              <a:avLst/>
            </a:pr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27"/>
            <p:cNvSpPr/>
            <p:nvPr/>
          </p:nvSpPr>
          <p:spPr>
            <a:xfrm>
              <a:off x="6215040" y="5889960"/>
              <a:ext cx="1774800" cy="245880"/>
            </a:xfrm>
            <a:prstGeom prst="rect">
              <a:avLst/>
            </a:prstGeom>
            <a:solidFill>
              <a:srgbClr val="c6c6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028"/>
            <p:cNvSpPr/>
            <p:nvPr/>
          </p:nvSpPr>
          <p:spPr>
            <a:xfrm>
              <a:off x="6215040" y="4361040"/>
              <a:ext cx="1395360" cy="89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29"/>
            <p:cNvSpPr/>
            <p:nvPr/>
          </p:nvSpPr>
          <p:spPr>
            <a:xfrm>
              <a:off x="6218280" y="4357800"/>
              <a:ext cx="1341360" cy="84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030"/>
            <p:cNvSpPr/>
            <p:nvPr/>
          </p:nvSpPr>
          <p:spPr>
            <a:xfrm>
              <a:off x="6215040" y="4359600"/>
              <a:ext cx="1328760" cy="825480"/>
            </a:xfrm>
            <a:prstGeom prst="rect">
              <a:avLst/>
            </a:prstGeom>
            <a:solidFill>
              <a:srgbClr val="f2f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31"/>
            <p:cNvSpPr/>
            <p:nvPr/>
          </p:nvSpPr>
          <p:spPr>
            <a:xfrm>
              <a:off x="7105680" y="4429440"/>
              <a:ext cx="757440" cy="168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032"/>
            <p:cNvSpPr/>
            <p:nvPr/>
          </p:nvSpPr>
          <p:spPr>
            <a:xfrm>
              <a:off x="7782120" y="4876920"/>
              <a:ext cx="60120" cy="122400"/>
            </a:xfrm>
            <a:prstGeom prst="pie">
              <a:avLst/>
            </a:prstGeom>
            <a:solidFill>
              <a:srgbClr val="1c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33"/>
            <p:cNvSpPr/>
            <p:nvPr/>
          </p:nvSpPr>
          <p:spPr>
            <a:xfrm>
              <a:off x="7639200" y="4856400"/>
              <a:ext cx="163440" cy="252360"/>
            </a:xfrm>
            <a:prstGeom prst="pie">
              <a:avLst/>
            </a:pr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034"/>
            <p:cNvSpPr/>
            <p:nvPr/>
          </p:nvSpPr>
          <p:spPr>
            <a:xfrm>
              <a:off x="7678800" y="4937400"/>
              <a:ext cx="127080" cy="128520"/>
            </a:xfrm>
            <a:prstGeom prst="pie">
              <a:avLst/>
            </a:prstGeom>
            <a:solidFill>
              <a:srgbClr val="f9d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035"/>
            <p:cNvSpPr/>
            <p:nvPr/>
          </p:nvSpPr>
          <p:spPr>
            <a:xfrm>
              <a:off x="7631280" y="4697640"/>
              <a:ext cx="57240" cy="95400"/>
            </a:xfrm>
            <a:prstGeom prst="pie">
              <a:avLst/>
            </a:prstGeom>
            <a:solidFill>
              <a:srgbClr val="1c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36"/>
            <p:cNvSpPr/>
            <p:nvPr/>
          </p:nvSpPr>
          <p:spPr>
            <a:xfrm>
              <a:off x="7523280" y="4788000"/>
              <a:ext cx="19080" cy="123840"/>
            </a:xfrm>
            <a:prstGeom prst="pie">
              <a:avLst/>
            </a:prstGeom>
            <a:solidFill>
              <a:srgbClr val="1c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37"/>
            <p:cNvSpPr/>
            <p:nvPr/>
          </p:nvSpPr>
          <p:spPr>
            <a:xfrm>
              <a:off x="7589880" y="4678560"/>
              <a:ext cx="44640" cy="9720"/>
            </a:xfrm>
            <a:prstGeom prst="pie">
              <a:avLst/>
            </a:prstGeom>
            <a:solidFill>
              <a:srgbClr val="b59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38"/>
            <p:cNvSpPr/>
            <p:nvPr/>
          </p:nvSpPr>
          <p:spPr>
            <a:xfrm>
              <a:off x="7620120" y="4691160"/>
              <a:ext cx="33480" cy="41400"/>
            </a:xfrm>
            <a:prstGeom prst="pie">
              <a:avLst/>
            </a:pr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39"/>
            <p:cNvSpPr/>
            <p:nvPr/>
          </p:nvSpPr>
          <p:spPr>
            <a:xfrm>
              <a:off x="7605720" y="4737240"/>
              <a:ext cx="19080" cy="63720"/>
            </a:xfrm>
            <a:prstGeom prst="pie">
              <a:avLst/>
            </a:pr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040"/>
            <p:cNvSpPr/>
            <p:nvPr/>
          </p:nvSpPr>
          <p:spPr>
            <a:xfrm>
              <a:off x="7575480" y="4712040"/>
              <a:ext cx="36720" cy="38160"/>
            </a:xfrm>
            <a:prstGeom prst="pie">
              <a:avLst/>
            </a:prstGeom>
            <a:solidFill>
              <a:srgbClr val="d3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041"/>
            <p:cNvSpPr/>
            <p:nvPr/>
          </p:nvSpPr>
          <p:spPr>
            <a:xfrm>
              <a:off x="7574040" y="4688280"/>
              <a:ext cx="4680" cy="14040"/>
            </a:xfrm>
            <a:prstGeom prst="pie">
              <a:avLst/>
            </a:pr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042"/>
            <p:cNvSpPr/>
            <p:nvPr/>
          </p:nvSpPr>
          <p:spPr>
            <a:xfrm>
              <a:off x="7559640" y="4741920"/>
              <a:ext cx="9720" cy="38160"/>
            </a:xfrm>
            <a:prstGeom prst="pie">
              <a:avLst/>
            </a:prstGeom>
            <a:solidFill>
              <a:srgbClr val="ed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043"/>
            <p:cNvSpPr/>
            <p:nvPr/>
          </p:nvSpPr>
          <p:spPr>
            <a:xfrm>
              <a:off x="7550280" y="4754880"/>
              <a:ext cx="49320" cy="172800"/>
            </a:xfrm>
            <a:prstGeom prst="pie">
              <a:avLst/>
            </a:prstGeom>
            <a:solidFill>
              <a:srgbClr val="d3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44"/>
            <p:cNvSpPr/>
            <p:nvPr/>
          </p:nvSpPr>
          <p:spPr>
            <a:xfrm>
              <a:off x="7535880" y="4705560"/>
              <a:ext cx="19080" cy="63360"/>
            </a:xfrm>
            <a:prstGeom prst="pie">
              <a:avLst/>
            </a:prstGeom>
            <a:solidFill>
              <a:srgbClr val="1c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45"/>
            <p:cNvSpPr/>
            <p:nvPr/>
          </p:nvSpPr>
          <p:spPr>
            <a:xfrm>
              <a:off x="7580520" y="4800960"/>
              <a:ext cx="60120" cy="98280"/>
            </a:xfrm>
            <a:prstGeom prst="pie">
              <a:avLst/>
            </a:prstGeom>
            <a:solidFill>
              <a:srgbClr val="1c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46"/>
            <p:cNvSpPr/>
            <p:nvPr/>
          </p:nvSpPr>
          <p:spPr>
            <a:xfrm>
              <a:off x="7643880" y="4672080"/>
              <a:ext cx="4680" cy="3240"/>
            </a:xfrm>
            <a:prstGeom prst="pie">
              <a:avLst/>
            </a:prstGeom>
            <a:solidFill>
              <a:srgbClr val="b59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47"/>
            <p:cNvSpPr/>
            <p:nvPr/>
          </p:nvSpPr>
          <p:spPr>
            <a:xfrm>
              <a:off x="7635960" y="4454640"/>
              <a:ext cx="58680" cy="88920"/>
            </a:xfrm>
            <a:prstGeom prst="pie">
              <a:avLst/>
            </a:prstGeom>
            <a:solidFill>
              <a:srgbClr val="3a3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48"/>
            <p:cNvSpPr/>
            <p:nvPr/>
          </p:nvSpPr>
          <p:spPr>
            <a:xfrm>
              <a:off x="7537680" y="4449960"/>
              <a:ext cx="90360" cy="93600"/>
            </a:xfrm>
            <a:prstGeom prst="pie">
              <a:avLst/>
            </a:prstGeom>
            <a:solidFill>
              <a:srgbClr val="3a3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49"/>
            <p:cNvSpPr/>
            <p:nvPr/>
          </p:nvSpPr>
          <p:spPr>
            <a:xfrm>
              <a:off x="7554960" y="4488120"/>
              <a:ext cx="123840" cy="174600"/>
            </a:xfrm>
            <a:prstGeom prst="pie">
              <a:avLst/>
            </a:prstGeom>
            <a:solidFill>
              <a:srgbClr val="f9d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50"/>
            <p:cNvSpPr/>
            <p:nvPr/>
          </p:nvSpPr>
          <p:spPr>
            <a:xfrm>
              <a:off x="7108920" y="4434120"/>
              <a:ext cx="100080" cy="324000"/>
            </a:xfrm>
            <a:prstGeom prst="pie">
              <a:avLst/>
            </a:prstGeom>
            <a:solidFill>
              <a:srgbClr val="c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51"/>
            <p:cNvSpPr/>
            <p:nvPr/>
          </p:nvSpPr>
          <p:spPr>
            <a:xfrm>
              <a:off x="7162920" y="4713480"/>
              <a:ext cx="17280" cy="9720"/>
            </a:xfrm>
            <a:prstGeom prst="pie">
              <a:avLst/>
            </a:prstGeom>
            <a:solidFill>
              <a:srgbClr val="f9d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52"/>
            <p:cNvSpPr/>
            <p:nvPr/>
          </p:nvSpPr>
          <p:spPr>
            <a:xfrm>
              <a:off x="7180200" y="4746960"/>
              <a:ext cx="32040" cy="36360"/>
            </a:xfrm>
            <a:prstGeom prst="pie">
              <a:avLst/>
            </a:prstGeom>
            <a:solidFill>
              <a:srgbClr val="f9d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53"/>
            <p:cNvSpPr/>
            <p:nvPr/>
          </p:nvSpPr>
          <p:spPr>
            <a:xfrm>
              <a:off x="7186680" y="4785120"/>
              <a:ext cx="36360" cy="17280"/>
            </a:xfrm>
            <a:prstGeom prst="pie">
              <a:avLst/>
            </a:prstGeom>
            <a:solidFill>
              <a:srgbClr val="f9d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54"/>
            <p:cNvSpPr/>
            <p:nvPr/>
          </p:nvSpPr>
          <p:spPr>
            <a:xfrm>
              <a:off x="7196400" y="4805640"/>
              <a:ext cx="29880" cy="11160"/>
            </a:xfrm>
            <a:prstGeom prst="pie">
              <a:avLst/>
            </a:prstGeom>
            <a:solidFill>
              <a:srgbClr val="f9d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055"/>
            <p:cNvSpPr/>
            <p:nvPr/>
          </p:nvSpPr>
          <p:spPr>
            <a:xfrm>
              <a:off x="7209000" y="4719960"/>
              <a:ext cx="63360" cy="108000"/>
            </a:xfrm>
            <a:prstGeom prst="pie">
              <a:avLst/>
            </a:prstGeom>
            <a:solidFill>
              <a:srgbClr val="f9d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56"/>
            <p:cNvSpPr/>
            <p:nvPr/>
          </p:nvSpPr>
          <p:spPr>
            <a:xfrm>
              <a:off x="7243920" y="4712040"/>
              <a:ext cx="290520" cy="606240"/>
            </a:xfrm>
            <a:prstGeom prst="pie">
              <a:avLst/>
            </a:prstGeom>
            <a:solidFill>
              <a:srgbClr val="1c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057"/>
            <p:cNvSpPr/>
            <p:nvPr/>
          </p:nvSpPr>
          <p:spPr>
            <a:xfrm>
              <a:off x="7472520" y="5324760"/>
              <a:ext cx="122040" cy="685800"/>
            </a:xfrm>
            <a:prstGeom prst="pie">
              <a:avLst/>
            </a:prstGeom>
            <a:solidFill>
              <a:srgbClr val="1c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58"/>
            <p:cNvSpPr/>
            <p:nvPr/>
          </p:nvSpPr>
          <p:spPr>
            <a:xfrm>
              <a:off x="7615440" y="6089760"/>
              <a:ext cx="9360" cy="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059"/>
            <p:cNvSpPr/>
            <p:nvPr/>
          </p:nvSpPr>
          <p:spPr>
            <a:xfrm>
              <a:off x="7413840" y="5994720"/>
              <a:ext cx="18072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60"/>
            <p:cNvSpPr/>
            <p:nvPr/>
          </p:nvSpPr>
          <p:spPr>
            <a:xfrm>
              <a:off x="7412040" y="6054840"/>
              <a:ext cx="1508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061"/>
            <p:cNvSpPr/>
            <p:nvPr/>
          </p:nvSpPr>
          <p:spPr>
            <a:xfrm>
              <a:off x="7580520" y="6046920"/>
              <a:ext cx="15840" cy="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062"/>
            <p:cNvSpPr/>
            <p:nvPr/>
          </p:nvSpPr>
          <p:spPr>
            <a:xfrm>
              <a:off x="7661520" y="6086880"/>
              <a:ext cx="60120" cy="1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63"/>
            <p:cNvSpPr/>
            <p:nvPr/>
          </p:nvSpPr>
          <p:spPr>
            <a:xfrm>
              <a:off x="7612200" y="6016680"/>
              <a:ext cx="112680" cy="6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064"/>
            <p:cNvSpPr/>
            <p:nvPr/>
          </p:nvSpPr>
          <p:spPr>
            <a:xfrm>
              <a:off x="7577280" y="5337360"/>
              <a:ext cx="162000" cy="674640"/>
            </a:xfrm>
            <a:prstGeom prst="pie">
              <a:avLst/>
            </a:prstGeom>
            <a:solidFill>
              <a:srgbClr val="1c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65"/>
            <p:cNvSpPr/>
            <p:nvPr/>
          </p:nvSpPr>
          <p:spPr>
            <a:xfrm>
              <a:off x="7548480" y="4723200"/>
              <a:ext cx="258840" cy="601560"/>
            </a:xfrm>
            <a:prstGeom prst="pie">
              <a:avLst/>
            </a:prstGeom>
            <a:solidFill>
              <a:srgbClr val="1c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066"/>
            <p:cNvSpPr/>
            <p:nvPr/>
          </p:nvSpPr>
          <p:spPr>
            <a:xfrm>
              <a:off x="7766280" y="5004000"/>
              <a:ext cx="81000" cy="85680"/>
            </a:xfrm>
            <a:prstGeom prst="pie">
              <a:avLst/>
            </a:prstGeom>
            <a:solidFill>
              <a:srgbClr val="1c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067"/>
            <p:cNvSpPr/>
            <p:nvPr/>
          </p:nvSpPr>
          <p:spPr>
            <a:xfrm>
              <a:off x="7629480" y="4561200"/>
              <a:ext cx="1800" cy="1440"/>
            </a:xfrm>
            <a:prstGeom prst="pie">
              <a:avLst/>
            </a:pr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068"/>
            <p:cNvSpPr/>
            <p:nvPr/>
          </p:nvSpPr>
          <p:spPr>
            <a:xfrm>
              <a:off x="7585200" y="4629240"/>
              <a:ext cx="57240" cy="2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69"/>
            <p:cNvSpPr/>
            <p:nvPr/>
          </p:nvSpPr>
          <p:spPr>
            <a:xfrm>
              <a:off x="7599600" y="4637160"/>
              <a:ext cx="28440" cy="6480"/>
            </a:xfrm>
            <a:prstGeom prst="pie">
              <a:avLst/>
            </a:prstGeom>
            <a:solidFill>
              <a:srgbClr val="d3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70"/>
            <p:cNvSpPr/>
            <p:nvPr/>
          </p:nvSpPr>
          <p:spPr>
            <a:xfrm>
              <a:off x="7629480" y="4556520"/>
              <a:ext cx="34920" cy="1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71"/>
            <p:cNvSpPr/>
            <p:nvPr/>
          </p:nvSpPr>
          <p:spPr>
            <a:xfrm>
              <a:off x="6651720" y="4753080"/>
              <a:ext cx="433440" cy="32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72"/>
            <p:cNvSpPr/>
            <p:nvPr/>
          </p:nvSpPr>
          <p:spPr>
            <a:xfrm>
              <a:off x="7012080" y="4950000"/>
              <a:ext cx="30240" cy="111240"/>
            </a:xfrm>
            <a:prstGeom prst="rect">
              <a:avLst/>
            </a:prstGeom>
            <a:solidFill>
              <a:srgbClr val="b5b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073"/>
            <p:cNvSpPr/>
            <p:nvPr/>
          </p:nvSpPr>
          <p:spPr>
            <a:xfrm>
              <a:off x="6937560" y="4759560"/>
              <a:ext cx="31680" cy="301680"/>
            </a:xfrm>
            <a:prstGeom prst="rect">
              <a:avLst/>
            </a:prstGeom>
            <a:solidFill>
              <a:srgbClr val="b5b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074"/>
            <p:cNvSpPr/>
            <p:nvPr/>
          </p:nvSpPr>
          <p:spPr>
            <a:xfrm>
              <a:off x="6853320" y="4865760"/>
              <a:ext cx="31680" cy="195480"/>
            </a:xfrm>
            <a:prstGeom prst="rect">
              <a:avLst/>
            </a:prstGeom>
            <a:solidFill>
              <a:srgbClr val="b5b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75"/>
            <p:cNvSpPr/>
            <p:nvPr/>
          </p:nvSpPr>
          <p:spPr>
            <a:xfrm>
              <a:off x="6770880" y="4891320"/>
              <a:ext cx="31680" cy="169920"/>
            </a:xfrm>
            <a:prstGeom prst="rect">
              <a:avLst/>
            </a:prstGeom>
            <a:solidFill>
              <a:srgbClr val="b5b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076"/>
            <p:cNvSpPr/>
            <p:nvPr/>
          </p:nvSpPr>
          <p:spPr>
            <a:xfrm>
              <a:off x="6688080" y="4845240"/>
              <a:ext cx="30240" cy="216000"/>
            </a:xfrm>
            <a:prstGeom prst="rect">
              <a:avLst/>
            </a:prstGeom>
            <a:solidFill>
              <a:srgbClr val="b5b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d"/>
    <p:sndAc>
      <p:stSnd>
        <p:snd r:embed="rId3" name="~PP3785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онтролируйте,  что  ваш  ребенок  собираясь  на  экзамен,  позавтрак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чески  не  рекомендуется  в  день  экзамена принимать  успокаивающие  препараты,  так  как  они  вызывают  торможение  и  нарушают  координ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 вы  решили,  что  вашему  ребенку  необходимо  пропить  успокаивающие  препараты  то  вы  должны  проконсультироваться  с  врачом  какие  препараты  можно  пропить  и  в  каком  количестве  какой  эффект они  могут  произвести.  Курс  употребления  препарата  должен  прекратиться  за  неделю  до  экзаме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2600" y="1025640"/>
            <a:ext cx="80154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Рекомендации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480" y="1285920"/>
            <a:ext cx="792504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сли экзамены вызывают у вашего ребенка выраженную тревогу, если вы отмечали у него признаки экзаменационного стресса ( учащенное сердцебиение, нарушение сна, дрожание рук и пр.), вам следует принять меры для снижения уровня стре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ам следует с ребенком трижды ( за день до экзаменов, перед выходом из дома и за полчаса до экзамена) провести сеансы расслабления и снизить уровень нервно-психического напря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ля этого используйте: медитацию на дыхании,  формулы самовнушения и мысленного создания идеальной картины экзамена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1" name="~PP3785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Экзамены без стресса». Пособие для  учителей, воспитателей, психологов. М-2003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ww.edu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ww.1 september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ww.isma.org.uk/exams.htm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2484360" y="404640"/>
            <a:ext cx="44658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med">
    <p:wipe dir="d"/>
    <p:sndAc>
      <p:stSnd>
        <p:snd r:embed="rId1" name="~PP3785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BD06982_"/>
          <p:cNvPicPr/>
          <p:nvPr/>
        </p:nvPicPr>
        <p:blipFill>
          <a:blip r:embed="rId1"/>
          <a:stretch/>
        </p:blipFill>
        <p:spPr>
          <a:xfrm>
            <a:off x="900000" y="2708280"/>
            <a:ext cx="7344000" cy="3230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79292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кзамен – это  первое  испытание  на  пути  взрослую  жиз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2" name="~PP3785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Rectangle 2" descr=""/>
          <p:cNvPicPr/>
          <p:nvPr/>
        </p:nvPicPr>
        <p:blipFill>
          <a:blip r:embed="rId1"/>
          <a:stretch/>
        </p:blipFill>
        <p:spPr>
          <a:xfrm>
            <a:off x="993600" y="2981160"/>
            <a:ext cx="7785360" cy="1114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826920" y="793800"/>
            <a:ext cx="72453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0" y="907920"/>
            <a:ext cx="3059280" cy="1584360"/>
          </a:xfrm>
          <a:prstGeom prst="rightArrowCallout">
            <a:avLst>
              <a:gd name="adj1" fmla="val 33336"/>
              <a:gd name="adj2" fmla="val 50000"/>
              <a:gd name="adj3" fmla="val 34319"/>
              <a:gd name="adj4" fmla="val 74852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омнение в полноте и прочности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0" y="2708280"/>
            <a:ext cx="3021120" cy="1363680"/>
          </a:xfrm>
          <a:prstGeom prst="rightArrowCallout">
            <a:avLst>
              <a:gd name="adj1" fmla="val 33336"/>
              <a:gd name="adj2" fmla="val 50000"/>
              <a:gd name="adj3" fmla="val 33313"/>
              <a:gd name="adj4" fmla="val 74852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ресс незнаком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0" y="4365720"/>
            <a:ext cx="3021120" cy="1655640"/>
          </a:xfrm>
          <a:prstGeom prst="rightArrowCallout">
            <a:avLst>
              <a:gd name="adj1" fmla="val 33336"/>
              <a:gd name="adj2" fmla="val 50000"/>
              <a:gd name="adj3" fmla="val 37416"/>
              <a:gd name="adj4" fmla="val 74852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тресс ответственности перед родителями и школ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7"/>
          <p:cNvSpPr/>
          <p:nvPr/>
        </p:nvSpPr>
        <p:spPr>
          <a:xfrm flipH="1">
            <a:off x="4142520" y="30132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 flipH="1">
            <a:off x="5650920" y="907920"/>
            <a:ext cx="3214440" cy="2881440"/>
          </a:xfrm>
          <a:prstGeom prst="rightArrowCallout">
            <a:avLst>
              <a:gd name="adj1" fmla="val 33336"/>
              <a:gd name="adj2" fmla="val 50000"/>
              <a:gd name="adj3" fmla="val 13206"/>
              <a:gd name="adj4" fmla="val 74852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омнение 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бственных способностях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:  в логическом мышлении, умении анализировать, концентрации и распределении  вни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 flipH="1">
            <a:off x="5363280" y="4214880"/>
            <a:ext cx="3351240" cy="2309760"/>
          </a:xfrm>
          <a:prstGeom prst="rightArrowCallout">
            <a:avLst>
              <a:gd name="adj1" fmla="val 33336"/>
              <a:gd name="adj2" fmla="val 50000"/>
              <a:gd name="adj3" fmla="val 29878"/>
              <a:gd name="adj4" fmla="val 74852"/>
            </a:avLst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сихофизические и личностные особенности: тревожность, астеничность, неуверенность в себ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7" descr="Старшеклассники"/>
          <p:cNvPicPr/>
          <p:nvPr/>
        </p:nvPicPr>
        <p:blipFill>
          <a:blip r:embed="rId2"/>
          <a:stretch/>
        </p:blipFill>
        <p:spPr>
          <a:xfrm>
            <a:off x="3059280" y="2133720"/>
            <a:ext cx="2309760" cy="360036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22" descr=""/>
          <p:cNvPicPr/>
          <p:nvPr/>
        </p:nvPicPr>
        <p:blipFill>
          <a:blip r:embed="rId3"/>
          <a:stretch/>
        </p:blipFill>
        <p:spPr>
          <a:xfrm>
            <a:off x="1332000" y="0"/>
            <a:ext cx="6773760" cy="785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4" name="~PP3785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10920" y="2997360"/>
            <a:ext cx="771516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ревожьтесь о количестве баллов, которые ребенок получит на экзамене, и не критикуйте ребенка после экзамена. Внушайте ребенку мысль, что количество баллов не является совершенным измерением его возможн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1000080" y="135720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родители могут помочь ребенку в сложный период подготовки и сдачи ОГЭ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1" name="~PP3785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2"/>
          <p:cNvSpPr/>
          <p:nvPr/>
        </p:nvSpPr>
        <p:spPr>
          <a:xfrm>
            <a:off x="684360" y="1484280"/>
            <a:ext cx="768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вышайте тревожность ребенка накануне экзаменов - это может отрицательно сказаться на результате тестирования. Ребенку всегда передается волнение родителей, и если взрослые в ответственный момент могут справиться со своими эмоциями, то ребенок в силу возрастных особенностей может эмоционально "сорваться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1" name="~PP3785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2"/>
          <p:cNvSpPr/>
          <p:nvPr/>
        </p:nvSpPr>
        <p:spPr>
          <a:xfrm>
            <a:off x="971640" y="1557360"/>
            <a:ext cx="655308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адривайте детей, хвалите их за то, что они делают хорош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йте их уверенность в себе, так как чем больше ребенок боится неудачи, тем более вероятности допущения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1" name="~PP3785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755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йте за самочувствием ребенка, никто, кроме Вас, не сможет вовремя заметить и предотвратить ухудшение состояние ребенка, связанное с переутомлен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ите детям распределить темы подготовки по дн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1" name="~PP3785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режим подготовки ребенка, не допускайте перегрузок, объясните ему, что он обязательно должен чередовать занятия с отды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ьте дома удобное место для занятий, проследите, чтобы никто из домашних не меш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1" name="~PP3785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3240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е внимание на питание ребенка: во время интенсивного умственного напряжения ему необходима питательная и разнообразная пища и сбалансированный комплекс витаминов. Такие продукты, как рыба, творог, орехи, курага и т.д. стимулируют работу головного моз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1" name="~PP3785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6:54:33Z</dcterms:created>
  <dc:creator>Имя</dc:creator>
  <dc:description/>
  <dc:language>en-US</dc:language>
  <cp:lastModifiedBy>user</cp:lastModifiedBy>
  <dcterms:modified xsi:type="dcterms:W3CDTF">2020-12-03T17:47:39Z</dcterms:modified>
  <cp:revision>33</cp:revision>
  <dc:subject/>
  <dc:title>Родительское собрание.</dc:title>
</cp:coreProperties>
</file>