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235-46E3-4380-9B6A-4DD5B9E5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EF1-D826-4934-A6AB-E9BC5FD2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54D-D585-4C28-A5FA-5AC89983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B32-A7AB-4FE8-A3A7-0C2E5695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19AB-2F59-4CDB-9EC9-B9722B2F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D155-E358-49C3-88A2-4FF49A98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A3CB-B642-4AB2-A607-31639CDB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4670-A40B-4DBA-B655-8B525063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A935-8E7E-4BBB-9298-75770498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FC5F-7022-40AB-8325-BA43098C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11EB-ADCD-4BF4-99C5-FAFEA57D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D3D-D5E8-4970-A589-8A6F3606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DA6E-4AE2-48B2-B23B-0FDE80E0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D930-EC78-4672-98BC-F099EA2F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FE84-8898-47FC-A736-875D668B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4F03-1E19-4AC9-8AF8-C7652942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8FAF-18B2-4C64-803F-0C8B6152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301-22FE-468C-9E63-9C7DDC7D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819-6093-46FC-8F19-4C36390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02D-F5AB-48B7-B75A-66F7FA13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D25-36EC-4EEA-9C85-B59995F2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0C2-33D5-446E-BFD9-1014ADE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506-716C-47B3-BB95-5671944D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36D-328F-4F83-A64E-657043D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965E-0F86-4EB2-91CF-EDAEE0BB58A5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EFBD-F273-4247-80F7-8C2704DF6B5E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1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СКАЗКА ОБ АММИАЧНОЙ СЕЛИТРЕ И ДЕДКЕ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68360" y="3179520"/>
            <a:ext cx="295128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3" name="Рисунок 12" descr=""/>
          <p:cNvPicPr/>
          <p:nvPr/>
        </p:nvPicPr>
        <p:blipFill>
          <a:blip r:embed="rId1"/>
          <a:stretch/>
        </p:blipFill>
        <p:spPr>
          <a:xfrm>
            <a:off x="4284720" y="1916280"/>
            <a:ext cx="28414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Жил-был дед. Решил как-то раз  смешать медный купорос в пробирке с нашатырным спиртом до слегка синеватого оттенка .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              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CuS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+2NH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OH =&gt; Cu(OH)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+(NH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S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Получил сульфат аммония смешал  с кальциевой селитрой  и получил осадок в виде сульфата кальция. Далее слил раствор из пробирки, в которой содержится аммиачная селитра.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(NH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S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+Ca(N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=&gt; 2NH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N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+CaSO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5" name="Объект 8" descr=""/>
          <p:cNvPicPr/>
          <p:nvPr/>
        </p:nvPicPr>
        <p:blipFill>
          <a:blip r:embed="rId1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25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Дед расстроился, что получил непонятный кристаллический порошок. И со зла рассыпал его по грядке с картошкой!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7" name="Объект 3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5411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-360" y="3428640"/>
            <a:ext cx="9001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шел на следующий день в огород и увидел грядку с высокой большой ботвой. Решил выкопать и посмотреть на картошку. Клубни картофеля были огромные! </a:t>
            </a: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”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благодаря лучшему усвоению фосфора, серы и бора корневой системой!</a:t>
            </a: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”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подумал дед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440532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107640" cy="31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радовался дед и задумал  поэкспериментировать. И понял, что эффективно применение аммиачной селитры с калийными и фосфорными удобрениями.</a:t>
            </a:r>
            <a:br>
              <a:rPr sz="2400"/>
            </a:b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1" name="Объект 3" descr=""/>
          <p:cNvPicPr/>
          <p:nvPr/>
        </p:nvPicPr>
        <p:blipFill>
          <a:blip r:embed="rId1"/>
          <a:stretch/>
        </p:blipFill>
        <p:spPr>
          <a:xfrm>
            <a:off x="1763640" y="2786040"/>
            <a:ext cx="55818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Объект 4" descr=""/>
          <p:cNvPicPr/>
          <p:nvPr/>
        </p:nvPicPr>
        <p:blipFill>
          <a:blip r:embed="rId1"/>
          <a:stretch/>
        </p:blipFill>
        <p:spPr>
          <a:xfrm>
            <a:off x="1214280" y="3429000"/>
            <a:ext cx="721548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йчас он продает всем жителям деревни минеральные удобрения. Аммиачную селитру он выпускает в виде кристаллического порошка или гранул, она не слеживается, имеет высокие показатели по растворимости в воде, применяется для всех видов почв и практически под все сельскохозяйственные культуры.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3:52:57Z</dcterms:created>
  <dc:creator>Home</dc:creator>
  <dc:description/>
  <dc:language>en-US</dc:language>
  <cp:lastModifiedBy>Преподаватель</cp:lastModifiedBy>
  <dcterms:modified xsi:type="dcterms:W3CDTF">2020-10-30T09:07:42Z</dcterms:modified>
  <cp:revision>18</cp:revision>
  <dc:subject/>
  <dc:title>Презентация PowerPoint</dc:title>
</cp:coreProperties>
</file>