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0.png" ContentType="image/png"/>
  <Override PartName="/ppt/media/image35.jpeg" ContentType="image/jpeg"/>
  <Override PartName="/ppt/media/image5.png" ContentType="image/png"/>
  <Override PartName="/ppt/media/image28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9AF4-68C6-4C8E-8B9F-C22B408F6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6A25-C169-454E-94A0-DFAD635CC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6FAF-5945-4F64-9C84-84D6E940B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651A-E8B9-4B40-AE8E-ADEA7A2F6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CCE4D-1AAD-42BB-9C78-CC6738C5D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763FE-9338-4FB9-A560-993EE8AE0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22EA1-0EDF-43E9-8F26-0D19B267C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50A41-C748-45CE-85D5-AD8AC7810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6E9D7-C219-4AE7-B3FF-F46A4A5E7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7ABC9-3AD5-420B-9204-8B31480E7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88F95-5B11-4512-BE87-EDB08051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4989-3638-4FB2-9B73-7865E6D4E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6204E-469E-43BE-B629-C5575C8F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532BA-8F28-4AD1-9CEF-D1C4577D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CD49E-ABA3-4899-842C-3D4840315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EF9AD-9C3C-4A4B-B65E-8E6C461AE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3DCA3-5113-42EE-8CF4-1B9C15C0E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5AE5-3C29-4DE1-BED6-E51E2C87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6D6B-31EF-4C52-93E7-82716DFD0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D92B-E815-446F-A39D-6B8071C70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82B5-8CAE-49B5-BB55-32920F7C8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70AE-95FD-4267-82AE-7D7F9B15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B80C-3F08-493C-855E-9C604CC2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BCC2-2A06-4D5D-B906-210D36B1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1.xml"/><Relationship Id="rId25" Type="http://schemas.openxmlformats.org/officeDocument/2006/relationships/slideLayout" Target="../slideLayouts/slideLayout2.xml"/><Relationship Id="rId26" Type="http://schemas.openxmlformats.org/officeDocument/2006/relationships/slideLayout" Target="../slideLayouts/slideLayout3.xml"/><Relationship Id="rId27" Type="http://schemas.openxmlformats.org/officeDocument/2006/relationships/slideLayout" Target="../slideLayouts/slideLayout4.xml"/><Relationship Id="rId28" Type="http://schemas.openxmlformats.org/officeDocument/2006/relationships/slideLayout" Target="../slideLayouts/slideLayout5.xml"/><Relationship Id="rId29" Type="http://schemas.openxmlformats.org/officeDocument/2006/relationships/slideLayout" Target="../slideLayouts/slideLayout6.xml"/><Relationship Id="rId30" Type="http://schemas.openxmlformats.org/officeDocument/2006/relationships/slideLayout" Target="../slideLayouts/slideLayout7.xml"/><Relationship Id="rId31" Type="http://schemas.openxmlformats.org/officeDocument/2006/relationships/slideLayout" Target="../slideLayouts/slideLayout8.xml"/><Relationship Id="rId32" Type="http://schemas.openxmlformats.org/officeDocument/2006/relationships/slideLayout" Target="../slideLayouts/slideLayout9.xml"/><Relationship Id="rId33" Type="http://schemas.openxmlformats.org/officeDocument/2006/relationships/slideLayout" Target="../slideLayouts/slideLayout10.xml"/><Relationship Id="rId34" Type="http://schemas.openxmlformats.org/officeDocument/2006/relationships/slideLayout" Target="../slideLayouts/slideLayout11.xml"/><Relationship Id="rId3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7.png"/><Relationship Id="rId30" Type="http://schemas.openxmlformats.org/officeDocument/2006/relationships/image" Target="../media/image28.png"/><Relationship Id="rId31" Type="http://schemas.openxmlformats.org/officeDocument/2006/relationships/image" Target="../media/image29.png"/><Relationship Id="rId32" Type="http://schemas.openxmlformats.org/officeDocument/2006/relationships/slideLayout" Target="../slideLayouts/slideLayout13.xml"/><Relationship Id="rId33" Type="http://schemas.openxmlformats.org/officeDocument/2006/relationships/slideLayout" Target="../slideLayouts/slideLayout14.xml"/><Relationship Id="rId34" Type="http://schemas.openxmlformats.org/officeDocument/2006/relationships/slideLayout" Target="../slideLayouts/slideLayout15.xml"/><Relationship Id="rId35" Type="http://schemas.openxmlformats.org/officeDocument/2006/relationships/slideLayout" Target="../slideLayouts/slideLayout16.xml"/><Relationship Id="rId36" Type="http://schemas.openxmlformats.org/officeDocument/2006/relationships/slideLayout" Target="../slideLayouts/slideLayout17.xml"/><Relationship Id="rId37" Type="http://schemas.openxmlformats.org/officeDocument/2006/relationships/slideLayout" Target="../slideLayouts/slideLayout18.xml"/><Relationship Id="rId38" Type="http://schemas.openxmlformats.org/officeDocument/2006/relationships/slideLayout" Target="../slideLayouts/slideLayout19.xml"/><Relationship Id="rId39" Type="http://schemas.openxmlformats.org/officeDocument/2006/relationships/slideLayout" Target="../slideLayouts/slideLayout20.xml"/><Relationship Id="rId40" Type="http://schemas.openxmlformats.org/officeDocument/2006/relationships/slideLayout" Target="../slideLayouts/slideLayout21.xml"/><Relationship Id="rId41" Type="http://schemas.openxmlformats.org/officeDocument/2006/relationships/slideLayout" Target="../slideLayouts/slideLayout22.xml"/><Relationship Id="rId42" Type="http://schemas.openxmlformats.org/officeDocument/2006/relationships/slideLayout" Target="../slideLayouts/slideLayout23.xml"/><Relationship Id="rId4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1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2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1440"/>
                <a:ext cx="1523880" cy="137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0840" y="1588680"/>
                <a:ext cx="1434600" cy="13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39640"/>
                <a:ext cx="1523880" cy="142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65520" y="419040"/>
                <a:ext cx="1815840" cy="169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76240" y="3408480"/>
                <a:ext cx="1881360" cy="168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78920" y="4833000"/>
                <a:ext cx="1649160" cy="150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9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19880" y="241920"/>
                <a:ext cx="1644840" cy="16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03040" y="620640"/>
                <a:ext cx="1146600" cy="116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Freeform 73"/>
              <p:cNvSpPr/>
              <p:nvPr/>
            </p:nvSpPr>
            <p:spPr>
              <a:xfrm rot="1542000">
                <a:off x="7035120" y="3759840"/>
                <a:ext cx="1440" cy="1440"/>
              </a:xfrm>
              <a:prstGeom prst="pie">
                <a:avLst/>
              </a:pr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57280" y="4217400"/>
                <a:ext cx="1212840" cy="118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37640"/>
                <a:ext cx="1338840" cy="162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59120"/>
                <a:ext cx="1086480" cy="140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03120" y="5593320"/>
                <a:ext cx="1891080" cy="126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57280" y="1623240"/>
                <a:ext cx="1386720" cy="171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43160" y="5849640"/>
                <a:ext cx="1368720" cy="97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19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30640" y="2735280"/>
                <a:ext cx="1465920" cy="34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78960" y="5717520"/>
                <a:ext cx="1151640" cy="1069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03480" y="985680"/>
                <a:ext cx="1712160" cy="162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17360" y="3697200"/>
                <a:ext cx="973080" cy="84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9320"/>
                <a:ext cx="1336680" cy="149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14520"/>
                <a:ext cx="1219680" cy="135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41200" y="0"/>
                <a:ext cx="1293480" cy="98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08160" y="973800"/>
                <a:ext cx="843840" cy="1064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38D11-0E8E-47FE-BF48-11E70850570C}" type="slidenum">
              <a:rPr b="0" lang="ru-RU" sz="1800" spc="-1" strike="noStrike">
                <a:solidFill>
                  <a:srgbClr val="40404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4"/>
    <p:sldLayoutId id="2147483650" r:id="rId25"/>
    <p:sldLayoutId id="2147483651" r:id="rId26"/>
    <p:sldLayoutId id="2147483652" r:id="rId27"/>
    <p:sldLayoutId id="2147483653" r:id="rId28"/>
    <p:sldLayoutId id="2147483654" r:id="rId29"/>
    <p:sldLayoutId id="2147483655" r:id="rId30"/>
    <p:sldLayoutId id="2147483656" r:id="rId31"/>
    <p:sldLayoutId id="2147483657" r:id="rId32"/>
    <p:sldLayoutId id="2147483658" r:id="rId33"/>
    <p:sldLayoutId id="2147483659" r:id="rId34"/>
    <p:sldLayoutId id="2147483660" r:id="rId3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69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70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1440"/>
                <a:ext cx="1523880" cy="137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0840" y="1588680"/>
                <a:ext cx="1434600" cy="13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39640"/>
                <a:ext cx="1523880" cy="142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65520" y="419040"/>
                <a:ext cx="1815840" cy="169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76240" y="3408480"/>
                <a:ext cx="1881360" cy="168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78920" y="4833000"/>
                <a:ext cx="1649160" cy="150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6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77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19880" y="241920"/>
                <a:ext cx="1644840" cy="16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03040" y="620640"/>
                <a:ext cx="1146600" cy="116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Freeform 73"/>
              <p:cNvSpPr/>
              <p:nvPr/>
            </p:nvSpPr>
            <p:spPr>
              <a:xfrm rot="1542000">
                <a:off x="7035120" y="3759840"/>
                <a:ext cx="1440" cy="1440"/>
              </a:xfrm>
              <a:prstGeom prst="pie">
                <a:avLst/>
              </a:pr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0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57280" y="4217400"/>
                <a:ext cx="1212840" cy="118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37640"/>
                <a:ext cx="1338840" cy="162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59120"/>
                <a:ext cx="1086480" cy="140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03120" y="5593320"/>
                <a:ext cx="1891080" cy="126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57280" y="1623240"/>
                <a:ext cx="1386720" cy="171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43160" y="5849640"/>
                <a:ext cx="1368720" cy="97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6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87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30640" y="2735280"/>
                <a:ext cx="1465920" cy="34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78960" y="5717520"/>
                <a:ext cx="1151640" cy="1069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03480" y="985680"/>
                <a:ext cx="1712160" cy="162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17360" y="3697200"/>
                <a:ext cx="973080" cy="84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9320"/>
                <a:ext cx="1336680" cy="149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14520"/>
                <a:ext cx="1219680" cy="135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41200" y="0"/>
                <a:ext cx="1293480" cy="98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08160" y="973800"/>
                <a:ext cx="843840" cy="1064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95" name="Group 16"/>
          <p:cNvGrpSpPr/>
          <p:nvPr/>
        </p:nvGrpSpPr>
        <p:grpSpPr>
          <a:xfrm>
            <a:off x="4718160" y="993600"/>
            <a:ext cx="1847880" cy="1530360"/>
            <a:chOff x="4718160" y="993600"/>
            <a:chExt cx="1847880" cy="1530360"/>
          </a:xfrm>
        </p:grpSpPr>
        <p:grpSp>
          <p:nvGrpSpPr>
            <p:cNvPr id="96" name="Oval 31"/>
            <p:cNvGrpSpPr/>
            <p:nvPr/>
          </p:nvGrpSpPr>
          <p:grpSpPr>
            <a:xfrm>
              <a:off x="5463360" y="1426680"/>
              <a:ext cx="1102680" cy="1097280"/>
              <a:chOff x="5463360" y="1426680"/>
              <a:chExt cx="1102680" cy="1097280"/>
            </a:xfrm>
          </p:grpSpPr>
          <p:pic>
            <p:nvPicPr>
              <p:cNvPr id="97" name="Oval 31" descr=""/>
              <p:cNvPicPr/>
              <p:nvPr/>
            </p:nvPicPr>
            <p:blipFill>
              <a:blip r:embed="rId24"/>
              <a:stretch/>
            </p:blipFill>
            <p:spPr>
              <a:xfrm>
                <a:off x="5463360" y="1426680"/>
                <a:ext cx="1102680" cy="109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"/>
              <p:cNvSpPr/>
              <p:nvPr/>
            </p:nvSpPr>
            <p:spPr>
              <a:xfrm>
                <a:off x="5641200" y="1604160"/>
                <a:ext cx="751680" cy="74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Oval 32"/>
            <p:cNvGrpSpPr/>
            <p:nvPr/>
          </p:nvGrpSpPr>
          <p:grpSpPr>
            <a:xfrm>
              <a:off x="5630040" y="1402920"/>
              <a:ext cx="852480" cy="848160"/>
              <a:chOff x="5630040" y="1402920"/>
              <a:chExt cx="852480" cy="848160"/>
            </a:xfrm>
          </p:grpSpPr>
          <p:pic>
            <p:nvPicPr>
              <p:cNvPr id="100" name="Oval 32" descr=""/>
              <p:cNvPicPr/>
              <p:nvPr/>
            </p:nvPicPr>
            <p:blipFill>
              <a:blip r:embed="rId25"/>
              <a:stretch/>
            </p:blipFill>
            <p:spPr>
              <a:xfrm>
                <a:off x="5630040" y="1402920"/>
                <a:ext cx="852480" cy="84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5771880" y="1542960"/>
                <a:ext cx="574560" cy="57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Oval 28"/>
            <p:cNvGrpSpPr/>
            <p:nvPr/>
          </p:nvGrpSpPr>
          <p:grpSpPr>
            <a:xfrm>
              <a:off x="5242680" y="1871640"/>
              <a:ext cx="631800" cy="628560"/>
              <a:chOff x="5242680" y="1871640"/>
              <a:chExt cx="631800" cy="628560"/>
            </a:xfrm>
          </p:grpSpPr>
          <p:pic>
            <p:nvPicPr>
              <p:cNvPr id="103" name="Oval 28" descr=""/>
              <p:cNvPicPr/>
              <p:nvPr/>
            </p:nvPicPr>
            <p:blipFill>
              <a:blip r:embed="rId26"/>
              <a:stretch/>
            </p:blipFill>
            <p:spPr>
              <a:xfrm>
                <a:off x="5242680" y="1871640"/>
                <a:ext cx="631800" cy="62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>
                <a:off x="5353560" y="1980360"/>
                <a:ext cx="41652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Oval 30"/>
            <p:cNvGrpSpPr/>
            <p:nvPr/>
          </p:nvGrpSpPr>
          <p:grpSpPr>
            <a:xfrm>
              <a:off x="5409720" y="1788480"/>
              <a:ext cx="518400" cy="522000"/>
              <a:chOff x="5409720" y="1788480"/>
              <a:chExt cx="518400" cy="522000"/>
            </a:xfrm>
          </p:grpSpPr>
          <p:pic>
            <p:nvPicPr>
              <p:cNvPr id="106" name="Oval 30" descr=""/>
              <p:cNvPicPr/>
              <p:nvPr/>
            </p:nvPicPr>
            <p:blipFill>
              <a:blip r:embed="rId27"/>
              <a:stretch/>
            </p:blipFill>
            <p:spPr>
              <a:xfrm>
                <a:off x="5409720" y="1788480"/>
                <a:ext cx="518400" cy="52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5501880" y="1883160"/>
                <a:ext cx="338400" cy="33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Oval 27"/>
            <p:cNvGrpSpPr/>
            <p:nvPr/>
          </p:nvGrpSpPr>
          <p:grpSpPr>
            <a:xfrm>
              <a:off x="4718160" y="2055600"/>
              <a:ext cx="291960" cy="290520"/>
              <a:chOff x="4718160" y="2055600"/>
              <a:chExt cx="291960" cy="290520"/>
            </a:xfrm>
          </p:grpSpPr>
          <p:pic>
            <p:nvPicPr>
              <p:cNvPr id="109" name="Oval 27" descr=""/>
              <p:cNvPicPr/>
              <p:nvPr/>
            </p:nvPicPr>
            <p:blipFill>
              <a:blip r:embed="rId28"/>
              <a:stretch/>
            </p:blipFill>
            <p:spPr>
              <a:xfrm>
                <a:off x="4718160" y="2055600"/>
                <a:ext cx="291960" cy="29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4778280" y="2115000"/>
                <a:ext cx="177480" cy="17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Oval 29"/>
            <p:cNvGrpSpPr/>
            <p:nvPr/>
          </p:nvGrpSpPr>
          <p:grpSpPr>
            <a:xfrm>
              <a:off x="6101280" y="993600"/>
              <a:ext cx="291960" cy="290520"/>
              <a:chOff x="6101280" y="993600"/>
              <a:chExt cx="291960" cy="290520"/>
            </a:xfrm>
          </p:grpSpPr>
          <p:pic>
            <p:nvPicPr>
              <p:cNvPr id="112" name="Oval 29" descr=""/>
              <p:cNvPicPr/>
              <p:nvPr/>
            </p:nvPicPr>
            <p:blipFill>
              <a:blip r:embed="rId29"/>
              <a:stretch/>
            </p:blipFill>
            <p:spPr>
              <a:xfrm>
                <a:off x="6101280" y="993600"/>
                <a:ext cx="291960" cy="29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6161040" y="1053720"/>
                <a:ext cx="177480" cy="17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Oval 33"/>
            <p:cNvGrpSpPr/>
            <p:nvPr/>
          </p:nvGrpSpPr>
          <p:grpSpPr>
            <a:xfrm>
              <a:off x="5051880" y="1871640"/>
              <a:ext cx="232200" cy="231120"/>
              <a:chOff x="5051880" y="1871640"/>
              <a:chExt cx="232200" cy="231120"/>
            </a:xfrm>
          </p:grpSpPr>
          <p:pic>
            <p:nvPicPr>
              <p:cNvPr id="115" name="Oval 33" descr=""/>
              <p:cNvPicPr/>
              <p:nvPr/>
            </p:nvPicPr>
            <p:blipFill>
              <a:blip r:embed="rId30"/>
              <a:stretch/>
            </p:blipFill>
            <p:spPr>
              <a:xfrm>
                <a:off x="5051880" y="1871640"/>
                <a:ext cx="232200" cy="231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5103360" y="1922760"/>
                <a:ext cx="136440" cy="1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Oval 34"/>
            <p:cNvGrpSpPr/>
            <p:nvPr/>
          </p:nvGrpSpPr>
          <p:grpSpPr>
            <a:xfrm>
              <a:off x="6118920" y="1058760"/>
              <a:ext cx="232200" cy="237240"/>
              <a:chOff x="6118920" y="1058760"/>
              <a:chExt cx="232200" cy="237240"/>
            </a:xfrm>
          </p:grpSpPr>
          <p:pic>
            <p:nvPicPr>
              <p:cNvPr id="118" name="Oval 34" descr=""/>
              <p:cNvPicPr/>
              <p:nvPr/>
            </p:nvPicPr>
            <p:blipFill>
              <a:blip r:embed="rId31"/>
              <a:stretch/>
            </p:blipFill>
            <p:spPr>
              <a:xfrm>
                <a:off x="6118920" y="1058760"/>
                <a:ext cx="232200" cy="237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6168600" y="1110960"/>
                <a:ext cx="136440" cy="1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C1A8B-B0FB-4F68-A36F-1F31A35170FE}" type="slidenum">
              <a:rPr b="0" lang="ru-RU" sz="1800" spc="-1" strike="noStrike">
                <a:solidFill>
                  <a:srgbClr val="40404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2"/>
    <p:sldLayoutId id="2147483663" r:id="rId33"/>
    <p:sldLayoutId id="2147483664" r:id="rId34"/>
    <p:sldLayoutId id="2147483665" r:id="rId35"/>
    <p:sldLayoutId id="2147483666" r:id="rId36"/>
    <p:sldLayoutId id="2147483667" r:id="rId37"/>
    <p:sldLayoutId id="2147483668" r:id="rId38"/>
    <p:sldLayoutId id="2147483669" r:id="rId39"/>
    <p:sldLayoutId id="2147483670" r:id="rId40"/>
    <p:sldLayoutId id="2147483671" r:id="rId41"/>
    <p:sldLayoutId id="2147483672" r:id="rId42"/>
    <p:sldLayoutId id="2147483673" r:id="rId4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414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Arial"/>
                <a:ea typeface="Arial"/>
              </a:rPr>
              <a:t>СКАЗКА ОБ АММИАЧНОЙ СЕЛИТРЕ И ДЕДКЕ</a:t>
            </a: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68360" y="3179520"/>
            <a:ext cx="2951280" cy="30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63" name="Рисунок 12" descr=""/>
          <p:cNvPicPr/>
          <p:nvPr/>
        </p:nvPicPr>
        <p:blipFill>
          <a:blip r:embed="rId1"/>
          <a:stretch/>
        </p:blipFill>
        <p:spPr>
          <a:xfrm>
            <a:off x="4284720" y="1916280"/>
            <a:ext cx="2841480" cy="43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31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Жил-был дед. Решил как-то раз  смешать медный купорос в пробирке с нашатырным спиртом до слегка синеватого оттенка . 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                  </a:t>
            </a: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CuSO</a:t>
            </a:r>
            <a:r>
              <a:rPr b="0" lang="ru-RU" sz="2000" spc="-1" strike="noStrike" baseline="-25000">
                <a:solidFill>
                  <a:srgbClr val="404040"/>
                </a:solidFill>
                <a:latin typeface="Arial"/>
                <a:ea typeface="Arial"/>
              </a:rPr>
              <a:t>4</a:t>
            </a: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+2NH</a:t>
            </a:r>
            <a:r>
              <a:rPr b="0" lang="ru-RU" sz="2000" spc="-1" strike="noStrike" baseline="-25000">
                <a:solidFill>
                  <a:srgbClr val="404040"/>
                </a:solidFill>
                <a:latin typeface="Arial"/>
                <a:ea typeface="Arial"/>
              </a:rPr>
              <a:t>4</a:t>
            </a: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OH =&gt; Cu(OH)</a:t>
            </a:r>
            <a:r>
              <a:rPr b="0" lang="ru-RU" sz="2000" spc="-1" strike="noStrike" baseline="-25000">
                <a:solidFill>
                  <a:srgbClr val="404040"/>
                </a:solidFill>
                <a:latin typeface="Arial"/>
                <a:ea typeface="Arial"/>
              </a:rPr>
              <a:t>2</a:t>
            </a: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+(NH</a:t>
            </a:r>
            <a:r>
              <a:rPr b="0" lang="ru-RU" sz="2000" spc="-1" strike="noStrike" baseline="-25000">
                <a:solidFill>
                  <a:srgbClr val="404040"/>
                </a:solidFill>
                <a:latin typeface="Arial"/>
                <a:ea typeface="Arial"/>
              </a:rPr>
              <a:t>4</a:t>
            </a: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)</a:t>
            </a:r>
            <a:r>
              <a:rPr b="0" lang="ru-RU" sz="2000" spc="-1" strike="noStrike" baseline="-25000">
                <a:solidFill>
                  <a:srgbClr val="404040"/>
                </a:solidFill>
                <a:latin typeface="Arial"/>
                <a:ea typeface="Arial"/>
              </a:rPr>
              <a:t>2</a:t>
            </a: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SO</a:t>
            </a:r>
            <a:r>
              <a:rPr b="0" lang="ru-RU" sz="2000" spc="-1" strike="noStrike" baseline="-25000">
                <a:solidFill>
                  <a:srgbClr val="404040"/>
                </a:solidFill>
                <a:latin typeface="Arial"/>
                <a:ea typeface="Arial"/>
              </a:rPr>
              <a:t>4</a:t>
            </a: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Получил сульфат аммония смешал  с кальциевой селитрой  и получил осадок в виде сульфата кальция. Далее слил раствор из пробирки, в которой содержится аммиачная селитра. 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(NH</a:t>
            </a:r>
            <a:r>
              <a:rPr b="0" lang="ru-RU" sz="2000" spc="-1" strike="noStrike" baseline="-25000">
                <a:solidFill>
                  <a:srgbClr val="404040"/>
                </a:solidFill>
                <a:latin typeface="Arial"/>
                <a:ea typeface="Arial"/>
              </a:rPr>
              <a:t>4</a:t>
            </a: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)</a:t>
            </a:r>
            <a:r>
              <a:rPr b="0" lang="ru-RU" sz="2000" spc="-1" strike="noStrike" baseline="-25000">
                <a:solidFill>
                  <a:srgbClr val="404040"/>
                </a:solidFill>
                <a:latin typeface="Arial"/>
                <a:ea typeface="Arial"/>
              </a:rPr>
              <a:t>2</a:t>
            </a: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SO</a:t>
            </a:r>
            <a:r>
              <a:rPr b="0" lang="ru-RU" sz="2000" spc="-1" strike="noStrike" baseline="-25000">
                <a:solidFill>
                  <a:srgbClr val="404040"/>
                </a:solidFill>
                <a:latin typeface="Arial"/>
                <a:ea typeface="Arial"/>
              </a:rPr>
              <a:t>4</a:t>
            </a: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+Ca(NO</a:t>
            </a:r>
            <a:r>
              <a:rPr b="0" lang="ru-RU" sz="2000" spc="-1" strike="noStrike" baseline="-25000">
                <a:solidFill>
                  <a:srgbClr val="404040"/>
                </a:solidFill>
                <a:latin typeface="Arial"/>
                <a:ea typeface="Arial"/>
              </a:rPr>
              <a:t>3</a:t>
            </a: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)</a:t>
            </a:r>
            <a:r>
              <a:rPr b="0" lang="ru-RU" sz="2000" spc="-1" strike="noStrike" baseline="-25000">
                <a:solidFill>
                  <a:srgbClr val="404040"/>
                </a:solidFill>
                <a:latin typeface="Arial"/>
                <a:ea typeface="Arial"/>
              </a:rPr>
              <a:t>2</a:t>
            </a: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 =&gt; 2NH</a:t>
            </a:r>
            <a:r>
              <a:rPr b="0" lang="ru-RU" sz="2000" spc="-1" strike="noStrike" baseline="-25000">
                <a:solidFill>
                  <a:srgbClr val="404040"/>
                </a:solidFill>
                <a:latin typeface="Arial"/>
                <a:ea typeface="Arial"/>
              </a:rPr>
              <a:t>4</a:t>
            </a: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NO</a:t>
            </a:r>
            <a:r>
              <a:rPr b="0" lang="ru-RU" sz="2000" spc="-1" strike="noStrike" baseline="-25000">
                <a:solidFill>
                  <a:srgbClr val="404040"/>
                </a:solidFill>
                <a:latin typeface="Arial"/>
                <a:ea typeface="Arial"/>
              </a:rPr>
              <a:t>3</a:t>
            </a: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+CaSO</a:t>
            </a:r>
            <a:r>
              <a:rPr b="0" lang="ru-RU" sz="2000" spc="-1" strike="noStrike" baseline="-25000">
                <a:solidFill>
                  <a:srgbClr val="404040"/>
                </a:solidFill>
                <a:latin typeface="Arial"/>
                <a:ea typeface="Arial"/>
              </a:rPr>
              <a:t>4</a:t>
            </a:r>
            <a:r>
              <a:rPr b="0" lang="ru-RU" sz="1800" spc="-1" strike="noStrike">
                <a:solidFill>
                  <a:srgbClr val="404040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65" name="Объект 8" descr=""/>
          <p:cNvPicPr/>
          <p:nvPr/>
        </p:nvPicPr>
        <p:blipFill>
          <a:blip r:embed="rId1"/>
          <a:stretch/>
        </p:blipFill>
        <p:spPr>
          <a:xfrm>
            <a:off x="4140360" y="3105000"/>
            <a:ext cx="500364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229600" cy="257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Дед расстроился, что получил непонятный кристаллический порошок. И со зла рассыпал его по грядке с картошкой!</a:t>
            </a:r>
            <a:br>
              <a:rPr sz="2400"/>
            </a:b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67" name="Объект 3" descr=""/>
          <p:cNvPicPr/>
          <p:nvPr/>
        </p:nvPicPr>
        <p:blipFill>
          <a:blip r:embed="rId1"/>
          <a:stretch/>
        </p:blipFill>
        <p:spPr>
          <a:xfrm>
            <a:off x="1979640" y="2565360"/>
            <a:ext cx="54118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-360" y="3428640"/>
            <a:ext cx="900108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шел на следующий день в огород и увидел грядку с высокой большой ботвой. Решил выкопать и посмотреть на картошку. Клубни картофеля были огромные! </a:t>
            </a:r>
            <a:r>
              <a:rPr b="0" lang="en-US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”</a:t>
            </a: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то благодаря лучшему усвоению фосфора, серы и бора корневой системой!</a:t>
            </a:r>
            <a:r>
              <a:rPr b="0" lang="en-US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”</a:t>
            </a: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- подумал дед.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4572000" y="214200"/>
            <a:ext cx="4405320" cy="32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107640" cy="317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радовался дед и задумал  поэкспериментировать. И понял, что эффективно применение аммиачной селитры с калийными и фосфорными удобрениями.</a:t>
            </a:r>
            <a:br>
              <a:rPr sz="2400"/>
            </a:br>
            <a:endParaRPr b="0" lang="en-US" sz="36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71" name="Объект 3" descr=""/>
          <p:cNvPicPr/>
          <p:nvPr/>
        </p:nvPicPr>
        <p:blipFill>
          <a:blip r:embed="rId1"/>
          <a:stretch/>
        </p:blipFill>
        <p:spPr>
          <a:xfrm>
            <a:off x="1763640" y="2786040"/>
            <a:ext cx="558180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Объект 4" descr=""/>
          <p:cNvPicPr/>
          <p:nvPr/>
        </p:nvPicPr>
        <p:blipFill>
          <a:blip r:embed="rId1"/>
          <a:stretch/>
        </p:blipFill>
        <p:spPr>
          <a:xfrm>
            <a:off x="1214280" y="3429000"/>
            <a:ext cx="7215480" cy="3429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   </a:t>
            </a: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ейчас он продает всем жителям деревни минеральные удобрения. Аммиачную селитру он выпускает в виде кристаллического порошка или гранул, она не слеживается, имеет высокие показатели по растворимости в воде, применяется для всех видов почв и практически под все сельскохозяйственные культуры. 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6T13:52:57Z</dcterms:created>
  <dc:creator>Home</dc:creator>
  <dc:description/>
  <dc:language>en-US</dc:language>
  <cp:lastModifiedBy>Преподаватель</cp:lastModifiedBy>
  <dcterms:modified xsi:type="dcterms:W3CDTF">2020-10-30T09:07:42Z</dcterms:modified>
  <cp:revision>18</cp:revision>
  <dc:subject/>
  <dc:title>Презентация PowerPoint</dc:title>
</cp:coreProperties>
</file>