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7.jpeg" ContentType="image/jpeg"/>
  <Override PartName="/ppt/media/image9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8.png" ContentType="image/png"/>
  <Override PartName="/ppt/media/image30.png" ContentType="image/png"/>
  <Override PartName="/ppt/media/image31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5456-C7AA-4D45-9BCE-BA82E93C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65440" y="365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f9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65440" y="1825200"/>
            <a:ext cx="5087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65440" y="4098240"/>
            <a:ext cx="5087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FD5-1EA2-41BE-9688-A4A60276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65440" y="365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f9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65440" y="1825200"/>
            <a:ext cx="2482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72560" y="1825200"/>
            <a:ext cx="2482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65440" y="4098240"/>
            <a:ext cx="2482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872560" y="4098240"/>
            <a:ext cx="2482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5A2-0766-4F48-8FD7-5ACB0501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65440" y="365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f9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65440" y="1825200"/>
            <a:ext cx="1638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85880" y="1825200"/>
            <a:ext cx="1638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705960" y="1825200"/>
            <a:ext cx="1638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65440" y="4098240"/>
            <a:ext cx="1638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85880" y="4098240"/>
            <a:ext cx="1638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705960" y="4098240"/>
            <a:ext cx="1638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CBBB-6474-49C2-892C-FD01BD03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65440" y="365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f9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65440" y="1825200"/>
            <a:ext cx="5087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612-2D6B-4C4F-916C-745AE5B3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65440" y="365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f9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65440" y="1825200"/>
            <a:ext cx="5087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98EB-DBAE-405D-BC53-E2191E5C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65440" y="365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f9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65440" y="1825200"/>
            <a:ext cx="2482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72560" y="1825200"/>
            <a:ext cx="2482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96C-6FCD-419A-8E5F-D11E8624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65440" y="365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f9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0F2A-A891-40B9-96C2-5E324BB5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65440" y="365040"/>
            <a:ext cx="5087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9AB-9A96-4E9C-8A58-C6B158C6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65440" y="365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f9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65440" y="1825200"/>
            <a:ext cx="2482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872560" y="1825200"/>
            <a:ext cx="2482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65440" y="4098240"/>
            <a:ext cx="2482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568-A238-4C33-9D4D-C754D139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65440" y="365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f9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65440" y="1825200"/>
            <a:ext cx="2482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872560" y="1825200"/>
            <a:ext cx="2482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872560" y="4098240"/>
            <a:ext cx="2482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1430-D994-4352-B783-DE2966AF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65440" y="365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f9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65440" y="1825200"/>
            <a:ext cx="2482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872560" y="1825200"/>
            <a:ext cx="2482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65440" y="4098240"/>
            <a:ext cx="5087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D634-CB90-444B-B32D-562CC3EE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65440" y="365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f90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bf9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65440" y="1825200"/>
            <a:ext cx="5087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07D7-F44C-41CE-81A2-B3C2DCB8F0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3" descr=""/>
          <p:cNvPicPr/>
          <p:nvPr/>
        </p:nvPicPr>
        <p:blipFill>
          <a:blip r:embed="rId1"/>
          <a:stretch/>
        </p:blipFill>
        <p:spPr>
          <a:xfrm>
            <a:off x="1255680" y="1523880"/>
            <a:ext cx="471816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6478560" y="1319040"/>
            <a:ext cx="459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43c0c"/>
                </a:solidFill>
                <a:latin typeface="Times New Roman"/>
              </a:rPr>
              <a:t>Придумано кем-то просто и мудр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43c0c"/>
                </a:solidFill>
                <a:latin typeface="Times New Roman"/>
              </a:rPr>
              <a:t>При встрече здоровать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43c0c"/>
                </a:solidFill>
                <a:latin typeface="Times New Roman"/>
              </a:rPr>
              <a:t>- Доброе утр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43c0c"/>
                </a:solidFill>
                <a:latin typeface="Times New Roman"/>
              </a:rPr>
              <a:t>- Доброе утро! </a:t>
            </a:r>
            <a:r>
              <a:rPr b="1" lang="ru-RU" sz="2400" spc="-1" strike="noStrike">
                <a:solidFill>
                  <a:srgbClr val="843c0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843c0c"/>
                </a:solidFill>
                <a:latin typeface="Times New Roman"/>
              </a:rPr>
              <a:t> солнцу и птиц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43c0c"/>
                </a:solidFill>
                <a:latin typeface="Times New Roman"/>
              </a:rPr>
              <a:t>- Доброе утро! </a:t>
            </a:r>
            <a:r>
              <a:rPr b="1" lang="ru-RU" sz="2400" spc="-1" strike="noStrike">
                <a:solidFill>
                  <a:srgbClr val="843c0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843c0c"/>
                </a:solidFill>
                <a:latin typeface="Times New Roman"/>
              </a:rPr>
              <a:t> улыбчивым лиц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43c0c"/>
                </a:solidFill>
                <a:latin typeface="Times New Roman"/>
              </a:rPr>
              <a:t>И каждый становится добрым, доверчивым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43c0c"/>
                </a:solidFill>
                <a:latin typeface="Times New Roman"/>
              </a:rPr>
              <a:t>Доброе утро длится до вечера.      (В.Кривошее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https://fs00.infourok.ru/images/doc/251/256557/2/img9.jpg"/>
          <p:cNvPicPr/>
          <p:nvPr/>
        </p:nvPicPr>
        <p:blipFill>
          <a:blip r:embed="rId1"/>
          <a:stretch/>
        </p:blipFill>
        <p:spPr>
          <a:xfrm>
            <a:off x="6437160" y="2509920"/>
            <a:ext cx="4900680" cy="3674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s://ds03.infourok.ru/uploads/ex/0f49/00025938-ce633a3a/hello_html_m7649840a.jpg"/>
          <p:cNvPicPr/>
          <p:nvPr/>
        </p:nvPicPr>
        <p:blipFill>
          <a:blip r:embed="rId2"/>
          <a:stretch/>
        </p:blipFill>
        <p:spPr>
          <a:xfrm>
            <a:off x="768240" y="378000"/>
            <a:ext cx="3803760" cy="3081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static.ozone.ru/multimedia/1007566816.jpg"/>
          <p:cNvPicPr/>
          <p:nvPr/>
        </p:nvPicPr>
        <p:blipFill>
          <a:blip r:embed="rId3"/>
          <a:stretch/>
        </p:blipFill>
        <p:spPr>
          <a:xfrm>
            <a:off x="1568520" y="1968480"/>
            <a:ext cx="4605120" cy="4605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ttp://nemaloknig.info/picimg/255/2552/25525/255258/cover.jpg"/>
          <p:cNvPicPr/>
          <p:nvPr/>
        </p:nvPicPr>
        <p:blipFill>
          <a:blip r:embed="rId4"/>
          <a:stretch/>
        </p:blipFill>
        <p:spPr>
          <a:xfrm>
            <a:off x="7281720" y="173160"/>
            <a:ext cx="3575160" cy="5181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ttp://s.f.kz/prod/153/152776_550.jpg"/>
          <p:cNvPicPr/>
          <p:nvPr/>
        </p:nvPicPr>
        <p:blipFill>
          <a:blip r:embed="rId5"/>
          <a:stretch/>
        </p:blipFill>
        <p:spPr>
          <a:xfrm>
            <a:off x="3137040" y="493560"/>
            <a:ext cx="4200480" cy="5239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http://vitanova.ru/img/catalog/photo2605.gif"/>
          <p:cNvPicPr/>
          <p:nvPr/>
        </p:nvPicPr>
        <p:blipFill>
          <a:blip r:embed="rId6"/>
          <a:stretch/>
        </p:blipFill>
        <p:spPr>
          <a:xfrm>
            <a:off x="766800" y="741240"/>
            <a:ext cx="4486320" cy="5726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4" descr=""/>
          <p:cNvPicPr/>
          <p:nvPr/>
        </p:nvPicPr>
        <p:blipFill>
          <a:blip r:embed="rId1"/>
          <a:stretch/>
        </p:blipFill>
        <p:spPr>
          <a:xfrm>
            <a:off x="835200" y="450720"/>
            <a:ext cx="3944880" cy="744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img-fotki.yandex.ru/get/9110/47407354.f17/0_16993a_2eea8e8_orig.png"/>
          <p:cNvPicPr/>
          <p:nvPr/>
        </p:nvPicPr>
        <p:blipFill>
          <a:blip r:embed="rId2"/>
          <a:stretch/>
        </p:blipFill>
        <p:spPr>
          <a:xfrm>
            <a:off x="1087560" y="1754280"/>
            <a:ext cx="3936960" cy="3994200"/>
          </a:xfrm>
          <a:prstGeom prst="rect">
            <a:avLst/>
          </a:prstGeom>
          <a:ln w="0">
            <a:noFill/>
          </a:ln>
        </p:spPr>
      </p:pic>
      <p:pic>
        <p:nvPicPr>
          <p:cNvPr id="96" name="Заголовок 2" descr=""/>
          <p:cNvPicPr/>
          <p:nvPr/>
        </p:nvPicPr>
        <p:blipFill>
          <a:blip r:embed="rId3"/>
          <a:stretch/>
        </p:blipFill>
        <p:spPr>
          <a:xfrm>
            <a:off x="6303960" y="476280"/>
            <a:ext cx="5205240" cy="11145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6783480" y="2844720"/>
            <a:ext cx="4189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ть мини-сочинение к картине «Опять двойка»-придумать продол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Dorogoj_dobra_-_idi_moj_drug_vsegda_dorogoyu_dobra.mp3" descr=""/>
          <p:cNvPicPr/>
          <p:nvPr/>
        </p:nvPicPr>
        <p:blipFill>
          <a:blip r:embed="rId4"/>
          <a:stretch/>
        </p:blipFill>
        <p:spPr>
          <a:xfrm>
            <a:off x="4937040" y="5608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3768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682560" y="255600"/>
            <a:ext cx="5102280" cy="13352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1103400" y="1178640"/>
            <a:ext cx="4584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Что значит прощать других люде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). Это значит не держать обиды на другого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. Верны все отв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) Это значит помогать друзьям по уч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). Это значит уметь правильно наказывать людей за их поступ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 flipV="1" rot="10800000">
            <a:off x="927000" y="4210200"/>
            <a:ext cx="493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Что может вызвать у человека чувство стыд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). Невыполненное обещ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. Об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). Верны все варианты отв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). 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413400" y="1238400"/>
            <a:ext cx="4869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3. Чтобы избавиться от чувства вины, над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)Найти нового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Забыть о плохом поступ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))Извиниться перед тем, кого оби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)Почитать интересную кни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616800" y="3682440"/>
            <a:ext cx="406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4. Если человек прощает других, 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)Он заслуживает нака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Этот человек просто очень глуп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)Его тоже будут прощ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)Этот человек слабый и беспомощный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941400" y="614880"/>
            <a:ext cx="5014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Почему золотое правило нравственности помогает в жизн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)Потому что в нем проявляются лучшие порывы нашей д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Потому что взрослые нас ругают, и мы слушаем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)Потому что даёт людям добро и р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Потому что мы делаем, что нам говорят дру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6388200" y="232200"/>
            <a:ext cx="5122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6. Что необходимо для того, чтобы золотое правило нравственности действовало в твоей жизн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)Задумываться о своих поступ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)Все варианты вер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)Любить самого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)Любить людей, как самого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2" descr=""/>
          <p:cNvPicPr/>
          <p:nvPr/>
        </p:nvPicPr>
        <p:blipFill>
          <a:blip r:embed="rId1"/>
          <a:stretch/>
        </p:blipFill>
        <p:spPr>
          <a:xfrm>
            <a:off x="682560" y="506520"/>
            <a:ext cx="5102280" cy="11142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558720" y="1554120"/>
            <a:ext cx="546264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1141560" y="139536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249"/>
              </a:spcBef>
              <a:buClr>
                <a:srgbClr val="99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66"/>
                </a:solidFill>
                <a:latin typeface="Arial"/>
                <a:ea typeface="Times New Roman"/>
              </a:rPr>
              <a:t>Я узнал, что ..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7"/>
          <p:cNvSpPr/>
          <p:nvPr/>
        </p:nvSpPr>
        <p:spPr>
          <a:xfrm>
            <a:off x="1189080" y="2205000"/>
            <a:ext cx="45324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249"/>
              </a:spcBef>
              <a:buClr>
                <a:srgbClr val="99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66"/>
                </a:solidFill>
                <a:latin typeface="Arial"/>
                <a:ea typeface="Times New Roman"/>
              </a:rPr>
              <a:t>Мне осталось непонятно ..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8"/>
          <p:cNvSpPr/>
          <p:nvPr/>
        </p:nvSpPr>
        <p:spPr>
          <a:xfrm>
            <a:off x="1136520" y="3313080"/>
            <a:ext cx="4480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249"/>
              </a:spcBef>
              <a:buClr>
                <a:srgbClr val="99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66"/>
                </a:solidFill>
                <a:latin typeface="Arial"/>
                <a:ea typeface="Times New Roman"/>
              </a:rPr>
              <a:t>Мне понравилось на уроке …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249"/>
              </a:spcBef>
              <a:buClr>
                <a:srgbClr val="99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6423120" y="1383120"/>
            <a:ext cx="4416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Благословенны будьте, т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И воды в зелени дубра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Виновных нет: все люди пр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Но больше всех </a:t>
            </a: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—</a:t>
            </a: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 простивший  пра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65440" y="1825200"/>
            <a:ext cx="5087880" cy="4351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627960" y="201600"/>
            <a:ext cx="1881000" cy="2171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6583320" y="2771640"/>
            <a:ext cx="47545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Стыд перед людьми – хорошее чув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о лучше всего стыд перед самим собой.»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.Н. 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Заголовок 4" descr=""/>
          <p:cNvPicPr/>
          <p:nvPr/>
        </p:nvPicPr>
        <p:blipFill>
          <a:blip r:embed="rId3"/>
          <a:stretch/>
        </p:blipFill>
        <p:spPr>
          <a:xfrm>
            <a:off x="853920" y="208080"/>
            <a:ext cx="5096160" cy="1449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719280" y="1828800"/>
            <a:ext cx="4689360" cy="21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d7d31"/>
                </a:solidFill>
                <a:latin typeface="Calibri"/>
              </a:rPr>
              <a:t>         </a:t>
            </a:r>
            <a:r>
              <a:rPr b="1" lang="ru-RU" sz="2800" spc="-1" strike="noStrike">
                <a:solidFill>
                  <a:srgbClr val="ed7d31"/>
                </a:solidFill>
                <a:latin typeface="Calibri"/>
              </a:rPr>
              <a:t>Что такое стыд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d7d31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ed7d31"/>
                </a:solidFill>
                <a:latin typeface="Calibri"/>
              </a:rPr>
              <a:t>Что такое чувство вин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d7d31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ed7d31"/>
                </a:solidFill>
                <a:latin typeface="Calibri"/>
              </a:rPr>
              <a:t>Когда и ка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d7d31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ed7d31"/>
                </a:solidFill>
                <a:latin typeface="Calibri"/>
              </a:rPr>
              <a:t>принято извинятьс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опять двойка"/>
          <p:cNvPicPr/>
          <p:nvPr/>
        </p:nvPicPr>
        <p:blipFill>
          <a:blip r:embed="rId1"/>
          <a:stretch/>
        </p:blipFill>
        <p:spPr>
          <a:xfrm>
            <a:off x="939960" y="1084320"/>
            <a:ext cx="4856040" cy="5340240"/>
          </a:xfrm>
          <a:prstGeom prst="rect">
            <a:avLst/>
          </a:prstGeom>
          <a:ln w="0">
            <a:noFill/>
          </a:ln>
        </p:spPr>
      </p:pic>
      <p:pic>
        <p:nvPicPr>
          <p:cNvPr id="49" name="Заголовок 4" descr=""/>
          <p:cNvPicPr/>
          <p:nvPr/>
        </p:nvPicPr>
        <p:blipFill>
          <a:blip r:embed="rId2"/>
          <a:stretch/>
        </p:blipFill>
        <p:spPr>
          <a:xfrm>
            <a:off x="849240" y="247680"/>
            <a:ext cx="5016600" cy="6922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6275520" y="474840"/>
            <a:ext cx="4910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Что выражает взгляд матер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0070"/>
                </a:solidFill>
                <a:latin typeface="Calibri"/>
              </a:rPr>
              <a:t>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ГРУ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6261120" y="1446120"/>
            <a:ext cx="54849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то выражает взгляд сест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суждающим взглядом смотрит на б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то можете сказать о младшем бра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мотрит на старшего   ехид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згля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кие чувства испытывает мальч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ыд, вину, огорчение, оби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чем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н получил двойку, а из портфеля торчат коньки — причина двой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4" descr=""/>
          <p:cNvPicPr/>
          <p:nvPr/>
        </p:nvPicPr>
        <p:blipFill>
          <a:blip r:embed="rId1"/>
          <a:stretch/>
        </p:blipFill>
        <p:spPr>
          <a:xfrm>
            <a:off x="849240" y="247680"/>
            <a:ext cx="5016600" cy="692280"/>
          </a:xfrm>
          <a:prstGeom prst="rect">
            <a:avLst/>
          </a:prstGeom>
          <a:ln w="0">
            <a:noFill/>
          </a:ln>
        </p:spPr>
      </p:pic>
      <p:sp>
        <p:nvSpPr>
          <p:cNvPr id="53" name="Подзаголовок 4"/>
          <p:cNvSpPr/>
          <p:nvPr/>
        </p:nvSpPr>
        <p:spPr>
          <a:xfrm>
            <a:off x="1531800" y="1301760"/>
            <a:ext cx="84409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ак вы думаете, что мальчик должен с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звин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ак вы думаете, попросит ли мальчик прощения у ма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- Какие краски использовал художник, чтобы выразить чувства мальч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- Когда хотят выразить чувство стыда, художники берут тёмные кра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Испытывали ли вы похожие чувства,  при каких ситуация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4" descr=""/>
          <p:cNvPicPr/>
          <p:nvPr/>
        </p:nvPicPr>
        <p:blipFill>
          <a:blip r:embed="rId1"/>
          <a:stretch/>
        </p:blipFill>
        <p:spPr>
          <a:xfrm>
            <a:off x="6686640" y="622440"/>
            <a:ext cx="4932360" cy="1035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7"/>
          <p:cNvSpPr/>
          <p:nvPr/>
        </p:nvSpPr>
        <p:spPr>
          <a:xfrm>
            <a:off x="7294680" y="2228760"/>
            <a:ext cx="346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546a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44546a"/>
                </a:solidFill>
                <a:latin typeface="Arial"/>
              </a:rPr>
              <a:t>это переживание человека по поводу несоответствия нормам, невыполнения долга перед самим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79040" y="1655280"/>
            <a:ext cx="5087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b00047"/>
                </a:solidFill>
                <a:latin typeface="Calibri"/>
              </a:rPr>
              <a:t>Стыд</a:t>
            </a:r>
            <a:r>
              <a:rPr b="1" lang="ru-RU" sz="2800" spc="-1" strike="noStrike">
                <a:solidFill>
                  <a:srgbClr val="006664"/>
                </a:solidFill>
                <a:latin typeface="Calibri"/>
              </a:rPr>
              <a:t> – это тяжёлое подавленное состояние человека, которое появляется после осуждения его поведения окружающими люд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4" descr=""/>
          <p:cNvPicPr/>
          <p:nvPr/>
        </p:nvPicPr>
        <p:blipFill>
          <a:blip r:embed="rId1"/>
          <a:stretch/>
        </p:blipFill>
        <p:spPr>
          <a:xfrm>
            <a:off x="774720" y="396720"/>
            <a:ext cx="5095800" cy="13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879120" y="1404720"/>
            <a:ext cx="515772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это сожаление о происшедшем, принятие нравственного решения о не повторении своих ошибок, изменении своего пове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Заголовок 2" descr=""/>
          <p:cNvPicPr/>
          <p:nvPr/>
        </p:nvPicPr>
        <p:blipFill>
          <a:blip r:embed="rId2"/>
          <a:stretch/>
        </p:blipFill>
        <p:spPr>
          <a:xfrm>
            <a:off x="6168960" y="360360"/>
            <a:ext cx="5194440" cy="158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6184800" y="1563840"/>
            <a:ext cx="518328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e00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75"/>
                </a:solidFill>
                <a:latin typeface="Calibri"/>
              </a:rPr>
              <a:t>Делайте это искренне.</a:t>
            </a:r>
            <a:r>
              <a:rPr b="1" lang="ru-RU" sz="3200" spc="-1" strike="noStrike">
                <a:solidFill>
                  <a:srgbClr val="ed7d3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e00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75"/>
                </a:solidFill>
                <a:latin typeface="Calibri"/>
              </a:rPr>
              <a:t>Не оправдывайте свои действия.</a:t>
            </a:r>
            <a:r>
              <a:rPr b="1" lang="ru-RU" sz="3200" spc="-1" strike="noStrike">
                <a:solidFill>
                  <a:srgbClr val="ed7d3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e00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75"/>
                </a:solidFill>
                <a:latin typeface="Calibri"/>
              </a:rPr>
              <a:t>Примите обязательство измениться.</a:t>
            </a:r>
            <a:r>
              <a:rPr b="1" lang="ru-RU" sz="3200" spc="-1" strike="noStrike">
                <a:solidFill>
                  <a:srgbClr val="ed7d3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e00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75"/>
                </a:solidFill>
                <a:latin typeface="Calibri"/>
              </a:rPr>
              <a:t>Выражайте свои извинения осторожно.</a:t>
            </a:r>
            <a:r>
              <a:rPr b="1" lang="ru-RU" sz="3200" spc="-1" strike="noStrike">
                <a:solidFill>
                  <a:srgbClr val="ed7d3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e00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75"/>
                </a:solidFill>
                <a:latin typeface="Calibri"/>
              </a:rPr>
              <a:t>Будьте готовы к неловкости и неудобству.</a:t>
            </a:r>
            <a:r>
              <a:rPr b="1" lang="ru-RU" sz="3200" spc="-1" strike="noStrike">
                <a:solidFill>
                  <a:srgbClr val="ed7d3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579720" y="456840"/>
            <a:ext cx="47754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е надо долго и нудно объяснять причины вашего поведения, которые привели к обиде или оскорбл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е ждите мгновенного ответа на ваше извинение, просто принесите свои извинения и удалите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говорите НЕ «извиняюсь», а «ИЗВИНИТЕ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Будьте искренни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ем, что вы попросили извинения, вы уже частично искупили свою вин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73080" y="539640"/>
            <a:ext cx="4586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Calibri"/>
              </a:rPr>
              <a:t>«Извини», «пожалуйста», «прости», «разреши» 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Calibri"/>
              </a:rPr>
              <a:t>Это не слова, а ключик от душ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Calibri"/>
              </a:rPr>
              <a:t>Всюду, где нескромному укажут от воро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Calibri"/>
              </a:rPr>
              <a:t>Вежливый попросит, попросит и пройдё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Calibri"/>
              </a:rPr>
              <a:t>Перед словом вежливым двери отворя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Calibri"/>
              </a:rPr>
              <a:t>Пусть оно почаще, почаще повторя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головок 1" descr=""/>
          <p:cNvPicPr/>
          <p:nvPr/>
        </p:nvPicPr>
        <p:blipFill>
          <a:blip r:embed="rId1"/>
          <a:stretch/>
        </p:blipFill>
        <p:spPr>
          <a:xfrm>
            <a:off x="835200" y="450720"/>
            <a:ext cx="4595760" cy="708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https://us.123rf.com/450wm/limbi007/limbi0071209/limbi007120900083/15389579-%D0%9F%D0%B0%D1%80%D1%82%D0%B8%D1%8F-%D0%BF%D0%B0%D0%BF%D0%BA%D0%B8-%D1%81-%D0%BC%D1%83%D1%81%D0%BE%D1%80%D0%BD%D0%BE%D0%B9-%D0%BA%D0%BE%D1%80%D0%B7%D0%B8%D0%BD%D1%8B-%D0%BD%D0%B0-%D0%B1%D0%B5%D0%BB%D0%BE%D0%BC-%D1%84%D0%BE%D0%BD%D0%B5..jpg?ver=6"/>
          <p:cNvPicPr/>
          <p:nvPr/>
        </p:nvPicPr>
        <p:blipFill>
          <a:blip r:embed="rId2"/>
          <a:stretch/>
        </p:blipFill>
        <p:spPr>
          <a:xfrm>
            <a:off x="1030320" y="1171440"/>
            <a:ext cx="4770360" cy="5372280"/>
          </a:xfrm>
          <a:prstGeom prst="rect">
            <a:avLst/>
          </a:prstGeom>
          <a:ln w="0">
            <a:noFill/>
          </a:ln>
        </p:spPr>
      </p:pic>
      <p:pic>
        <p:nvPicPr>
          <p:cNvPr id="65" name="Заголовок 1" descr=""/>
          <p:cNvPicPr/>
          <p:nvPr/>
        </p:nvPicPr>
        <p:blipFill>
          <a:blip r:embed="rId3"/>
          <a:stretch/>
        </p:blipFill>
        <p:spPr>
          <a:xfrm>
            <a:off x="6261120" y="249120"/>
            <a:ext cx="4651200" cy="7081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6256440" y="1010880"/>
            <a:ext cx="522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ар в столовой случайно толкнул другого мальчика. Мальчик упал, а Макар побежал дальше ничего ему не сказа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243480" y="2252520"/>
            <a:ext cx="48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вете в автобусе  подружка случайно наступила на ногу  и пошла дальше. Света обозвала по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6191280" y="3630240"/>
            <a:ext cx="529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лассе происходит ЧП: Глеб сорвал кран с огнетушителя и залил пеной весь пол в кабинете химии. Учитель просит виновника признаться и привести класс в порядок. Но никто не призн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иктор  нечаянно разбил красивую вазу в гостях у одноклассницы. испугавшись, он убеж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6184800" y="1563840"/>
            <a:ext cx="518328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d7d3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Rectangle 1" descr=""/>
          <p:cNvPicPr/>
          <p:nvPr/>
        </p:nvPicPr>
        <p:blipFill>
          <a:blip r:embed="rId1"/>
          <a:stretch/>
        </p:blipFill>
        <p:spPr>
          <a:xfrm>
            <a:off x="6089760" y="1542960"/>
            <a:ext cx="4620960" cy="44244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8451720" y="1019160"/>
            <a:ext cx="259884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нави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и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д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нави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имопо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внодуш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д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част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сп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675480" y="511200"/>
            <a:ext cx="43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Иг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«Человеческие чув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Заголовок 2" descr=""/>
          <p:cNvPicPr/>
          <p:nvPr/>
        </p:nvPicPr>
        <p:blipFill>
          <a:blip r:embed="rId2"/>
          <a:stretch/>
        </p:blipFill>
        <p:spPr>
          <a:xfrm>
            <a:off x="706320" y="189000"/>
            <a:ext cx="5104080" cy="15364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0"/>
          <p:cNvSpPr/>
          <p:nvPr/>
        </p:nvSpPr>
        <p:spPr>
          <a:xfrm>
            <a:off x="809640" y="1650960"/>
            <a:ext cx="45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Прямоугольник 13" descr=""/>
          <p:cNvPicPr/>
          <p:nvPr/>
        </p:nvPicPr>
        <p:blipFill>
          <a:blip r:embed="rId3"/>
          <a:stretch/>
        </p:blipFill>
        <p:spPr>
          <a:xfrm>
            <a:off x="549360" y="1420920"/>
            <a:ext cx="3241440" cy="7729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ая соединительная линия 15"/>
          <p:cNvSpPr/>
          <p:nvPr/>
        </p:nvSpPr>
        <p:spPr>
          <a:xfrm>
            <a:off x="3668760" y="1531800"/>
            <a:ext cx="79200" cy="4756320"/>
          </a:xfrm>
          <a:prstGeom prst="line">
            <a:avLst/>
          </a:prstGeom>
          <a:ln w="7632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20" descr=""/>
          <p:cNvPicPr/>
          <p:nvPr/>
        </p:nvPicPr>
        <p:blipFill>
          <a:blip r:embed="rId4"/>
          <a:stretch/>
        </p:blipFill>
        <p:spPr>
          <a:xfrm>
            <a:off x="811080" y="2133720"/>
            <a:ext cx="2943360" cy="132228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21" descr=""/>
          <p:cNvPicPr/>
          <p:nvPr/>
        </p:nvPicPr>
        <p:blipFill>
          <a:blip r:embed="rId5"/>
          <a:stretch/>
        </p:blipFill>
        <p:spPr>
          <a:xfrm>
            <a:off x="884160" y="3645000"/>
            <a:ext cx="2901960" cy="132372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3" descr=""/>
          <p:cNvPicPr/>
          <p:nvPr/>
        </p:nvPicPr>
        <p:blipFill>
          <a:blip r:embed="rId6"/>
          <a:stretch/>
        </p:blipFill>
        <p:spPr>
          <a:xfrm>
            <a:off x="1011240" y="5035680"/>
            <a:ext cx="2639880" cy="132228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4" descr=""/>
          <p:cNvPicPr/>
          <p:nvPr/>
        </p:nvPicPr>
        <p:blipFill>
          <a:blip r:embed="rId7"/>
          <a:stretch/>
        </p:blipFill>
        <p:spPr>
          <a:xfrm>
            <a:off x="3749760" y="4943520"/>
            <a:ext cx="2442960" cy="132408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25" descr=""/>
          <p:cNvPicPr/>
          <p:nvPr/>
        </p:nvPicPr>
        <p:blipFill>
          <a:blip r:embed="rId8"/>
          <a:stretch/>
        </p:blipFill>
        <p:spPr>
          <a:xfrm>
            <a:off x="3645000" y="2657520"/>
            <a:ext cx="2627280" cy="10494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26" descr=""/>
          <p:cNvPicPr/>
          <p:nvPr/>
        </p:nvPicPr>
        <p:blipFill>
          <a:blip r:embed="rId9"/>
          <a:stretch/>
        </p:blipFill>
        <p:spPr>
          <a:xfrm>
            <a:off x="3749760" y="1560600"/>
            <a:ext cx="2784240" cy="10494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27" descr=""/>
          <p:cNvPicPr/>
          <p:nvPr/>
        </p:nvPicPr>
        <p:blipFill>
          <a:blip r:embed="rId10"/>
          <a:stretch/>
        </p:blipFill>
        <p:spPr>
          <a:xfrm>
            <a:off x="3822840" y="3882960"/>
            <a:ext cx="2571480" cy="1049400"/>
          </a:xfrm>
          <a:prstGeom prst="rect">
            <a:avLst/>
          </a:prstGeom>
          <a:ln w="0">
            <a:noFill/>
          </a:ln>
        </p:spPr>
      </p:pic>
      <p:cxnSp>
        <p:nvCxnSpPr>
          <p:cNvPr id="84" name="Прямая со стрелкой 32"/>
          <p:cNvCxnSpPr/>
          <p:nvPr/>
        </p:nvCxnSpPr>
        <p:spPr>
          <a:xfrm>
            <a:off x="3047760" y="2596680"/>
            <a:ext cx="1577160" cy="9421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34"/>
          <p:cNvCxnSpPr/>
          <p:nvPr/>
        </p:nvCxnSpPr>
        <p:spPr>
          <a:xfrm>
            <a:off x="3359160" y="2112480"/>
            <a:ext cx="993960" cy="34347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36"/>
          <p:cNvCxnSpPr/>
          <p:nvPr/>
        </p:nvCxnSpPr>
        <p:spPr>
          <a:xfrm flipV="1">
            <a:off x="3080880" y="2490120"/>
            <a:ext cx="1159560" cy="2075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Прямая со стрелкой 39"/>
          <p:cNvCxnSpPr/>
          <p:nvPr/>
        </p:nvCxnSpPr>
        <p:spPr>
          <a:xfrm flipV="1">
            <a:off x="3034800" y="4358520"/>
            <a:ext cx="1073520" cy="1910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5T09:14:47Z</dcterms:created>
  <dc:creator>User</dc:creator>
  <dc:description/>
  <dc:language>en-US</dc:language>
  <cp:lastModifiedBy>Александр</cp:lastModifiedBy>
  <dcterms:modified xsi:type="dcterms:W3CDTF">2020-12-03T12:14:42Z</dcterms:modified>
  <cp:revision>99</cp:revision>
  <dc:subject/>
  <dc:title>Презентация PowerPoint</dc:title>
</cp:coreProperties>
</file>