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423-BF7A-414A-B35B-3CE8AD59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49D-FBED-499E-AFCA-D38057EB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83B-026B-468E-A140-7F2AB96A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D82-3376-417F-B42F-8A27FD67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85C-B221-485B-8CF2-962B42DF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51C-8B39-4F90-867E-4D46D5B1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347-9079-485C-95E5-AD80E693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4D0-1AB9-4FAB-A126-27411AEF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580-2B63-4A1A-937A-76B36671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AC0-001A-4DB6-87AE-750D5A74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464-4778-4FA7-BEDD-A5D336A9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91D-5FCE-4D9D-A831-DB66E3B0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CF7A-587D-40E8-A5F5-6E02210B3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Татьяна\Desktop\Для сада\Рисунки с детьми\Children's Dream background\15.jpg"/>
          <p:cNvPicPr/>
          <p:nvPr/>
        </p:nvPicPr>
        <p:blipFill>
          <a:blip r:embed="rId1"/>
          <a:stretch/>
        </p:blipFill>
        <p:spPr>
          <a:xfrm>
            <a:off x="-138240" y="0"/>
            <a:ext cx="9282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971640" y="476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155600" y="2852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255600" y="281160"/>
            <a:ext cx="7083360" cy="6278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179280" y="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общеразвивающего вида с приоритетным осуществлением деятельности по художественно – эстетическому развитию воспитанников № 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56480" y="602136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Автор : воспитатель детского сада №51 г.Екатерин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улавина Юлия Владимировна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G:\DCIM\100PHOTO\SAM_3825.JPG"/>
          <p:cNvPicPr/>
          <p:nvPr/>
        </p:nvPicPr>
        <p:blipFill>
          <a:blip r:embed="rId1"/>
          <a:stretch/>
        </p:blipFill>
        <p:spPr>
          <a:xfrm>
            <a:off x="0" y="0"/>
            <a:ext cx="4613400" cy="3286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G:\DCIM\100PHOTO\SAM_3520.JPG"/>
          <p:cNvPicPr/>
          <p:nvPr/>
        </p:nvPicPr>
        <p:blipFill>
          <a:blip r:embed="rId2"/>
          <a:stretch/>
        </p:blipFill>
        <p:spPr>
          <a:xfrm rot="4119000">
            <a:off x="280800" y="3224160"/>
            <a:ext cx="3667320" cy="2720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G:\DCIM\100PHOTO\SAM_3803.JPG"/>
          <p:cNvPicPr/>
          <p:nvPr/>
        </p:nvPicPr>
        <p:blipFill>
          <a:blip r:embed="rId3"/>
          <a:stretch/>
        </p:blipFill>
        <p:spPr>
          <a:xfrm rot="6670200">
            <a:off x="3176280" y="3440160"/>
            <a:ext cx="3278160" cy="2776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G:\DCIM\100PHOTO\SAM_3834.JPG"/>
          <p:cNvPicPr/>
          <p:nvPr/>
        </p:nvPicPr>
        <p:blipFill>
          <a:blip r:embed="rId4"/>
          <a:stretch/>
        </p:blipFill>
        <p:spPr>
          <a:xfrm>
            <a:off x="6545160" y="3000240"/>
            <a:ext cx="2598840" cy="3465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G:\DCIM\100PHOTO\SAM_3886.JPG"/>
          <p:cNvPicPr/>
          <p:nvPr/>
        </p:nvPicPr>
        <p:blipFill>
          <a:blip r:embed="rId5"/>
          <a:stretch/>
        </p:blipFill>
        <p:spPr>
          <a:xfrm rot="273000">
            <a:off x="4861080" y="138240"/>
            <a:ext cx="3897000" cy="297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проек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тельско- твор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 проек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долг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проек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и, воспитанн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овление у детей научно-познавательного, практически-  деятельностного, эмоционально- нравственного отношения к воде как одному из источников жизни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ить и расширить представление детей о воде как среде обитания для животных, птиц, растений 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мулировать у детей процессы познания и вовлекать их в совместную исследовательск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любознательность и познавательную 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сить воспитательную компетентность родителей в экологическом образовании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ённое внимание мирового сообщества к экологическим проблемам, от решения которых зависит будущее человечества, да и каждого человека в отдельности, стало причиной, побудившей нас формировать у дошкольников представление о мире, значении воды в жизни человека, об их взаимосвязи и взаимозависимости. Эта тема была выбрана не случайно, она сама заинтересовала детей. Они сами, в жаркую погоду спросили, почему родители не водят их купаться на наше озеро. Вот и возникла проблема и началось интересное, длительное путешествие, которое вылилось в наш проект «Волшебница в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642680"/>
            <a:ext cx="8820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детей сформируются начальные представления о воде, как источнике жизни живых организ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приобретут экологически ценный опыт поведения и деятельности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детей появятся исследовательские умения, соответствующие возрасту (будут задавать вопросы природоведческого характера, устанавливать причинно-следственные связи, научаться фиксировать наблюдения, используя схемы-модел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сится воспитательная компетентность родителей в экологическом образовании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8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. Подготов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214280"/>
            <a:ext cx="81360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явить у детей имеющиеся знания о воде, степень заинтересованности детей данной те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гатить предметно-экологическую среду в группе для реализации проект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олшебница – во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влечь родителей в проектную деятельность, определить роль родителей в данном проект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ормы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ещение выставки в библиотеке «Семейного чтения» «Вода нужна все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ор оборудования для экспериментальной деятельности, разработка картотеки игр с вод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ормление дидактических игр природоведческого характера, подбор детских литературных произведений, видеозаписей, мультфильмов, иллюстраций о неживой прир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. Осно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57200"/>
            <a:ext cx="8569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очнить и расширить представление о воде как среде обитания для животных, птиц, растений 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епить значение воды в нашей жизни, показать в каком виде она существует, разнообразие состояний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ть навыки ухода за растениями, рыбками в эколого-познавательном цент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любознательность, познавательную активность, интерес к эксперимент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ывать осознанно-правильное отношение к природным ресур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Diagram 5"/>
          <p:cNvGrpSpPr/>
          <p:nvPr/>
        </p:nvGrpSpPr>
        <p:grpSpPr>
          <a:xfrm>
            <a:off x="223920" y="158760"/>
            <a:ext cx="8665200" cy="6540120"/>
            <a:chOff x="223920" y="158760"/>
            <a:chExt cx="8665200" cy="6540120"/>
          </a:xfrm>
        </p:grpSpPr>
        <p:sp>
          <p:nvSpPr>
            <p:cNvPr id="56" name="_s17432"/>
            <p:cNvSpPr/>
            <p:nvPr/>
          </p:nvSpPr>
          <p:spPr>
            <a:xfrm flipH="1" flipV="1">
              <a:off x="3022920" y="2270880"/>
              <a:ext cx="768600" cy="58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7431"/>
            <p:cNvSpPr/>
            <p:nvPr/>
          </p:nvSpPr>
          <p:spPr>
            <a:xfrm>
              <a:off x="1175400" y="87624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Наблюдени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Прогулки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Экскур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7430"/>
            <p:cNvSpPr/>
            <p:nvPr/>
          </p:nvSpPr>
          <p:spPr>
            <a:xfrm flipH="1">
              <a:off x="2387520" y="3427560"/>
              <a:ext cx="108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7429"/>
            <p:cNvSpPr/>
            <p:nvPr/>
          </p:nvSpPr>
          <p:spPr>
            <a:xfrm>
              <a:off x="223920" y="2611080"/>
              <a:ext cx="216756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Бесед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Чтение литератур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Сочинение сказ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7428"/>
            <p:cNvSpPr/>
            <p:nvPr/>
          </p:nvSpPr>
          <p:spPr>
            <a:xfrm flipH="1">
              <a:off x="3022920" y="4002840"/>
              <a:ext cx="768600" cy="58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7427"/>
            <p:cNvSpPr/>
            <p:nvPr/>
          </p:nvSpPr>
          <p:spPr>
            <a:xfrm>
              <a:off x="1175400" y="434556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Участие в конкурс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«Чистая во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Росси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7426"/>
            <p:cNvSpPr/>
            <p:nvPr/>
          </p:nvSpPr>
          <p:spPr>
            <a:xfrm>
              <a:off x="4554720" y="4241520"/>
              <a:ext cx="0" cy="82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7425"/>
            <p:cNvSpPr/>
            <p:nvPr/>
          </p:nvSpPr>
          <p:spPr>
            <a:xfrm>
              <a:off x="3473280" y="506340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Эксперимент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опы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7424"/>
            <p:cNvSpPr/>
            <p:nvPr/>
          </p:nvSpPr>
          <p:spPr>
            <a:xfrm>
              <a:off x="5317560" y="4002840"/>
              <a:ext cx="769320" cy="58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7423"/>
            <p:cNvSpPr/>
            <p:nvPr/>
          </p:nvSpPr>
          <p:spPr>
            <a:xfrm>
              <a:off x="5771520" y="434556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Arial"/>
                </a:rPr>
                <a:t>Создание мини-музе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Arial"/>
                </a:rPr>
                <a:t>в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7420"/>
            <p:cNvSpPr/>
            <p:nvPr/>
          </p:nvSpPr>
          <p:spPr>
            <a:xfrm>
              <a:off x="5634000" y="3427560"/>
              <a:ext cx="108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7419"/>
            <p:cNvSpPr/>
            <p:nvPr/>
          </p:nvSpPr>
          <p:spPr>
            <a:xfrm>
              <a:off x="6722280" y="261108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Продуктив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7418"/>
            <p:cNvSpPr/>
            <p:nvPr/>
          </p:nvSpPr>
          <p:spPr>
            <a:xfrm flipV="1">
              <a:off x="5317560" y="2270880"/>
              <a:ext cx="769320" cy="58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7417"/>
            <p:cNvSpPr/>
            <p:nvPr/>
          </p:nvSpPr>
          <p:spPr>
            <a:xfrm>
              <a:off x="5771520" y="87624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Трудо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6"/>
            <p:cNvSpPr/>
            <p:nvPr/>
          </p:nvSpPr>
          <p:spPr>
            <a:xfrm flipV="1">
              <a:off x="4554720" y="1791360"/>
              <a:ext cx="0" cy="82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15"/>
            <p:cNvSpPr/>
            <p:nvPr/>
          </p:nvSpPr>
          <p:spPr>
            <a:xfrm>
              <a:off x="3473280" y="15876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иг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14"/>
            <p:cNvSpPr/>
            <p:nvPr/>
          </p:nvSpPr>
          <p:spPr>
            <a:xfrm>
              <a:off x="3473280" y="261324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Форм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организ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проек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. Заключи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500120"/>
            <a:ext cx="81360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ыявить знания детей о воде как источнике всего жи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ажать знания в сказках собственного соч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оспитание экологической культуры у детей и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ормы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нение сказок и рассказов о воде (оформ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авка плакатов по микрорайону «Сохраним воду чистой!», «Берегите воду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социопросе « Какую воду мы пьё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мини-музея воды ( деятельность в нё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городском конкурсе «Чистая вода Росс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и дост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SmartArt 3" descr="G:\DCIM\100PHOTO\SAM_2354.JPG"/>
          <p:cNvPicPr/>
          <p:nvPr/>
        </p:nvPicPr>
        <p:blipFill>
          <a:blip r:embed="rId1"/>
          <a:stretch/>
        </p:blipFill>
        <p:spPr>
          <a:xfrm>
            <a:off x="3110040" y="157176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G:\DCIM\100PHOTO\SAM_2176.JPG"/>
          <p:cNvPicPr/>
          <p:nvPr/>
        </p:nvPicPr>
        <p:blipFill>
          <a:blip r:embed="rId2"/>
          <a:stretch/>
        </p:blipFill>
        <p:spPr>
          <a:xfrm>
            <a:off x="214200" y="1928880"/>
            <a:ext cx="2806920" cy="374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3:27:13Z</dcterms:created>
  <dc:creator>user</dc:creator>
  <dc:description/>
  <dc:language>en-US</dc:language>
  <cp:lastModifiedBy>Admin</cp:lastModifiedBy>
  <dcterms:modified xsi:type="dcterms:W3CDTF">2016-04-14T11:32:06Z</dcterms:modified>
  <cp:revision>30</cp:revision>
  <dc:subject/>
  <dc:title>ПРОЕКТ  «ВОЛШЕБНИЦА – ВОДА» средняя группа</dc:title>
</cp:coreProperties>
</file>