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24E-7B6F-4B6C-B7D6-1372250F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665C-CA36-43F3-9C8B-7E6EEC62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AD9-F982-41A3-A1C7-B0ED6C98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A1A-D57A-47B8-841E-BEEA8165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8BB-D509-406E-83BF-F2881095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406-6357-46C1-A03A-EC9A3753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EB29-5DEA-4B24-AD57-4EDF4036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4321-785E-4808-A2CC-7DBEEF79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FB6-B9D1-44FF-9FFF-64365BAD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B0D-0AF0-4FC4-A207-46334FF3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B8E-56C4-4C90-90A3-0AC33BAE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A5C-5C51-453B-94A7-6F9C83F5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1CDE-EC33-49AA-9B15-358FCA1304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Татьяна\Desktop\Для сада\Рисунки с детьми\Children's Dream background\15.jpg"/>
          <p:cNvPicPr/>
          <p:nvPr/>
        </p:nvPicPr>
        <p:blipFill>
          <a:blip r:embed="rId1"/>
          <a:stretch/>
        </p:blipFill>
        <p:spPr>
          <a:xfrm>
            <a:off x="-138240" y="0"/>
            <a:ext cx="9282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971640" y="476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155600" y="2852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2" descr=""/>
          <p:cNvPicPr/>
          <p:nvPr/>
        </p:nvPicPr>
        <p:blipFill>
          <a:blip r:embed="rId2"/>
          <a:stretch/>
        </p:blipFill>
        <p:spPr>
          <a:xfrm>
            <a:off x="255600" y="281160"/>
            <a:ext cx="7083360" cy="6278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179280" y="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детский сад общеразвивающего вида с приоритетным осуществлением деятельности по художественно – эстетическому развитию воспитанников № 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56480" y="6021360"/>
            <a:ext cx="62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Автор : воспитатель детского сада №51 г.Екатерин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улавина Юлия Владимировна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G:\DCIM\100PHOTO\SAM_3825.JPG"/>
          <p:cNvPicPr/>
          <p:nvPr/>
        </p:nvPicPr>
        <p:blipFill>
          <a:blip r:embed="rId1"/>
          <a:stretch/>
        </p:blipFill>
        <p:spPr>
          <a:xfrm>
            <a:off x="0" y="0"/>
            <a:ext cx="4613400" cy="3286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G:\DCIM\100PHOTO\SAM_3520.JPG"/>
          <p:cNvPicPr/>
          <p:nvPr/>
        </p:nvPicPr>
        <p:blipFill>
          <a:blip r:embed="rId2"/>
          <a:stretch/>
        </p:blipFill>
        <p:spPr>
          <a:xfrm rot="4119000">
            <a:off x="280800" y="3224160"/>
            <a:ext cx="3667320" cy="27208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G:\DCIM\100PHOTO\SAM_3803.JPG"/>
          <p:cNvPicPr/>
          <p:nvPr/>
        </p:nvPicPr>
        <p:blipFill>
          <a:blip r:embed="rId3"/>
          <a:stretch/>
        </p:blipFill>
        <p:spPr>
          <a:xfrm rot="6670200">
            <a:off x="3176280" y="3440160"/>
            <a:ext cx="3278160" cy="27763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G:\DCIM\100PHOTO\SAM_3834.JPG"/>
          <p:cNvPicPr/>
          <p:nvPr/>
        </p:nvPicPr>
        <p:blipFill>
          <a:blip r:embed="rId4"/>
          <a:stretch/>
        </p:blipFill>
        <p:spPr>
          <a:xfrm>
            <a:off x="6545160" y="3000240"/>
            <a:ext cx="2598840" cy="34657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G:\DCIM\100PHOTO\SAM_3886.JPG"/>
          <p:cNvPicPr/>
          <p:nvPr/>
        </p:nvPicPr>
        <p:blipFill>
          <a:blip r:embed="rId5"/>
          <a:stretch/>
        </p:blipFill>
        <p:spPr>
          <a:xfrm rot="273000">
            <a:off x="4861080" y="138240"/>
            <a:ext cx="3897000" cy="297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проект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тельско- твор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 проек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долгоср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ники проект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и, воспитанн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овление у детей научно-познавательного, практически-  деятельностного, эмоционально- нравственного отношения к воде как одному из источников жизни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чнить и расширить представление детей о воде как среде обитания для животных, птиц, растений 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имулировать у детей процессы познания и вовлекать их в совместную исследовательск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любознательность и познавательную 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бережное отношение к природным ресур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сить воспитательную компетентность родителей в экологическом образовании до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ост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трённое внимание мирового сообщества к экологическим проблемам, от решения которых зависит будущее человечества, да и каждого человека в отдельности, стало причиной, побудившей нас формировать у дошкольников представление о мире, значении воды в жизни человека, об их взаимосвязи и взаимозависимости. Эта тема была выбрана не случайно, она сама заинтересовала детей. Они сами, в жаркую погоду спросили, почему родители не водят их купаться на наше озеро. Вот и возникла проблема и началось интересное, длительное путешествие, которое вылилось в наш проект «Волшебница во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жидаемые результ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1642680"/>
            <a:ext cx="8820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детей сформируются начальные представления о воде, как источнике жизни живых организ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и приобретут экологически ценный опыт поведения и деятельности в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детей появятся исследовательские умения, соответствующие возрасту (будут задавать вопросы природоведческого характера, устанавливать причинно-следственные связи, научаться фиксировать наблюдения, используя схемы-модел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ысится воспитательная компетентность родителей в экологическом образовании до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8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8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8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ап. Подготови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214280"/>
            <a:ext cx="813600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явить у детей имеющиеся знания о воде, степень заинтересованности детей данной те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гатить предметно-экологическую среду в группе для реализации проект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олшебница – вод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влечь родителей в проектную деятельность, определить роль родителей в данном проект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ормы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ещение выставки в библиотеке «Семейного чтения» «Вода нужна все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бор оборудования для экспериментальной деятельности, разработка картотеки игр с вод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ормление дидактических игр природоведческого характера, подбор детских литературных произведений, видеозаписей, мультфильмов, иллюстраций о неживой приро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. Основ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3640" y="1357200"/>
            <a:ext cx="8569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очнить и расширить представление о воде как среде обитания для животных, птиц, растений и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репить значение воды в нашей жизни, показать в каком виде она существует, разнообразие состояний 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ть навыки ухода за растениями, рыбками в эколого-познавательном цент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ть любознательность, познавательную активность, интерес к эксперимент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ывать осознанно-правильное отношение к природным ресур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Diagram 5"/>
          <p:cNvGrpSpPr/>
          <p:nvPr/>
        </p:nvGrpSpPr>
        <p:grpSpPr>
          <a:xfrm>
            <a:off x="223920" y="158760"/>
            <a:ext cx="8665200" cy="6540120"/>
            <a:chOff x="223920" y="158760"/>
            <a:chExt cx="8665200" cy="6540120"/>
          </a:xfrm>
        </p:grpSpPr>
        <p:sp>
          <p:nvSpPr>
            <p:cNvPr id="56" name="_s17432"/>
            <p:cNvSpPr/>
            <p:nvPr/>
          </p:nvSpPr>
          <p:spPr>
            <a:xfrm flipH="1" flipV="1">
              <a:off x="3022920" y="2270880"/>
              <a:ext cx="768600" cy="58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7431"/>
            <p:cNvSpPr/>
            <p:nvPr/>
          </p:nvSpPr>
          <p:spPr>
            <a:xfrm>
              <a:off x="1175400" y="876240"/>
              <a:ext cx="2166840" cy="163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Наблюдения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Прогулки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Экскурс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7430"/>
            <p:cNvSpPr/>
            <p:nvPr/>
          </p:nvSpPr>
          <p:spPr>
            <a:xfrm flipH="1">
              <a:off x="2387520" y="3427560"/>
              <a:ext cx="108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7429"/>
            <p:cNvSpPr/>
            <p:nvPr/>
          </p:nvSpPr>
          <p:spPr>
            <a:xfrm>
              <a:off x="223920" y="2611080"/>
              <a:ext cx="2167560" cy="163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Беседы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Чтение литературы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Сочинение сказ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7428"/>
            <p:cNvSpPr/>
            <p:nvPr/>
          </p:nvSpPr>
          <p:spPr>
            <a:xfrm flipH="1">
              <a:off x="3022920" y="4002840"/>
              <a:ext cx="768600" cy="58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7427"/>
            <p:cNvSpPr/>
            <p:nvPr/>
          </p:nvSpPr>
          <p:spPr>
            <a:xfrm>
              <a:off x="1175400" y="4345560"/>
              <a:ext cx="2166840" cy="163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Участие в конкурс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«Чистая во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России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7426"/>
            <p:cNvSpPr/>
            <p:nvPr/>
          </p:nvSpPr>
          <p:spPr>
            <a:xfrm>
              <a:off x="4554720" y="4241520"/>
              <a:ext cx="0" cy="82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7425"/>
            <p:cNvSpPr/>
            <p:nvPr/>
          </p:nvSpPr>
          <p:spPr>
            <a:xfrm>
              <a:off x="3473280" y="5063400"/>
              <a:ext cx="2166840" cy="163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Эксперименты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опы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7424"/>
            <p:cNvSpPr/>
            <p:nvPr/>
          </p:nvSpPr>
          <p:spPr>
            <a:xfrm>
              <a:off x="5317560" y="4002840"/>
              <a:ext cx="769320" cy="58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7423"/>
            <p:cNvSpPr/>
            <p:nvPr/>
          </p:nvSpPr>
          <p:spPr>
            <a:xfrm>
              <a:off x="5771520" y="4345560"/>
              <a:ext cx="2166840" cy="163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Arial"/>
                </a:rPr>
                <a:t>Создание мини-музе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Arial"/>
                </a:rPr>
                <a:t>в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7420"/>
            <p:cNvSpPr/>
            <p:nvPr/>
          </p:nvSpPr>
          <p:spPr>
            <a:xfrm>
              <a:off x="5634000" y="3427560"/>
              <a:ext cx="108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7419"/>
            <p:cNvSpPr/>
            <p:nvPr/>
          </p:nvSpPr>
          <p:spPr>
            <a:xfrm>
              <a:off x="6722280" y="2611080"/>
              <a:ext cx="2166840" cy="163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Продуктив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7418"/>
            <p:cNvSpPr/>
            <p:nvPr/>
          </p:nvSpPr>
          <p:spPr>
            <a:xfrm flipV="1">
              <a:off x="5317560" y="2270880"/>
              <a:ext cx="769320" cy="58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7417"/>
            <p:cNvSpPr/>
            <p:nvPr/>
          </p:nvSpPr>
          <p:spPr>
            <a:xfrm>
              <a:off x="5771520" y="876240"/>
              <a:ext cx="2166840" cy="163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Трудов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7416"/>
            <p:cNvSpPr/>
            <p:nvPr/>
          </p:nvSpPr>
          <p:spPr>
            <a:xfrm flipV="1">
              <a:off x="4554720" y="1791360"/>
              <a:ext cx="0" cy="82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7415"/>
            <p:cNvSpPr/>
            <p:nvPr/>
          </p:nvSpPr>
          <p:spPr>
            <a:xfrm>
              <a:off x="3473280" y="158760"/>
              <a:ext cx="2166840" cy="163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иг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7414"/>
            <p:cNvSpPr/>
            <p:nvPr/>
          </p:nvSpPr>
          <p:spPr>
            <a:xfrm>
              <a:off x="3473280" y="2613240"/>
              <a:ext cx="2166840" cy="163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Форм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организ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проек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. Заключите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1500120"/>
            <a:ext cx="813600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Выявить знания детей о воде как источнике всего жив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тражать знания в сказках собственного сочи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Воспитание экологической культуры у детей и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ормы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чинение сказок и рассказов о воде (оформ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авка плакатов по микрорайону «Сохраним воду чистой!», «Берегите воду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в социопросе « Какую воду мы пьё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 мини-музея воды ( деятельность в нё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в городском конкурсе «Чистая вода Росс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и дост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SmartArt 3" descr="G:\DCIM\100PHOTO\SAM_2354.JPG"/>
          <p:cNvPicPr/>
          <p:nvPr/>
        </p:nvPicPr>
        <p:blipFill>
          <a:blip r:embed="rId1"/>
          <a:stretch/>
        </p:blipFill>
        <p:spPr>
          <a:xfrm>
            <a:off x="3110040" y="1571760"/>
            <a:ext cx="603396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G:\DCIM\100PHOTO\SAM_2176.JPG"/>
          <p:cNvPicPr/>
          <p:nvPr/>
        </p:nvPicPr>
        <p:blipFill>
          <a:blip r:embed="rId2"/>
          <a:stretch/>
        </p:blipFill>
        <p:spPr>
          <a:xfrm>
            <a:off x="214200" y="1928880"/>
            <a:ext cx="2806920" cy="374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3:27:13Z</dcterms:created>
  <dc:creator>user</dc:creator>
  <dc:description/>
  <dc:language>en-US</dc:language>
  <cp:lastModifiedBy>Admin</cp:lastModifiedBy>
  <dcterms:modified xsi:type="dcterms:W3CDTF">2016-04-14T11:32:06Z</dcterms:modified>
  <cp:revision>30</cp:revision>
  <dc:subject/>
  <dc:title>ПРОЕКТ  «ВОЛШЕБНИЦА – ВОДА» средняя группа</dc:title>
</cp:coreProperties>
</file>