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B6B-E173-4776-BA9C-E561C7A6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2CE-BA06-4A31-B607-E95E307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C3C-4DDF-4700-B5C9-ACE8348E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D5C-FB9C-41CD-BC4C-6B125717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05B-DD6F-477D-B08D-E0661730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EA4-9C78-4595-866D-6896C381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53B-4C26-4187-B39A-2D40DE72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A6D-10F1-4D68-9DB2-47CBB951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ADF-6D4E-4670-BDAE-558DE947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1C3-BF86-42FA-8C9D-980F654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8BD-D9A7-4806-91F5-6D536DE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DB6-9A54-4DEE-B721-EEADD6E4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937C-9FD2-4EED-A0F2-C2244A84D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1\Desktop\0.jpeg"/>
          <p:cNvPicPr/>
          <p:nvPr/>
        </p:nvPicPr>
        <p:blipFill>
          <a:blip r:embed="rId1"/>
          <a:stretch/>
        </p:blipFill>
        <p:spPr>
          <a:xfrm>
            <a:off x="2550960" y="115920"/>
            <a:ext cx="442944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68360" y="519120"/>
            <a:ext cx="77598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28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9963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596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11280" y="617400"/>
            <a:ext cx="78152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23880" y="981000"/>
            <a:ext cx="7780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Users\1\Desktop\img5[1].jpg"/>
          <p:cNvPicPr/>
          <p:nvPr/>
        </p:nvPicPr>
        <p:blipFill>
          <a:blip r:embed="rId1"/>
          <a:stretch/>
        </p:blipFill>
        <p:spPr>
          <a:xfrm>
            <a:off x="971640" y="62064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84360" y="735120"/>
            <a:ext cx="783720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920" y="4680"/>
            <a:ext cx="8820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82680" y="692280"/>
            <a:ext cx="826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8976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6T11:00:27Z</dcterms:created>
  <dc:creator>1</dc:creator>
  <dc:description/>
  <dc:language>en-US</dc:language>
  <cp:lastModifiedBy>Наталья Васильевна</cp:lastModifiedBy>
  <dcterms:modified xsi:type="dcterms:W3CDTF">2020-12-04T07:59:58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795093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3</vt:lpwstr>
  </property>
</Properties>
</file>