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41D-4A34-40B2-AF55-B5FC54AF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ADD-7A1B-47BB-BCB6-F952865B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DE5-89FC-4E62-823D-521E7B34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9DF-88B5-4757-9C66-D4804352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BCC-F217-476B-BB68-928B338F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9E5-115A-4430-B314-B6F9FC6B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0DA-F752-47D9-805D-C5AEDDB4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E46-764A-4F78-942C-C56661F1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8AB-B822-45FF-B660-EBBCE2AE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626-E280-4849-BC23-DCAB54D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4E4-CE59-48BA-882D-60F8596D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A4B-C09F-45E5-BD31-D19BA497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43FB-DE61-45EC-98A4-953927D56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1\Desktop\0.jpeg"/>
          <p:cNvPicPr/>
          <p:nvPr/>
        </p:nvPicPr>
        <p:blipFill>
          <a:blip r:embed="rId1"/>
          <a:stretch/>
        </p:blipFill>
        <p:spPr>
          <a:xfrm>
            <a:off x="2550960" y="115920"/>
            <a:ext cx="442944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68360" y="519120"/>
            <a:ext cx="77598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280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9963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596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11280" y="617400"/>
            <a:ext cx="78152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23880" y="981000"/>
            <a:ext cx="7780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Users\1\Desktop\img5[1].jpg"/>
          <p:cNvPicPr/>
          <p:nvPr/>
        </p:nvPicPr>
        <p:blipFill>
          <a:blip r:embed="rId1"/>
          <a:stretch/>
        </p:blipFill>
        <p:spPr>
          <a:xfrm>
            <a:off x="971640" y="62064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84360" y="735120"/>
            <a:ext cx="7837200" cy="54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920" y="4680"/>
            <a:ext cx="8820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82680" y="692280"/>
            <a:ext cx="826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8976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6T11:00:27Z</dcterms:created>
  <dc:creator>1</dc:creator>
  <dc:description/>
  <dc:language>en-US</dc:language>
  <cp:lastModifiedBy>Наталья Васильевна</cp:lastModifiedBy>
  <dcterms:modified xsi:type="dcterms:W3CDTF">2020-12-04T07:59:58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795093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3</vt:lpwstr>
  </property>
</Properties>
</file>