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D53-38BD-4BB7-AEC9-E896D233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A03-464D-4EA2-A7C4-AB111F2D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BC5-B6CC-4131-9672-6CE50382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032-8DE2-4B9A-9A52-34F20D3B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778-2388-461C-9481-A2B3F35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6EF-ACCC-4303-80BC-AA994B7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A36-B4FF-4830-981F-1161989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B4E-6103-4B62-8C12-4C4663CD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2AD-046D-432E-927B-638472E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60E-0EEB-4620-8C90-3E7D9A4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0E7-52B5-401D-8A52-449658A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5DD-AF50-4B19-B06E-01F528D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CEC-5CF0-4F97-88AA-69797CB2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18874" t="0" r="0" b="3941"/>
          <a:stretch/>
        </p:blipFill>
        <p:spPr>
          <a:xfrm>
            <a:off x="1143000" y="1219320"/>
            <a:ext cx="6934320" cy="54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. Есть люди, к которым я испытываю настоящую ненави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. Многие люди мне завиду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. Если я злюсь, я могу выруг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. Люди, увиливающие от работы, должны испытывать чувство ви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. Если не понимают слов, я применяю си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. Иногда я хватаю первый попавшийся предмет и ломаю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. Я могу нагрубить людям, которые мне не нрав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. Если со мной разговаривают свысока, мне ничего не хочется дел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. Обычно я стараюсь скрывать плохое отношение к люд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. Иногда мне кажется, что надо мной сме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169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. Если кто-то раздражает меня, я говорю все, что о нем дум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. Я мало помогаю своим родите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3. На удар я отвечаю уда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. В споре я часто повышаю гол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. Я раздражаюсь из-за мело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455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. Того, кто любит командовать, я стараюсь поставить на ме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7. Я заслуживаю больше похвал и внимания, чем получ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8. У меня есть враги, которые хотели бы мне навр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. Я могу угрожать, хотя и не хочу приводить угрозы в испол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. Я часто совершаю поступки, о которых потом жал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считайте число обведенных номеров в каждой строчке. Отметьте на графике семь точек, каждая из которых соответствует разным формам проявления агрессии, и соедините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нктиром обозначен средний уровень проявления этих эмоций, обычный для большинства людей. Люди с повышенным уровнем агрессии провоцируют вокруг себя конфликты. Если ваши точки на графике расположены выше средней линии, можно говорить о выраженности следующих форм агресс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изическая агресс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вы склонны к самому примитивному виду агрессии. Вам свойственно решать вопросы с позиции силы. Возможно, ваш образ жизни и личностные особенности мешают вам искать более эффективные методы взаимодействия. Вы рискуете нарваться на ответную агресс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8184" t="0" r="0" b="14207"/>
          <a:stretch/>
        </p:blipFill>
        <p:spPr>
          <a:xfrm>
            <a:off x="0" y="25909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ербальная агресс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за словом в карман вы не полезете. А зря. Последствия необдуманного слова могут быть куда более разрушительны, чем последствия драки. Впрочем, одно другому не меша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свенная агресс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онечно, лучше ударить по столу, чем по голове партнера. Однако увлекаться этим не стоит. Пожалейте мебель, посуду. Ведь это прямые убытки. Кроме того, так недолго и поранить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28479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моции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зык нашего внутреннего мира. Они сообщают нам, какое значение лично для нас имеют те предметы, события, отношения с людьми, которые в данный момент оказались в поле нашего внимания. Человек может не задумываться о чём-то, случившемся на его глазах, однако возникшее переживание — гнев, радость, удивление, отвращение — сообщит ему об истинном значении происшедшего. Он только представит себе какую-нибудь ситуацию, а эмоции уже определяют её как желаемую или неприятную. Таким образом они выполняют функцию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дражени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лохо или даже хорошо скрываемая агрессия не сразу приведет к разрыву отношений с другим человеком, но будет разъедать вас изнутри, как серная кислота, пока не прорвется наружу. Когда прорвется - см. "физическая и косвенная агрессия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гативиз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акция, типичная для подростка, совершающего бессмысленные и даже разрушительные для себя поступки из чувства протеста. Суть ее в пословице "выбью себе глаз, пусть у тещи будет зять кривой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бидчив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готовность видеть в словах и поступках других люд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смешку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енебрежение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жела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унизить. Здорово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равляе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06960" cy="624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292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37339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дозритель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готовность видеть в словах и поступках других скрытый умысел, направленный против вас. В крайних проявлениях может быть симптомом нездоров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увство вин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вы никого не ударили, ничего не разбили, ни на кого не накричали. Откуда тогда чувство дискомфорта, ощущение, будто вы в чем-то виноваты? Если вы чувствуете себя в ответе за свои эмоции, значит, способны ими управля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основан на самооценке. Его точность зависит от вашей откровенности. Если у вас повышенный уровень агрессии, прежде всего, надо об этом знать. Возможно, ваша энергия и пробивные способности помогают вам в достижении своих целей. Но задумайтесь, какую цену вы платите за свои победы. Довольны своими отношениями с другими людьми? Агрессивный стиль поведения разрушает отношения между людьми и провоцирует конфликты. Ваша агрессивность – ваше личное дело, если вы по своей или чужой воле изолированы от всех людей. Вам необходимо учиться контролировать свои эмоции. Если это трудно, попробуйте направить их в мирное русло – спорт, творч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2228760" cy="2229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52280" y="3529080"/>
            <a:ext cx="3657600" cy="332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-533520" y="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09880" y="228600"/>
            <a:ext cx="2830680" cy="426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267080" y="4114800"/>
            <a:ext cx="4286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дям, которые не умеют управлять своими эмоциями, не следует выбирать профессии, связанные с общением, обслуживанием, воспитанием, обучением – то есть все профессии, связанные с людьми. Даже обращение с животными требует умения контролировать себя, сдерживать гнев и раздражение. Низкие значения по этому тесту (точки расположены ниже пунктирной линии) свидетельствуют о вашей деликатности, уступчивости и бесконфликтности. Однако вам может не хватать упорства в достижении своих целей и отстаивании своей пози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5516640"/>
            <a:ext cx="487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2248" t="1716" r="2248" b="2603"/>
          <a:stretch/>
        </p:blipFill>
        <p:spPr>
          <a:xfrm>
            <a:off x="304920" y="228600"/>
            <a:ext cx="7467480" cy="491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9680" y="52578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трасти, которыми владеем мы, — суть добродетели; страсти, которые владеют нами, — поро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ровень эмоциональности индивидуален – от эмоциональной холодности до сверхчувствительности, при которой легко передаются эмоции собеседн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лисмен увидел человека, который собирался прыгнуть с моста. «Проблемы с деньгами?», - спросил полицейский. «Нет». «Проблемы в семье?» Тот снова покачал головой. «Тогда в чем же дело?» «Меня волнуют мировые проблемы», - ответил самоубийца. «Послушай, все не так уж плохо, давай прогуляемся по мосту и все обсудим», – сказал полисмен. Они около часа бродили взад и вперед, обсуждая мировые проблемы. Потом прыгну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моции, как любая инфекция, легче всего распространяются при большом скоплении народа. Недовольный, раздражительный, агрессивный человек способен принести больше вреда, чем больной заразной болезнью. Очень часто в толпе вспыхивают ссоры, переходящие в драки. Поводом для инцидента может быть нечаянный толчок, язвительное замечание, даже неодобрительный взгляд. А причина в том, что окружающие «настроены» на ту же волну, что и возмутитель спокойствия, и поэтому заводятся с полуоборота, делая наблюдателей – соучаст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802" t="3032" r="107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моции лежат в основе великих деяний и страшных преступлений. Они мобилизуют нас и разрушают, возвышают и заставляют невыносимо страдать. Важно помнить, что эмоции даны человеку, а не он отдан им во владение, что чувствами можно управлять, а их последствия — контролировать. Но для этого эмоции необходимо знать, понимать и принимать, а значит, нужно уметь внимательно вчувствоваться в себя, чтобы стать в итоге чуть мудрее, сильнее и богаче. Как сказал Уильям Шекспир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Видеть и чувствовать — это быть, размышлять, это жи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58346" t="7616" r="0" b="46723"/>
          <a:stretch/>
        </p:blipFill>
        <p:spPr>
          <a:xfrm>
            <a:off x="185760" y="0"/>
            <a:ext cx="255744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54173" t="53295" r="0" b="1026"/>
          <a:stretch/>
        </p:blipFill>
        <p:spPr>
          <a:xfrm>
            <a:off x="6019920" y="3352680"/>
            <a:ext cx="284472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14508" t="9435" r="39508" b="46723"/>
          <a:stretch/>
        </p:blipFill>
        <p:spPr>
          <a:xfrm>
            <a:off x="5943600" y="0"/>
            <a:ext cx="297504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12500" t="49496" r="45846" b="1026"/>
          <a:stretch/>
        </p:blipFill>
        <p:spPr>
          <a:xfrm>
            <a:off x="3048120" y="0"/>
            <a:ext cx="259056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ТЕСТ          ЭМОЦИ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ждый оказывался в ситуации, когда трудно сдерживать свои эмоции. Прочитайте следующие утверждения. Если вы реагируете похожим образом, обведите в бланке номер вопрос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Если я разозлюсь, я могу ударить кого-нибу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Иногда я раздражаюсь настолько, что швыряю какой-нибудь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Я легко раздражаюсь, но быстро успокаив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Пока меня не попросят по-хорошему, я не выполню прось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Мне кажется, что судьба ко мне несправедли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Я знаю, что люди говорят обо мне за спи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Я не могу удержаться от спора, если со мной не соглас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Если я кого-то обманываю, то испытываю угрызения со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Мне не раз приходилось др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Когда я раздражаюсь, я хлопаю двер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Иногда люди раздражают меня просто своим присут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 Я нарушаю законы и правила, которые мне не нрав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. Иногда меня гложет зависть, хотя я этого не показы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 Я думаю, что многие люди не любят ме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. Я требую, чтобы люди уважали мо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. Иногда мне на ум приходят мысли, которых я стыж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. Я знаю людей, которые способны довести меня до дра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 Иногда я выражаю гнев тем, что стучу по сто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. Я часто чувствую, что могу взорваться, как пороховая б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. Если кто-то пытается мною командовать, я поступаю наперек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5-14T16:57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