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14C-A6E3-4ADE-8953-4AF8D454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FBC-3BEC-4E26-859C-3EB76BBB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173-D7ED-450A-BFA6-D70D3654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61AA-3078-4BC1-B561-41927935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51C5-8948-410F-B60F-86DBBD04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C69-07BF-4A6A-A82D-E73F2B74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9E6-E59B-4EC6-A16B-4DB2423B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9270-DB62-4DCE-B192-53210D58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047-3269-483C-8704-42E19550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53E-45D2-48A4-96FE-4A172F0A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F946-F141-4640-8BB4-566046A8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044-2DE6-4BFA-B545-02CA21D9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51F8-8326-48C7-8457-334654569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ЭМО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18874" t="0" r="0" b="3941"/>
          <a:stretch/>
        </p:blipFill>
        <p:spPr>
          <a:xfrm>
            <a:off x="1143000" y="1219320"/>
            <a:ext cx="6934320" cy="54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. Есть люди, к которым я испытываю настоящую ненави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2. Многие люди мне завидую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3. Если я злюсь, я могу выруг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. Люди, увиливающие от работы, должны испытывать чувство ви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. Если не понимают слов, я применяю сил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93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6. Иногда я хватаю первый попавшийся предмет и ломаю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7. Я могу нагрубить людям, которые мне не нравя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. Если со мной разговаривают свысока, мне ничего не хочется дел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9. Обычно я стараюсь скрывать плохое отношение к люд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. Иногда мне кажется, что надо мной смею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6169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1. Если кто-то раздражает меня, я говорю все, что о нем дума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2. Я мало помогаю своим родител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3. На удар я отвечаю удар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4. В споре я часто повышаю голо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. Я раздражаюсь из-за мелоч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8455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. Того, кто любит командовать, я стараюсь поставить на мест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7. Я заслуживаю больше похвал и внимания, чем получа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8. У меня есть враги, которые хотели бы мне навред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9. Я могу угрожать, хотя и не хочу приводить угрозы в исполн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. Я часто совершаю поступки, о которых потом жале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считайте число обведенных номеров в каждой строчке. Отметьте на графике семь точек, каждая из которых соответствует разным формам проявления агрессии, и соедините 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унктиром обозначен средний уровень проявления этих эмоций, обычный для большинства людей. Люди с повышенным уровнем агрессии провоцируют вокруг себя конфликты. Если ваши точки на графике расположены выше средней линии, можно говорить о выраженности следующих форм агресс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Физическая агресси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вы склонны к самому примитивному виду агрессии. Вам свойственно решать вопросы с позиции силы. Возможно, ваш образ жизни и личностные особенности мешают вам искать более эффективные методы взаимодействия. Вы рискуете нарваться на ответную агресси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9880" y="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18184" t="0" r="0" b="14207"/>
          <a:stretch/>
        </p:blipFill>
        <p:spPr>
          <a:xfrm>
            <a:off x="0" y="2590920"/>
            <a:ext cx="5715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ербальная агресси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за словом в карман вы не полезете. А зря. Последствия необдуманного слова могут быть куда более разрушительны, чем последствия драки. Впрочем, одно другому не мешает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72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освенная агресси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конечно, лучше ударить по столу, чем по голове партнера. Однако увлекаться этим не стоит. Пожалейте мебель, посуду. Ведь это прямые убытки. Кроме того, так недолго и поранить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38680" y="3429000"/>
            <a:ext cx="284796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моции 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зык нашего внутреннего мира. Они сообщают нам, какое значение лично для нас имеют те предметы, события, отношения с людьми, которые в данный момент оказались в поле нашего внимания. Человек может не задумываться о чём-то, случившемся на его глазах, однако возникшее переживание — гнев, радость, удивление, отвращение — сообщит ему об истинном значении происшедшего. Он только представит себе какую-нибудь ситуацию, а эмоции уже определяют её как желаемую или неприятную. Таким образом они выполняют функцию оце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аздражени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плохо или даже хорошо скрываемая агрессия не сразу приведет к разрыву отношений с другим человеком, но будет разъедать вас изнутри, как серная кислота, пока не прорвется наружу. Когда прорвется - см. "физическая и косвенная агрессия"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егативиз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акция, типичная для подростка, совершающего бессмысленные и даже разрушительные для себя поступки из чувства протеста. Суть ее в пословице "выбью себе глаз, пусть у тещи будет зять кривой"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бидчивос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готовность видеть в словах и поступках других людей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смешку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пренебрежение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желани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унизить. Здорово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травляет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жизн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206960" cy="6248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0292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952880" y="228600"/>
            <a:ext cx="373392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одозрительност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готовность видеть в словах и поступках других скрытый умысел, направленный против вас. В крайних проявлениях может быть симптомом нездоровь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Чувство вин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вы никого не ударили, ничего не разбили, ни на кого не накричали. Откуда тогда чувство дискомфорта, ощущение, будто вы в чем-то виноваты? Если вы чувствуете себя в ответе за свои эмоции, значит, способны ими управля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ст основан на самооценке. Его точность зависит от вашей откровенности. Если у вас повышенный уровень агрессии, прежде всего, надо об этом знать. Возможно, ваша энергия и пробивные способности помогают вам в достижении своих целей. Но задумайтесь, какую цену вы платите за свои победы. Довольны своими отношениями с другими людьми? Агрессивный стиль поведения разрушает отношения между людьми и провоцирует конфликты. Ваша агрессивность – ваше личное дело, если вы по своей или чужой воле изолированы от всех людей. Вам необходимо учиться контролировать свои эмоции. Если это трудно, попробуйте направить их в мирное русло – спорт, творче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705720" y="2209680"/>
            <a:ext cx="2228760" cy="2229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400800" y="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52280" y="3529080"/>
            <a:ext cx="3657600" cy="3328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-533520" y="0"/>
            <a:ext cx="5257800" cy="3505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3809880" y="228600"/>
            <a:ext cx="2830680" cy="4267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4267080" y="4114800"/>
            <a:ext cx="42865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юдям, которые не умеют управлять своими эмоциями, не следует выбирать профессии, связанные с общением, обслуживанием, воспитанием, обучением – то есть все профессии, связанные с людьми. Даже обращение с животными требует умения контролировать себя, сдерживать гнев и раздражение. Низкие значения по этому тесту (точки расположены ниже пунктирной линии) свидетельствуют о вашей деликатности, уступчивости и бесконфликтности. Однако вам может не хватать упорства в достижении своих целей и отстаивании своей пози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05320" y="5516640"/>
            <a:ext cx="4876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2248" t="1716" r="2248" b="2603"/>
          <a:stretch/>
        </p:blipFill>
        <p:spPr>
          <a:xfrm>
            <a:off x="304920" y="228600"/>
            <a:ext cx="7467480" cy="4916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09680" y="52578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Страсти, которыми владеем мы, — суть добродетели; страсти, которые владеют нами, — поро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Уровень эмоциональности индивидуален – от эмоциональной холодности до сверхчувствительности, при которой легко передаются эмоции собеседни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лисмен увидел человека, который собирался прыгнуть с моста. «Проблемы с деньгами?», - спросил полицейский. «Нет». «Проблемы в семье?» Тот снова покачал головой. «Тогда в чем же дело?» «Меня волнуют мировые проблемы», - ответил самоубийца. «Послушай, все не так уж плохо, давай прогуляемся по мосту и все обсудим», – сказал полисмен. Они около часа бродили взад и вперед, обсуждая мировые проблемы. Потом прыгну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моции, как любая инфекция, легче всего распространяются при большом скоплении народа. Недовольный, раздражительный, агрессивный человек способен принести больше вреда, чем больной заразной болезнью. Очень часто в толпе вспыхивают ссоры, переходящие в драки. Поводом для инцидента может быть нечаянный толчок, язвительное замечание, даже неодобрительный взгляд. А причина в том, что окружающие «настроены» на ту же волну, что и возмутитель спокойствия, и поэтому заводятся с полуоборота, делая наблюдателей – соучастни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3802" t="3032" r="1070" b="31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моции лежат в основе великих деяний и страшных преступлений. Они мобилизуют нас и разрушают, возвышают и заставляют невыносимо страдать. Важно помнить, что эмоции даны человеку, а не он отдан им во владение, что чувствами можно управлять, а их последствия — контролировать. Но для этого эмоции необходимо знать, понимать и принимать, а значит, нужно уметь внимательно вчувствоваться в себя, чтобы стать в итоге чуть мудрее, сильнее и богаче. Как сказал Уильям Шекспир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Видеть и чувствовать — это быть, размышлять, это жи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58346" t="7616" r="0" b="46723"/>
          <a:stretch/>
        </p:blipFill>
        <p:spPr>
          <a:xfrm>
            <a:off x="185760" y="0"/>
            <a:ext cx="255744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54173" t="53295" r="0" b="1026"/>
          <a:stretch/>
        </p:blipFill>
        <p:spPr>
          <a:xfrm>
            <a:off x="6019920" y="3352680"/>
            <a:ext cx="2844720" cy="3353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14508" t="9435" r="39508" b="46723"/>
          <a:stretch/>
        </p:blipFill>
        <p:spPr>
          <a:xfrm>
            <a:off x="5943600" y="0"/>
            <a:ext cx="297504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rcRect l="12500" t="49496" r="45846" b="1026"/>
          <a:stretch/>
        </p:blipFill>
        <p:spPr>
          <a:xfrm>
            <a:off x="3048120" y="0"/>
            <a:ext cx="2590560" cy="3200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ТЕСТ          ЭМОЦИ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ждый оказывался в ситуации, когда трудно сдерживать свои эмоции. Прочитайте следующие утверждения. Если вы реагируете похожим образом, обведите в бланке номер вопрос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915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Если я разозлюсь, я могу ударить кого-нибуд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Иногда я раздражаюсь настолько, что швыряю какой-нибудь пред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Я легко раздражаюсь, но быстро успокаиваю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Пока меня не попросят по-хорошему, я не выполню просьб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Мне кажется, что судьба ко мне несправедли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69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Я знаю, что люди говорят обо мне за спи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Я не могу удержаться от спора, если со мной не соглас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 Если я кого-то обманываю, то испытываю угрызения сове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 Мне не раз приходилось др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 Когда я раздражаюсь, я хлопаю дверь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406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.Иногда люди раздражают меня просто своим присутств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. Я нарушаю законы и правила, которые мне не нравя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. Иногда меня гложет зависть, хотя я этого не показыва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. Я думаю, что многие люди не любят ме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. Я требую, чтобы люди уважали мо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. Иногда мне на ум приходят мысли, которых я стыжу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. Я знаю людей, которые способны довести меня до дра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. Иногда я выражаю гнев тем, что стучу по стол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. Я часто чувствую, что могу взорваться, как пороховая боч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. Если кто-то пытается мною командовать, я поступаю напереко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09-05-14T16:57:0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