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7478-FB55-451A-A20B-D725F876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340A-2CBB-4215-BDAB-540A77F6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2D9C-D46C-4DF5-8034-CCD8E7F7D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BB0A-F49D-489A-8961-43B059DB7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EB59-4920-4D9A-9D16-12CA60B8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63C3-F19B-4BCE-ABFC-BCFF4E3F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B4AA-FC4F-45FF-9563-DD8BDE4F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4DD2-D5F2-4D66-8441-EBB06AE0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B619-3DE9-4637-A84E-D2485E78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DB16-FEFE-4649-8DF2-A71F0539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2606-50E7-47FC-B801-D76E666B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75AE-1710-4C1A-A641-FD36F023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A79F-6E1F-4870-A3FC-5C40E26738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64072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2020b"/>
                </a:solidFill>
                <a:latin typeface="Calibri"/>
              </a:rPr>
              <a:t>Музыкальная тропа здоровь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13" descr="imgFull.jpg"/>
          <p:cNvPicPr/>
          <p:nvPr/>
        </p:nvPicPr>
        <p:blipFill>
          <a:blip r:embed="rId1"/>
          <a:stretch/>
        </p:blipFill>
        <p:spPr>
          <a:xfrm>
            <a:off x="2124000" y="2060640"/>
            <a:ext cx="4572000" cy="4143240"/>
          </a:xfrm>
          <a:prstGeom prst="rect">
            <a:avLst/>
          </a:prstGeom>
          <a:ln w="57240">
            <a:solidFill>
              <a:srgbClr val="376092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Овал 10"/>
          <p:cNvSpPr/>
          <p:nvPr/>
        </p:nvSpPr>
        <p:spPr>
          <a:xfrm>
            <a:off x="5580000" y="1266840"/>
            <a:ext cx="3214800" cy="178596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alibri"/>
              </a:rPr>
              <a:t>Укрепляет различные группы мышц и осан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11"/>
          <p:cNvSpPr/>
          <p:nvPr/>
        </p:nvSpPr>
        <p:spPr>
          <a:xfrm>
            <a:off x="5429160" y="4429080"/>
            <a:ext cx="3214800" cy="178596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alibri"/>
              </a:rPr>
              <a:t>Развивает умение чувствовать и передавать характер музы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Calibri"/>
              </a:rPr>
              <a:t>Ритмопла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Овал 8"/>
          <p:cNvSpPr/>
          <p:nvPr/>
        </p:nvSpPr>
        <p:spPr>
          <a:xfrm>
            <a:off x="395280" y="1268280"/>
            <a:ext cx="3097080" cy="178596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alibri"/>
              </a:rPr>
              <a:t>Развивает чувство ритма, музыкальный слух и вк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9"/>
          <p:cNvSpPr/>
          <p:nvPr/>
        </p:nvSpPr>
        <p:spPr>
          <a:xfrm>
            <a:off x="714240" y="4500720"/>
            <a:ext cx="3214800" cy="178596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alibri"/>
              </a:rPr>
              <a:t>Развивает умение правильно и красиво двигать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-10971360" y="-8228160"/>
            <a:ext cx="5400720" cy="4050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:\Users\Irina\Desktop\0_c6605_bfe483a1_orig.png"/>
          <p:cNvPicPr/>
          <p:nvPr/>
        </p:nvPicPr>
        <p:blipFill>
          <a:blip r:embed="rId2"/>
          <a:stretch/>
        </p:blipFill>
        <p:spPr>
          <a:xfrm>
            <a:off x="2394000" y="2173320"/>
            <a:ext cx="5079960" cy="25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Музыкотерап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Овал 3"/>
          <p:cNvSpPr/>
          <p:nvPr/>
        </p:nvSpPr>
        <p:spPr>
          <a:xfrm>
            <a:off x="4714920" y="1143000"/>
            <a:ext cx="3789360" cy="1857240"/>
          </a:xfrm>
          <a:prstGeom prst="ellipse">
            <a:avLst/>
          </a:prstGeom>
          <a:solidFill>
            <a:srgbClr val="dcfdd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alibri"/>
              </a:rPr>
              <a:t>Психогимнастические этюды и упраж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4"/>
          <p:cNvSpPr/>
          <p:nvPr/>
        </p:nvSpPr>
        <p:spPr>
          <a:xfrm>
            <a:off x="5643720" y="3929040"/>
            <a:ext cx="3214440" cy="1857240"/>
          </a:xfrm>
          <a:prstGeom prst="ellipse">
            <a:avLst/>
          </a:prstGeom>
          <a:solidFill>
            <a:srgbClr val="dcfdd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alibri"/>
              </a:rPr>
              <a:t>Музицирование  на  детских музыкальных инструмен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5"/>
          <p:cNvSpPr/>
          <p:nvPr/>
        </p:nvSpPr>
        <p:spPr>
          <a:xfrm>
            <a:off x="179280" y="1125360"/>
            <a:ext cx="3214800" cy="1785960"/>
          </a:xfrm>
          <a:prstGeom prst="ellipse">
            <a:avLst/>
          </a:prstGeom>
          <a:solidFill>
            <a:srgbClr val="dcfdd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alibri"/>
              </a:rPr>
              <a:t>Обычное прослушивание музы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C:\Users\Irina\Desktop\Новая папка (2)\gaPbiQIvaRs.jpg"/>
          <p:cNvPicPr/>
          <p:nvPr/>
        </p:nvPicPr>
        <p:blipFill>
          <a:blip r:embed="rId1"/>
          <a:stretch/>
        </p:blipFill>
        <p:spPr>
          <a:xfrm>
            <a:off x="42840" y="3236760"/>
            <a:ext cx="5510160" cy="348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Calibri"/>
              </a:rPr>
              <a:t>Результаты музыкально-оздоровительной работы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повышение уровня развития музыкальных и творческих способностей дет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стабильность эмоционального благополучия каждого дошкольни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повышение уровня речевого развит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снижение уровня заболеваемо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стабильность физической и умственной работоспособ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4" descr="cont.gif"/>
          <p:cNvPicPr/>
          <p:nvPr/>
        </p:nvPicPr>
        <p:blipFill>
          <a:blip r:embed="rId1"/>
          <a:stretch/>
        </p:blipFill>
        <p:spPr>
          <a:xfrm>
            <a:off x="2340000" y="0"/>
            <a:ext cx="3789360" cy="109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64072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2020b"/>
                </a:solidFill>
                <a:latin typeface="Calibri"/>
              </a:rPr>
              <a:t>Музыкальная тропа здоровь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2567880" y="2637000"/>
            <a:ext cx="3983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По кочкам, по кочк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По маленьким пенёчк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По гладенькой дорож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Бежали наши ножки. (2 ра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По кочкам, по кочк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По маленьким пенёчк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В ямку бу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Провалился наш пету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660040" y="1557360"/>
            <a:ext cx="33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альчиковая разми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Users\Hp\Desktop\original.jpg"/>
          <p:cNvPicPr/>
          <p:nvPr/>
        </p:nvPicPr>
        <p:blipFill>
          <a:blip r:embed="rId1"/>
          <a:stretch/>
        </p:blipFill>
        <p:spPr>
          <a:xfrm>
            <a:off x="1000080" y="785880"/>
            <a:ext cx="7358040" cy="553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5840" y="-100080"/>
            <a:ext cx="864072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2020b"/>
                </a:solidFill>
                <a:latin typeface="Calibri"/>
              </a:rPr>
              <a:t>Музыкальная тропа здоровь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2574360" y="1052640"/>
            <a:ext cx="39128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Осеннняя пальчиковая иг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Ёжик спрятался в ладош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Обниму его, немножк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В руках быстро покруч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И на ушко прошепч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Спи тихонько, засыпа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К моей ручке привык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Я теплом своим согре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И обидеть не посме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На твои колю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Я одену штуч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Синие, зелёны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Красные и жёлт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На павлина стал похож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Это ж птица, а не ё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2020b"/>
                </a:solidFill>
                <a:latin typeface="Calibri"/>
              </a:rPr>
              <a:t>Музыкальная тропа здоровь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484000" y="1484280"/>
            <a:ext cx="554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Упражнение «Кулак на ладошке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Веточки на яблонь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Повисли от печа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Яблочки на веточ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Висели и скуча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Мальчики и девоч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Деревья раскача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Яблочки с веточ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На землю все упали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ff"/>
                </a:solidFill>
                <a:latin typeface="Calibri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Здоровьесбережение на музыкальных занятия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Скругленный прямоугольник 4"/>
          <p:cNvSpPr/>
          <p:nvPr/>
        </p:nvSpPr>
        <p:spPr>
          <a:xfrm>
            <a:off x="428760" y="1773360"/>
            <a:ext cx="8258040" cy="407196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это система мер, направленных на улучшение здоровья участников образовательного проце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3214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83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хема 3" descr=""/>
          <p:cNvPicPr/>
          <p:nvPr/>
        </p:nvPicPr>
        <p:blipFill>
          <a:blip r:embed="rId1"/>
          <a:stretch/>
        </p:blipFill>
        <p:spPr>
          <a:xfrm>
            <a:off x="212760" y="480960"/>
            <a:ext cx="8596440" cy="601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сихогимна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Овал 4"/>
          <p:cNvSpPr/>
          <p:nvPr/>
        </p:nvSpPr>
        <p:spPr>
          <a:xfrm>
            <a:off x="324000" y="1268280"/>
            <a:ext cx="2428560" cy="2143080"/>
          </a:xfrm>
          <a:prstGeom prst="ellipse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alibri"/>
              </a:rPr>
              <a:t>Снятие эмоциональ-ного напря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5"/>
          <p:cNvSpPr/>
          <p:nvPr/>
        </p:nvSpPr>
        <p:spPr>
          <a:xfrm>
            <a:off x="5643720" y="4071960"/>
            <a:ext cx="2714400" cy="2143080"/>
          </a:xfrm>
          <a:prstGeom prst="ellipse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a452a"/>
                </a:solidFill>
                <a:latin typeface="Calibri"/>
              </a:rPr>
              <a:t>Обучение уме- нию изображать  выразительно  отдельные эм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a452a"/>
                </a:solidFill>
                <a:latin typeface="Calibri"/>
              </a:rPr>
              <a:t>ции, дви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7"/>
          <p:cNvSpPr/>
          <p:nvPr/>
        </p:nvSpPr>
        <p:spPr>
          <a:xfrm>
            <a:off x="6300720" y="1268280"/>
            <a:ext cx="2643120" cy="2143080"/>
          </a:xfrm>
          <a:prstGeom prst="ellipse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alibri"/>
              </a:rPr>
              <a:t>Коррекция настроения и отдельных черт характе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8"/>
          <p:cNvSpPr/>
          <p:nvPr/>
        </p:nvSpPr>
        <p:spPr>
          <a:xfrm>
            <a:off x="3492360" y="1268280"/>
            <a:ext cx="2428920" cy="2143080"/>
          </a:xfrm>
          <a:prstGeom prst="ellipse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alibri"/>
              </a:rPr>
              <a:t>Обучение ауто-релакса-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C:\Users\Hp\Desktop\59c689cf44d6fcbf3791cd8d14ccf64d.png"/>
          <p:cNvPicPr/>
          <p:nvPr/>
        </p:nvPicPr>
        <p:blipFill>
          <a:blip r:embed="rId1"/>
          <a:stretch/>
        </p:blipFill>
        <p:spPr>
          <a:xfrm>
            <a:off x="1647720" y="3473280"/>
            <a:ext cx="2847960" cy="32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64072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2020b"/>
                </a:solidFill>
                <a:latin typeface="Calibri"/>
              </a:rPr>
              <a:t>Валеологические песенки-распев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Овал 2"/>
          <p:cNvSpPr/>
          <p:nvPr/>
        </p:nvSpPr>
        <p:spPr>
          <a:xfrm>
            <a:off x="1214280" y="2000160"/>
            <a:ext cx="2714760" cy="1414440"/>
          </a:xfrm>
          <a:prstGeom prst="ellipse">
            <a:avLst/>
          </a:prstGeom>
          <a:solidFill>
            <a:srgbClr val="d99694"/>
          </a:solidFill>
          <a:ln w="255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alibri"/>
              </a:rPr>
              <a:t>Поднимают настро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4"/>
          <p:cNvSpPr/>
          <p:nvPr/>
        </p:nvSpPr>
        <p:spPr>
          <a:xfrm>
            <a:off x="5929200" y="2500200"/>
            <a:ext cx="2857680" cy="1571760"/>
          </a:xfrm>
          <a:prstGeom prst="ellipse">
            <a:avLst/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alibri"/>
              </a:rPr>
              <a:t>Улучшают эмоциональный климат на зан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5"/>
          <p:cNvSpPr/>
          <p:nvPr/>
        </p:nvSpPr>
        <p:spPr>
          <a:xfrm>
            <a:off x="4857840" y="4929120"/>
            <a:ext cx="2857320" cy="1343160"/>
          </a:xfrm>
          <a:prstGeom prst="ellipse">
            <a:avLst/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alibri"/>
              </a:rPr>
              <a:t>Подготавливают голос к п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C:\Users\Hp\Desktop\hello_html_m50a6d66e.png"/>
          <p:cNvPicPr/>
          <p:nvPr/>
        </p:nvPicPr>
        <p:blipFill>
          <a:blip r:embed="rId1"/>
          <a:stretch/>
        </p:blipFill>
        <p:spPr>
          <a:xfrm>
            <a:off x="250920" y="3789360"/>
            <a:ext cx="4637160" cy="284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Дыхательная гимна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вал 6"/>
          <p:cNvSpPr/>
          <p:nvPr/>
        </p:nvSpPr>
        <p:spPr>
          <a:xfrm>
            <a:off x="3000240" y="4643280"/>
            <a:ext cx="3000600" cy="1857600"/>
          </a:xfrm>
          <a:prstGeom prst="ellipse">
            <a:avLst/>
          </a:prstGeom>
          <a:solidFill>
            <a:srgbClr val="dcfdd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Calibri"/>
              </a:rPr>
              <a:t>Помогает выработать диафрагмальное дых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7"/>
          <p:cNvSpPr/>
          <p:nvPr/>
        </p:nvSpPr>
        <p:spPr>
          <a:xfrm>
            <a:off x="5977080" y="1496880"/>
            <a:ext cx="2928960" cy="1860840"/>
          </a:xfrm>
          <a:prstGeom prst="ellipse">
            <a:avLst/>
          </a:prstGeom>
          <a:solidFill>
            <a:srgbClr val="dcfdd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Calibri"/>
              </a:rPr>
              <a:t>Помогает  выработать силу и правильное распределение выдо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5"/>
          <p:cNvSpPr/>
          <p:nvPr/>
        </p:nvSpPr>
        <p:spPr>
          <a:xfrm>
            <a:off x="250920" y="1496880"/>
            <a:ext cx="2928960" cy="1785960"/>
          </a:xfrm>
          <a:prstGeom prst="ellipse">
            <a:avLst/>
          </a:prstGeom>
          <a:solidFill>
            <a:srgbClr val="dcfdd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Calibri"/>
              </a:rPr>
              <a:t>Корректирует нарушения речевого дых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C:\Users\Irina\Desktop\bezimeni-2.png"/>
          <p:cNvPicPr/>
          <p:nvPr/>
        </p:nvPicPr>
        <p:blipFill>
          <a:blip r:embed="rId1"/>
          <a:stretch/>
        </p:blipFill>
        <p:spPr>
          <a:xfrm>
            <a:off x="3214800" y="1214280"/>
            <a:ext cx="307188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Артикуляционная гимна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Овал 3"/>
          <p:cNvSpPr/>
          <p:nvPr/>
        </p:nvSpPr>
        <p:spPr>
          <a:xfrm>
            <a:off x="642960" y="1357200"/>
            <a:ext cx="7532640" cy="2448000"/>
          </a:xfrm>
          <a:prstGeom prst="ellipse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Выработка качественных, полноценных движений органов артикуляции, подготовка к правильному произнесению фон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-10971360" y="-8228160"/>
            <a:ext cx="5166000" cy="3873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:\Users\Irina\Desktop\Новая папка (2)\d21473f01e87bf13fe163c0870809bd1.png"/>
          <p:cNvPicPr/>
          <p:nvPr/>
        </p:nvPicPr>
        <p:blipFill>
          <a:blip r:embed="rId2"/>
          <a:stretch/>
        </p:blipFill>
        <p:spPr>
          <a:xfrm>
            <a:off x="2643120" y="3571920"/>
            <a:ext cx="3373560" cy="45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Речь с движени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Овал 7"/>
          <p:cNvSpPr/>
          <p:nvPr/>
        </p:nvSpPr>
        <p:spPr>
          <a:xfrm>
            <a:off x="214200" y="1285920"/>
            <a:ext cx="2648160" cy="2286000"/>
          </a:xfrm>
          <a:prstGeom prst="ellipse">
            <a:avLst/>
          </a:prstGeom>
          <a:solidFill>
            <a:srgbClr val="eef18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Стимулирует развитие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4"/>
          <p:cNvSpPr/>
          <p:nvPr/>
        </p:nvSpPr>
        <p:spPr>
          <a:xfrm>
            <a:off x="357120" y="4357800"/>
            <a:ext cx="2428920" cy="2286000"/>
          </a:xfrm>
          <a:prstGeom prst="ellipse">
            <a:avLst/>
          </a:prstGeom>
          <a:solidFill>
            <a:srgbClr val="eef18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Развивает пространст-венное мыш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5"/>
          <p:cNvSpPr/>
          <p:nvPr/>
        </p:nvSpPr>
        <p:spPr>
          <a:xfrm>
            <a:off x="6429240" y="4357800"/>
            <a:ext cx="2428920" cy="2280960"/>
          </a:xfrm>
          <a:prstGeom prst="ellipse">
            <a:avLst/>
          </a:prstGeom>
          <a:solidFill>
            <a:srgbClr val="eef18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Развив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внимание, вооб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6"/>
          <p:cNvSpPr/>
          <p:nvPr/>
        </p:nvSpPr>
        <p:spPr>
          <a:xfrm>
            <a:off x="6072120" y="1285920"/>
            <a:ext cx="2857680" cy="2303280"/>
          </a:xfrm>
          <a:prstGeom prst="ellipse">
            <a:avLst/>
          </a:prstGeom>
          <a:solidFill>
            <a:srgbClr val="eef18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Calibri"/>
              </a:rPr>
              <a:t>Воспитывает быстроту реакции и эмоциональную вырази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C:\Users\Hp\Desktop\93086951.png"/>
          <p:cNvPicPr/>
          <p:nvPr/>
        </p:nvPicPr>
        <p:blipFill>
          <a:blip r:embed="rId1"/>
          <a:stretch/>
        </p:blipFill>
        <p:spPr>
          <a:xfrm>
            <a:off x="2268360" y="2438280"/>
            <a:ext cx="4551480" cy="27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C:\Documents and Settings\Admin\Рабочий стол\Руки.png"/>
          <p:cNvPicPr/>
          <p:nvPr/>
        </p:nvPicPr>
        <p:blipFill>
          <a:blip r:embed="rId1"/>
          <a:stretch/>
        </p:blipFill>
        <p:spPr>
          <a:xfrm>
            <a:off x="0" y="5214960"/>
            <a:ext cx="1474920" cy="1079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00080" y="21960"/>
            <a:ext cx="74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альчиковая гимна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Овал 6"/>
          <p:cNvSpPr/>
          <p:nvPr/>
        </p:nvSpPr>
        <p:spPr>
          <a:xfrm>
            <a:off x="108000" y="1733400"/>
            <a:ext cx="2428920" cy="2143440"/>
          </a:xfrm>
          <a:prstGeom prst="ellipse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Calibri"/>
              </a:rPr>
              <a:t>Стимулирует действие речевых зон коры головного мозга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9"/>
          <p:cNvSpPr/>
          <p:nvPr/>
        </p:nvSpPr>
        <p:spPr>
          <a:xfrm>
            <a:off x="1857240" y="4357800"/>
            <a:ext cx="2357640" cy="2071440"/>
          </a:xfrm>
          <a:prstGeom prst="ellipse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Calibri"/>
              </a:rPr>
              <a:t>Совершенст-вует внимание и пам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10"/>
          <p:cNvSpPr/>
          <p:nvPr/>
        </p:nvSpPr>
        <p:spPr>
          <a:xfrm>
            <a:off x="4857840" y="4357800"/>
            <a:ext cx="2357280" cy="2071440"/>
          </a:xfrm>
          <a:prstGeom prst="ellipse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Calibri"/>
              </a:rPr>
              <a:t>Формирует ассоциатив-но-образное мыш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11"/>
          <p:cNvSpPr/>
          <p:nvPr/>
        </p:nvSpPr>
        <p:spPr>
          <a:xfrm>
            <a:off x="6732720" y="1733400"/>
            <a:ext cx="2357280" cy="2000520"/>
          </a:xfrm>
          <a:prstGeom prst="ellipse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Calibri"/>
              </a:rPr>
              <a:t>Облегчает будущим школьникам усвоение навыков пись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C:\Users\Hp\Desktop\s1200.png"/>
          <p:cNvPicPr/>
          <p:nvPr/>
        </p:nvPicPr>
        <p:blipFill>
          <a:blip r:embed="rId2"/>
          <a:stretch/>
        </p:blipFill>
        <p:spPr>
          <a:xfrm>
            <a:off x="2536920" y="1585800"/>
            <a:ext cx="4195800" cy="2291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9T11:57:02Z</dcterms:created>
  <dc:creator>Кушнерова Е. п.</dc:creator>
  <dc:description/>
  <dc:language>en-US</dc:language>
  <cp:lastModifiedBy>Hp</cp:lastModifiedBy>
  <dcterms:modified xsi:type="dcterms:W3CDTF">2020-12-03T21:11:49Z</dcterms:modified>
  <cp:revision>239</cp:revision>
  <dc:subject/>
  <dc:title>Использование здоровьесберегающих технологий в работе музыкального руководителя ДОУ</dc:title>
</cp:coreProperties>
</file>