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062-C599-4E58-BCC3-F3C008BBAF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B8A-269F-4C00-A06B-A1B54F4D8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357-9FAA-4820-9CAF-FFAA954B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7AA-9386-49EE-B125-790BC0F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3ED-5A6E-4796-97EE-25534432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FB4-BBC3-4947-8B98-541CF814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5793-7790-4193-8DB5-53E7B8D7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120-C375-491B-81B6-D9124799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B8A-86F7-497F-8A52-32AC76A6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2CBB-8C1C-44AD-ABC4-2DA3662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7AAB-0008-44D1-99A6-9D60C78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8E3A-FA1E-40BF-AE91-52B2241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5D77-EC61-4299-92DC-5398414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3EC-E56F-47E5-86DB-3B3CE95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ED40-5307-4D4A-8DBA-A158B2E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A6B-4823-4A8A-8B5D-C73560C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FC6-1C62-4CA7-9012-409EE70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12D-2DB7-4FDC-8130-899F8E27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533-C577-489C-B229-0E5297FB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EB2A-2DF4-4FB8-8C01-594BA134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ECF9-6B44-4E0B-BEB1-42401A4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0221-2396-40A4-98F5-DE8A61AC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FEDD-F48F-4BE7-B22C-65B7865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BE5D-17DB-4D62-B1DF-015C2FD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086-B0C6-4818-8AEF-64F88B8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09E2-C5F9-418E-BCF5-4DE6EA1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9D2C-842E-4C82-88D7-4C39F3D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9BA7-BB99-4EF9-84D1-8E39C1F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D5EE-D45D-4F53-AEC4-2C1B08E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2B6A-BFCF-487B-98F6-6CA08EC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07B4-24FD-4A93-B25E-5C7941CD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9212-E8BC-4E89-8F19-31201444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BE65-310A-4478-841E-C98B3146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EB33-0AC6-4261-9887-BEAF501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0066-5E85-421A-967B-70F96CCE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28F-02A5-4872-9418-0511E30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85A5-2BA2-4CD1-B58F-E085AF69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29246-13E5-4199-B24C-7787E59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AE38-E1E4-4795-801D-A5E89796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EC2A-9637-4B2B-BA22-AE57FC3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E448-D35C-4416-AEC8-926C61D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4463-AB1F-4830-83B6-467C4F2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B7D6-9FA4-491C-B648-DF197FA4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F744-9517-4F56-B7F7-BA9D102E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7E5A-6D41-476E-B1BE-6B35C12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492-B146-41E2-8D90-52D0EC6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D31-EA09-4F13-8646-D593E148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9D5-B865-440E-A2D2-1DFD743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C5-8BB7-4DAC-8526-16A3534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DFB-61AF-479E-9BF1-08BC36BE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7CE-0142-4D64-A976-3D80C27559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4153-8CE7-408B-9FF0-E01B6ADEDFE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20D-EE78-447D-A824-5DAEFB67305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1CC-AC9D-4613-BF16-A1CFCA3D8B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hotographer.ru/nonstop/picture.htm?id=561159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-208080"/>
            <a:ext cx="7772400" cy="325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78548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4038480" y="25146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лимпийские игры бывают -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етние и зим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енние и весен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есенне-лет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сенне-зим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двигательный режим дня младшего школьника входя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тренняя зарядка, урок физкультуры, занятия в спортивных секц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портивные заня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движные игр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портивные иг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гра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торически сложившееся общественное явление самостоятельный вид деятельности, свойственной человек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ОВЫЕ ИГРЫ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МАЛЬЧИКОВ И ДЕВОЧЕ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ятк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грают 3—10 человек. Выбранный водящий становится в условленном месте с закрытыми глазами, прислонившись к дереву или другому предмету. Это место называют «коном». Водящий громко считает до 20—30 (по уговору) или произносит считалку. Тем временем остальные прячутся в разных места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кончив счет, водящий открывает глаза и начинает искать ребят. Увидев кого-либо, называет его по имени и бежит на кон. Найденный бежит туда же, стараясь обогнать водящего и дотронуться до предмета, у которого тот стоял. Если он сделает это раньше водящего, то не считается пойманным и остается у кона, пока водящий ищет других. Когда все найдены, водящим становится первый игрок, не сумевший прибежать на кон раньше водящего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ногда на кону кладут палочку. Тогда каждый прибежавший раньше на кон должен постучать палочкой о предмет и сказать: «Палочка-выручалочка, выручи меня!» После этих слов он считается вырученны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прятавшиеся могут не дожидаться, когда их найдет водящий, и в удобный момент бежать на кон. Поэтому водящему надо следить и за эти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жно условиться и о таком правиле: если последнему игроку удастся прибежать на кон раньше водящего, он кричит, ударяя палочкой: «Палочка-выручалочка, выручи нас всех!» После этих слов все считаются вырученными, и снова водит прежний игрок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Содержимое 4" descr=""/>
          <p:cNvPicPr/>
          <p:nvPr/>
        </p:nvPicPr>
        <p:blipFill>
          <a:blip r:embed="rId1"/>
          <a:srcRect l="5802" t="3000" r="0" b="0"/>
          <a:stretch/>
        </p:blipFill>
        <p:spPr>
          <a:xfrm>
            <a:off x="6172200" y="26668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Караси и щук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   играющих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30—40 чел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сто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площадка, за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к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На противоположных сторонах площадки проводятся две линии «дома карасей». Водящий — «щука» — становится в середине площадки, остальные играющие — «караси»— располагаются в одном из дом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По команде руководителя «караси» начинают перебежку в противоположный «дом». «Щука» пытается их поймать. Запятнанные отходят в сторону, а затем, когда их будет 5—6 человек, берутся за руки и образуют «сеть». «Щука» становится сзади «сети». Теперь при перебежке «караси» обязаны пробегать через «сеть». Пойманные позже образуют круг — «корзину», а затем — «вершу», став в две шеренги лицом друг к другу. Побеждает тот, кто будет пойман последни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авил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)  перебежка   разрешается   только по команд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)   «караси»   обязаны   пробегать   через   все   «сети»   «рыбаков»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) игроки, образующие «сеть», не должны мешать пробегающим «карасям»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) «щука» не может забегать в «сеть» (играющие могут поймать ее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тодические указани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При большом количестве играющих могут быть два водящих. Участников следует побуждать к активным, решительным действия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о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Игра содействует воспитанию быстроты, ловкости, ориентировки, смелости, коллективности действи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Гонка мячей по кругу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 играющих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20—30 чел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сто и инвентар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л, площадка; два больших мяч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ка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грающие образуют круг и рассчитываются на 1—2-й. Первые номера составляют одну команду, вторые—другую. Направляющим обеих команд — капитанам — дается по баскетбольному или волейбольному мяч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писа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сигналу капитаны пасуют мяч ближним игрокам своей команды. Причем заранее обусловливается, что одна команда передает мяч по часовой стрелке, а другая — в противоположном направлении. Мяч поочередно передается каждому игроку команды и возвращается обратно капитану. Выигрывает команда, сумевшая раньше передать мяч определенное количество раз по круг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авил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1) мяч можно передавать только через одного игрока; 2) нельзя выходить со своего места; 3) упавший мяч нужно поймать и, вернувшись на свое место, передать следующему игро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Методические   указания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Если   играющих   много, то образуется несколько кругов. В каждом круге должен быть свой судья. Передавать мяч следует только определенным способом. Варианты:    1)   передачи   выполнять   в   положении   сидя; 2) перед началом игры мячи давать игрокам, находящимся на противоположных сторонах круга; 3) передачи мяча обеим командам выполнять в одну сторону. Игра заканчивается, когда один мяч догонит втор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ое значение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игре совершенствуются навыки ловли и передачи мяча, развивается быстрота реакции и ориентировка, воспитывается чувство коллективизм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гры для мальч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952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ильная хватк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Играющие в парах становятся спинами друг к другу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по кругу диаметром 1,5 метра и сцепляются согнутыми в локтях руками. Подавая туловище вперед, каждый старается заставить противника оторвать ноги от пола. Побеждает тот, кто большее число раз выиграет поединок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Можно провести состязание иначе. Игроки, стоя спиной друг к другу, поднимают вверх палку, взявшись за нее руками. Задача — наклониться вперед и попы­таться оторвать соперника от земли. Проигрывает тот, кто окажется в воздухе или отпустит палку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Еще вариант. Играющие садятся друг против друга на землю (упираясь ступнями в ступни партнера) и берутся за гимнастическую палку. По сигналу оба начинают тянуть палку в свою сторону. Побеждает тот, кто сумеет приподнять соперника, продержав его в таком положении 5 секунд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2952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Боевые петух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На земле чертится круг диаметром 2 метра. Две команды становятся шеренгами напротив друг друга. Выбирают капитанов, которые посылают одного из своих игроков в круг. Каждый из них сгибает одну ногу, руки кладет за спину, и по сигналу участники поединка начинают плечом и туловищем выталкивать друг друга из круга, стараясь не вставать на вторую ногу. Нельзя также снимать руки со спины. Игра продолжается до тех пор, пока все побывают в роли петухов, капитаны сражаются последними. Побеждает команда, в которой окажется больше победителей. Поединок заканчивается вничью, если оба игрока (в паре) оказались за пределами круга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rcRect l="0" t="2617" r="4812" b="4837"/>
          <a:stretch/>
        </p:blipFill>
        <p:spPr>
          <a:xfrm>
            <a:off x="1905120" y="487692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"/>
          <p:cNvPicPr/>
          <p:nvPr/>
        </p:nvPicPr>
        <p:blipFill>
          <a:blip r:embed="rId2"/>
          <a:srcRect l="1748" t="4306" r="3574" b="3318"/>
          <a:stretch/>
        </p:blipFill>
        <p:spPr>
          <a:xfrm>
            <a:off x="5715000" y="4114800"/>
            <a:ext cx="217188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6840" y="685440"/>
            <a:ext cx="4040280" cy="5675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ГРА "ГУСИ"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дготавливается площадка. Обозначаются горы (ставятся стулья), озера, леса, и т.д. Можно использовать картинки, надписи, обозначения мелом на полу, условные обозначения (напр. горы- треугольники, озера-овалы..), обручи,  и т.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аршрут следования может быть объяснен заранее или по ходу игры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астники игры выстраиваются друг за друго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и-гуси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Гуси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а-га-г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Вы откуда и куд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Гуси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ь, гусь, гусь, гус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Летим с юга на Русь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едущий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- Гусь, гусь, лети на Русь -  (например: между горами, над полями, над лесом, и т.д.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0" y="685440"/>
            <a:ext cx="4114800" cy="5675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ГРА "ЯРЫ ПЧЁЛУШКИ"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едварительно детям рассказывается с каких цветов пчелки собирают мед, а с каких нет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есенние медоносы :  одуванчик, мать-и-мачеха, тмин, клевер белый, горчица,  белая акация, облепиха, смородина,  крыжовник, верба, ива, черемуха, жимолость,  яблони, груши, вишни, сливы, клён.  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тулья расставляют по кругу по количеству игроков.  На каждом стульчике - картинка, рисунок или фотография медоносного растения, а на одном стульчике картинка с ромашко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артинки, фотографии: </a:t>
            </a:r>
            <a:r>
              <a:rPr b="0" lang="ru-RU" sz="1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одуванчи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  мать-и-мачеха , клевер белый (и др. медоносы), горчица , тмин, барвинок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ти сидят на стульчиках  и произносят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Яры пчелушк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доносушк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Летите на лужок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адитесь на цветок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бирайте медок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ключается музыка, дети встают, "превращаются" в пчелок и "летят"(идут или медленно бегут)  по кругу, музыка неожиданно прекращается, и каждая "пчелка" садится на ближайший "цветок" (стульчик). На стул с ромашкой садиться нельзя (ромашка - не медонос ). Тот, кто сядет на стул с ромашкой, выбывает из игры и садится в центр круга (улей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Тестирование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52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ое основное физическое качество необходимо для выполнения сгибаний и разгибаний рук (отжиманий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ыстро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ила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ибкос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вынослив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реннюю гигиеническую гимнастику выполняют 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ечеро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тро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обед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дн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минка на уроке физкультуры нужна -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я удовольств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ля подготовки мышц к основной нагрузк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я красоты тел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ширения кругозо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dmin</cp:lastModifiedBy>
  <dcterms:modified xsi:type="dcterms:W3CDTF">2020-04-14T19:40:3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