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gif" ContentType="image/gif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0E59-2B85-45C5-A96E-B2F31CD195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C7B5-4A51-4E2F-B6F4-B19F211F9D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C5F-C17A-4179-934E-9F8C6290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C1E-9C3B-4AFE-9C95-E579FA56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00B-AF05-46EB-B810-C5A69881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907-5BF9-4DDA-BEB9-5D79A16A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1DD6-FFDD-49BE-85EF-BB5FFA45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6664-7AF2-42CF-8CC5-482E649C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23B3-C9E5-4395-9003-3CA499CB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7F1F-8B26-46C6-800A-B64816AE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B4EA-1A46-4F0F-84A5-F07F84CD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6D57-C022-4730-8736-EBBF9CAE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93A4-51B7-4293-8914-C9179C69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5FA-01DC-4C82-870F-D1BF1A52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EE10-BB3E-41B7-ADB3-4A79F794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62F2-A49F-4A7A-88AF-BFE9F097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ACE8-0842-460B-8C88-13E83235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F714-B3D3-42B0-9C80-14E90320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6CA9-206F-4879-851C-69B54148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1392-29FA-41CA-94B4-10D13ABD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94ED-706E-4835-80C9-6C747755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84F0-8559-4105-8324-5634DC25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9EC9-251B-45CD-B405-74E4F78B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7ABB-20DA-4DC8-AA67-0549E3DD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CC3-456B-44C0-8F3A-19FE6837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1D6FD-0DC8-4F1C-A252-DF2B51A6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84652-2F07-4ABC-89C6-0018B478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C305-F484-4F75-A253-94C645A7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0141-6503-43C9-A043-3A79E4DF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524F-779F-430D-8B87-CEC00D10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CE73D-62E0-4B43-84D9-09C4B7D0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55969-10C2-4968-BE78-87EBE2BC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677AA-47BD-46A3-BB73-EC9DED7D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6482-F2DF-47DB-ACE6-0FA84938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844C3-DFE8-4BE9-8EB3-B0FC57FB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F7B-1E79-4EB9-AF59-88C9895B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1918F-5278-4A81-8309-5872F7A6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DF7E-2FBA-477C-B095-323C9CF4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4F3C-F6CA-4FD0-9CDB-ED662E4C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B63D3-023F-4D30-82DA-2AA6EFD4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87CE0-D4C7-422D-A88D-7E95FEF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425D2-D3AA-448B-8D8A-7B3C88F4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84B97-DE3F-4042-A219-138C07F0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39065-CDBE-4380-BEA6-61DD183E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F8A99-9E1A-4810-8943-E08987E2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499-F5DF-48E2-99E3-7F261067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B8A-765C-45F0-8ABA-4792E79D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F14-2180-4172-8FA5-B55315C4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B54-C92E-4190-82E1-E381D9A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72F-796A-4818-9532-772A5977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C10C-60AA-4327-9F2D-D79082BB18C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2839-1C15-4FA8-86A0-92C1958AB1D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B467-3A53-464A-B119-3E7002200D6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ACA4-87DB-46DA-B877-7F932DC9965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hotographer.ru/nonstop/picture.htm?id=561159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89040" y="-208080"/>
            <a:ext cx="7772400" cy="3256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657600"/>
            <a:ext cx="78548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4038480" y="25146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лимпийские игры бывают -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летние и зим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сенние и весен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есенне-лет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сенне-зим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двигательный режим дня младшего школьника входят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тренняя зарядка, урок физкультуры, занятия в спортивных секция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портивные занят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одвижные игр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портивные иг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гра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сторически сложившееся общественное явление самостоятельный вид деятельности, свойственной человек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961920" cy="962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562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РУППОВЫЕ ИГРЫ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ЛЯ МАЛЬЧИКОВ И ДЕВОЧЕ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ятк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грают 3—10 человек. Выбранный водящий становится в условленном месте с закрытыми глазами, прислонившись к дереву или другому предмету. Это место называют «коном». Водящий громко считает до 20—30 (по уговору) или произносит считалку. Тем временем остальные прячутся в разных местах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кончив счет, водящий открывает глаза и начинает искать ребят. Увидев кого-либо, называет его по имени и бежит на кон. Найденный бежит туда же, стараясь обогнать водящего и дотронуться до предмета, у которого тот стоял. Если он сделает это раньше водящего, то не считается пойманным и остается у кона, пока водящий ищет других. Когда все найдены, водящим становится первый игрок, не сумевший прибежать на кон раньше водящего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ногда на кону кладут палочку. Тогда каждый прибежавший раньше на кон должен постучать палочкой о предмет и сказать: «Палочка-выручалочка, выручи меня!» После этих слов он считается вырученным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прятавшиеся могут не дожидаться, когда их найдет водящий, и в удобный момент бежать на кон. Поэтому водящему надо следить и за этим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ожно условиться и о таком правиле: если последнему игроку удастся прибежать на кон раньше водящего, он кричит, ударяя палочкой: «Палочка-выручалочка, выручи нас всех!» После этих слов все считаются вырученными, и снова водит прежний игрок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Содержимое 4" descr=""/>
          <p:cNvPicPr/>
          <p:nvPr/>
        </p:nvPicPr>
        <p:blipFill>
          <a:blip r:embed="rId1"/>
          <a:srcRect l="5802" t="3000" r="0" b="0"/>
          <a:stretch/>
        </p:blipFill>
        <p:spPr>
          <a:xfrm>
            <a:off x="6172200" y="266688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«Караси и щук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личество   играющих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30—40 человек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Место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площадка, за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одготовк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На противоположных сторонах площадки проводятся две линии «дома карасей». Водящий — «щука» — становится в середине площадки, остальные играющие — «караси»— располагаются в одном из дом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писани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По команде руководителя «караси» начинают перебежку в противоположный «дом». «Щука» пытается их поймать. Запятнанные отходят в сторону, а затем, когда их будет 5—6 человек, берутся за руки и образуют «сеть». «Щука» становится сзади «сети». Теперь при перебежке «караси» обязаны пробегать через «сеть». Пойманные позже образуют круг — «корзину», а затем — «вершу», став в две шеренги лицом друг к другу. Побеждает тот, кто будет пойман последни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авила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)  перебежка   разрешается   только по команд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)   «караси»   обязаны   пробегать   через   все   «сети»   «рыбаков»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) игроки, образующие «сеть», не должны мешать пробегающим «карасям»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4) «щука» не может забегать в «сеть» (играющие могут поймать ее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Методические указани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При большом количестве играющих могут быть два водящих. Участников следует побуждать к активным, решительным действия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едагогическое значени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Игра содействует воспитанию быстроты, ловкости, ориентировки, смелости, коллективности действи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«Гонка мячей по кругу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личество играющих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20—30 человек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Место и инвентарь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зал, площадка; два больших мяч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одготовка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Играющие образуют круг и рассчитываются на 1—2-й. Первые номера составляют одну команду, вторые—другую. Направляющим обеих команд — капитанам — дается по баскетбольному или волейбольному мяч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писание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 сигналу капитаны пасуют мяч ближним игрокам своей команды. Причем заранее обусловливается, что одна команда передает мяч по часовой стрелке, а другая — в противоположном направлении. Мяч поочередно передается каждому игроку команды и возвращается обратно капитану. Выигрывает команда, сумевшая раньше передать мяч определенное количество раз по круг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авила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1) мяч можно передавать только через одного игрока; 2) нельзя выходить со своего места; 3) упавший мяч нужно поймать и, вернувшись на свое место, передать следующему игрок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Методические   указания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Если   играющих   много, то образуется несколько кругов. В каждом круге должен быть свой судья. Передавать мяч следует только определенным способом. Варианты:    1)   передачи   выполнять   в   положении   сидя; 2) перед началом игры мячи давать игрокам, находящимся на противоположных сторонах круга; 3) передачи мяча обеим командам выполнять в одну сторону. Игра заканчивается, когда один мяч догонит втор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едагогическое значение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игре совершенствуются навыки ловли и передачи мяча, развивается быстрота реакции и ориентировка, воспитывается чувство коллективизм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гры для мальчик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952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ильная хватк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Играющие в парах становятся спинами друг к другу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по кругу диаметром 1,5 метра и сцепляются согнутыми в локтях руками. Подавая туловище вперед, каждый старается заставить противника оторвать ноги от пола. Побеждает тот, кто большее число раз выиграет поединок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Можно провести состязание иначе. Игроки, стоя спиной друг к другу, поднимают вверх палку, взявшись за нее руками. Задача — наклониться вперед и попы­таться оторвать соперника от земли. Проигрывает тот, кто окажется в воздухе или отпустит палку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Еще вариант. Играющие садятся друг против друга на землю (упираясь ступнями в ступни партнера) и берутся за гимнастическую палку. По сигналу оба начинают тянуть палку в свою сторону. Побеждает тот, кто сумеет приподнять соперника, продержав его в таком положении 5 секунд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2952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Боевые петух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На земле чертится круг диаметром 2 метра. Две команды становятся шеренгами напротив друг друга. Выбирают капитанов, которые посылают одного из своих игроков в круг. Каждый из них сгибает одну ногу, руки кладет за спину, и по сигналу участники поединка начинают плечом и туловищем выталкивать друг друга из круга, стараясь не вставать на вторую ногу. Нельзя также снимать руки со спины. Игра продолжается до тех пор, пока все побывают в роли петухов, капитаны сражаются последними. Побеждает команда, в которой окажется больше победителей. Поединок заканчивается вничью, если оба игрока (в паре) оказались за пределами круга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Рисунок 4" descr=""/>
          <p:cNvPicPr/>
          <p:nvPr/>
        </p:nvPicPr>
        <p:blipFill>
          <a:blip r:embed="rId1"/>
          <a:srcRect l="0" t="2617" r="4812" b="4837"/>
          <a:stretch/>
        </p:blipFill>
        <p:spPr>
          <a:xfrm>
            <a:off x="1905120" y="4876920"/>
            <a:ext cx="1676160" cy="14475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"/>
          <p:cNvPicPr/>
          <p:nvPr/>
        </p:nvPicPr>
        <p:blipFill>
          <a:blip r:embed="rId2"/>
          <a:srcRect l="1748" t="4306" r="3574" b="3318"/>
          <a:stretch/>
        </p:blipFill>
        <p:spPr>
          <a:xfrm>
            <a:off x="5715000" y="4114800"/>
            <a:ext cx="2171880" cy="1698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6840" y="685440"/>
            <a:ext cx="4040280" cy="5675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ИГРА "ГУСИ"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дготавливается площадка. Обозначаются горы (ставятся стулья), озера, леса, и т.д. Можно использовать картинки, надписи, обозначения мелом на полу, условные обозначения (напр. горы- треугольники, озера-овалы..), обручи,  и т.д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аршрут следования может быть объяснен заранее или по ходу игры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частники игры выстраиваются друг за другом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едущий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- Гуси-гуси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Гуси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- Га-га-г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едущий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- Вы откуда и куда?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Гуси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- Гусь, гусь, гусь, гусь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Летим с юга на Русь!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едущий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- Гусь, гусь, лети на Русь -  (например: между горами, над полями, над лесом, и т.д.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0" y="685440"/>
            <a:ext cx="4114800" cy="5675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tIns="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ИГРА "ЯРЫ ПЧЁЛУШКИ"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едварительно детям рассказывается с каких цветов пчелки собирают мед, а с каких нет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есенние медоносы :  одуванчик, мать-и-мачеха, тмин, клевер белый, горчица,  белая акация, облепиха, смородина,  крыжовник, верба, ива, черемуха, жимолость,  яблони, груши, вишни, сливы, клён.  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тулья расставляют по кругу по количеству игроков.  На каждом стульчике - картинка, рисунок или фотография медоносного растения, а на одном стульчике картинка с ромашкой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Картинки, фотографии: </a:t>
            </a:r>
            <a:r>
              <a:rPr b="0" lang="ru-RU" sz="1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одуванчик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  мать-и-мачеха , клевер белый (и др. медоносы), горчица , тмин, барвинок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ети сидят на стульчиках  и произносят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Яры пчелушки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едоносушки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Летите на лужок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адитесь на цветок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бирайте медок!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ключается музыка, дети встают, "превращаются" в пчелок и "летят"(идут или медленно бегут)  по кругу, музыка неожиданно прекращается, и каждая "пчелка" садится на ближайший "цветок" (стульчик). На стул с ромашкой садиться нельзя (ромашка - не медонос ). Тот, кто сядет на стул с ромашкой, выбывает из игры и садится в центр круга (улей)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Тестирование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3352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акое основное физическое качество необходимо для выполнения сгибаний и разгибаний рук (отжиманий)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ыстро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ила 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гибкост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 вынослив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треннюю гигиеническую гимнастику выполняют 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ечером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тром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обед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 дне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зминка на уроке физкультуры нужна -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ля удовольств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ля подготовки мышц к основной нагрузк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ля красоты тел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расширения кругозор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Admin</cp:lastModifiedBy>
  <dcterms:modified xsi:type="dcterms:W3CDTF">2020-04-14T19:40:37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