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2F30-1F6C-481E-BEA5-06379D26A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FBF3-267E-4123-AC8D-FBD3C5504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59FD-CF71-4D9C-ABFB-A3F9112C1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7DBB-D8D9-457C-8B85-780DC5A00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0772-249E-445A-9749-69110672E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AEDC-CFA5-40FA-AEBA-DAC77A14C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36A9-2C4A-4E9A-B326-0453E4084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65B4-87DD-4917-AB23-FB29DEE0C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6EE8-8211-4324-8AC4-0C543A47F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4924-D60C-425C-9E71-EB0AAAEC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DEBC-0849-4430-BF8C-DA2855F1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9522-C81A-4B5D-980D-46AF6D95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CEF6F-B954-4933-BD9E-4E248DA7B7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4_slay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857160" y="714240"/>
            <a:ext cx="750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ки препинания в предложения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3" descr="4f79669e960941926ac09cb02.jpg"/>
          <p:cNvPicPr/>
          <p:nvPr/>
        </p:nvPicPr>
        <p:blipFill>
          <a:blip r:embed="rId1"/>
          <a:stretch/>
        </p:blipFill>
        <p:spPr>
          <a:xfrm>
            <a:off x="0" y="0"/>
            <a:ext cx="9286920" cy="7143840"/>
          </a:xfrm>
          <a:prstGeom prst="rect">
            <a:avLst/>
          </a:prstGeom>
          <a:ln w="0">
            <a:noFill/>
          </a:ln>
        </p:spPr>
      </p:pic>
      <p:sp>
        <p:nvSpPr>
          <p:cNvPr id="75" name="TextBox 2"/>
          <p:cNvSpPr/>
          <p:nvPr/>
        </p:nvSpPr>
        <p:spPr>
          <a:xfrm>
            <a:off x="785880" y="714240"/>
            <a:ext cx="7643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оформляется диалог на письм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642960" y="2357280"/>
            <a:ext cx="8001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ждая реплика диалога начинается с новой строки. Перед репликой ставится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р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а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вычк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используютс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Первое слово реплики пишется с прописной бук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реплика сопровождается словами автора, знаки препинания ставятся те же, что и в предложениях с прямой реч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3" descr="4f79669e960941926ac09cb02.jpg"/>
          <p:cNvPicPr/>
          <p:nvPr/>
        </p:nvPicPr>
        <p:blipFill>
          <a:blip r:embed="rId1"/>
          <a:stretch/>
        </p:blipFill>
        <p:spPr>
          <a:xfrm>
            <a:off x="0" y="0"/>
            <a:ext cx="9286920" cy="714384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785880" y="714240"/>
            <a:ext cx="7643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распознать в тексте прямую речь? Что будет опознавательным признаком пунктограмм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4"/>
          <p:cNvSpPr/>
          <p:nvPr/>
        </p:nvSpPr>
        <p:spPr>
          <a:xfrm>
            <a:off x="642960" y="3286080"/>
            <a:ext cx="8001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ова автора, вводящие прямую реч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казал, спросил, подумал, ответил, крикнул, шепнул, произнес, объявил, попросил, проворчал и т..д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3" descr="4f79669e960941926ac09cb02.jpg"/>
          <p:cNvPicPr/>
          <p:nvPr/>
        </p:nvPicPr>
        <p:blipFill>
          <a:blip r:embed="rId1"/>
          <a:stretch/>
        </p:blipFill>
        <p:spPr>
          <a:xfrm>
            <a:off x="0" y="0"/>
            <a:ext cx="9286920" cy="7143840"/>
          </a:xfrm>
          <a:prstGeom prst="rect">
            <a:avLst/>
          </a:prstGeom>
          <a:ln w="0">
            <a:noFill/>
          </a:ln>
        </p:spPr>
      </p:pic>
      <p:sp>
        <p:nvSpPr>
          <p:cNvPr id="81" name="TextBox 2"/>
          <p:cNvSpPr/>
          <p:nvPr/>
        </p:nvSpPr>
        <p:spPr>
          <a:xfrm>
            <a:off x="2571840" y="64296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верь себ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571680" y="1643040"/>
            <a:ext cx="8072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нязь им вымолвил тогда: «Добрый путь вам, господа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плыла к нему рыбка, спросила: «Чего тебе надобно , старче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й старик с поклоном отвечает: «Смилуйся, государыня рыбк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абельщики в ответ: «Мы объехали весь свет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ей зеркальце в ответ: «Ты прекрасна, спору нет…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3" descr="4f79669e960941926ac09cb02.jpg"/>
          <p:cNvPicPr/>
          <p:nvPr/>
        </p:nvPicPr>
        <p:blipFill>
          <a:blip r:embed="rId1"/>
          <a:stretch/>
        </p:blipFill>
        <p:spPr>
          <a:xfrm>
            <a:off x="0" y="0"/>
            <a:ext cx="9286920" cy="7143840"/>
          </a:xfrm>
          <a:prstGeom prst="rect">
            <a:avLst/>
          </a:prstGeom>
          <a:ln w="0">
            <a:noFill/>
          </a:ln>
        </p:spPr>
      </p:pic>
      <p:sp>
        <p:nvSpPr>
          <p:cNvPr id="84" name="TextBox 2"/>
          <p:cNvSpPr/>
          <p:nvPr/>
        </p:nvSpPr>
        <p:spPr>
          <a:xfrm>
            <a:off x="971640" y="571680"/>
            <a:ext cx="7848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хематический диктан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ишите, расставьте знаки препин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4"/>
          <p:cNvSpPr/>
          <p:nvPr/>
        </p:nvSpPr>
        <p:spPr>
          <a:xfrm>
            <a:off x="250920" y="2637000"/>
            <a:ext cx="8393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вочка спросила Кто тебя выучил так хорошо играть на дуд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охин выучил ответил Петру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о лютик сказала она а вот это фиал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ушайте окликнул он, когда она с ним поравняла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5" descr="1314606387.jpg"/>
          <p:cNvPicPr/>
          <p:nvPr/>
        </p:nvPicPr>
        <p:blipFill>
          <a:blip r:embed="rId2"/>
          <a:stretch/>
        </p:blipFill>
        <p:spPr>
          <a:xfrm>
            <a:off x="7443720" y="5267160"/>
            <a:ext cx="137160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3" descr="4f79669e960941926ac09cb02.jpg"/>
          <p:cNvPicPr/>
          <p:nvPr/>
        </p:nvPicPr>
        <p:blipFill>
          <a:blip r:embed="rId1"/>
          <a:stretch/>
        </p:blipFill>
        <p:spPr>
          <a:xfrm>
            <a:off x="0" y="0"/>
            <a:ext cx="9286920" cy="7143840"/>
          </a:xfrm>
          <a:prstGeom prst="rect">
            <a:avLst/>
          </a:prstGeom>
          <a:ln w="0">
            <a:noFill/>
          </a:ln>
        </p:spPr>
      </p:pic>
      <p:sp>
        <p:nvSpPr>
          <p:cNvPr id="88" name="TextBox 6"/>
          <p:cNvSpPr/>
          <p:nvPr/>
        </p:nvSpPr>
        <p:spPr>
          <a:xfrm>
            <a:off x="1643040" y="57168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верь себ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1428840" y="1571760"/>
            <a:ext cx="7358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: «П?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П», – 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П, – а, –  п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П!» – 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8" descr="preview.jpg"/>
          <p:cNvPicPr/>
          <p:nvPr/>
        </p:nvPicPr>
        <p:blipFill>
          <a:blip r:embed="rId2"/>
          <a:stretch/>
        </p:blipFill>
        <p:spPr>
          <a:xfrm>
            <a:off x="5492880" y="2779560"/>
            <a:ext cx="233496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Обращение может состоять из одного слова, т.е. быть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нераспространенным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Если обращение состоит из нескольких слов, то оно является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распространенным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755640" y="620280"/>
            <a:ext cx="77248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 предложении обращение может занимать любое место: в начале, в середине или в конце предложен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Обращение выделяется запятым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Это знаки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выделения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4978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пражнение 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Спишите, найдите обращения, расставьте знаки препинания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0920" y="1412640"/>
            <a:ext cx="86868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1. Соседка перестань срамиться, тебе ль с слоном возиться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2. Соседушка мой свет Пожалуйста покушай… Потешь же миленький дружочек! Вот лещик, потроха, вот стерляди кусочек! Еще хоть ложечку! Да кланяйся жена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3. Давно Полканушка мне больно самому, что, бывши одного двора с тобой собаки, мы дня не проживем без драк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4. Друзья К чему весь этот шум? Я, ваш старинный сват и кум, пришел мириться к вам, совсем не ради ссоры…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5. Ну, что ж Хавронья там ты видела такого?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6. Послушай-ка дружище! Ты, сказывают, петь великий мастерищ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3" descr="4f79669e960941926ac09cb02.jpg"/>
          <p:cNvPicPr/>
          <p:nvPr/>
        </p:nvPicPr>
        <p:blipFill>
          <a:blip r:embed="rId1"/>
          <a:stretch/>
        </p:blipFill>
        <p:spPr>
          <a:xfrm>
            <a:off x="0" y="0"/>
            <a:ext cx="9286920" cy="714384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8" descr="preview.jpg"/>
          <p:cNvPicPr/>
          <p:nvPr/>
        </p:nvPicPr>
        <p:blipFill>
          <a:blip r:embed="rId2"/>
          <a:stretch/>
        </p:blipFill>
        <p:spPr>
          <a:xfrm>
            <a:off x="5492880" y="2779560"/>
            <a:ext cx="2334960" cy="251784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5"/>
          <p:cNvSpPr/>
          <p:nvPr/>
        </p:nvSpPr>
        <p:spPr>
          <a:xfrm rot="20533800">
            <a:off x="639720" y="2047680"/>
            <a:ext cx="720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eb4e3"/>
                </a:solidFill>
                <a:latin typeface="Monotype Corsiva"/>
              </a:rPr>
              <a:t>СПАСИБО  ЗА  ВНИМАНИЕ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3" descr="4f79669e960941926ac09cb02.jpg"/>
          <p:cNvPicPr/>
          <p:nvPr/>
        </p:nvPicPr>
        <p:blipFill>
          <a:blip r:embed="rId1"/>
          <a:stretch/>
        </p:blipFill>
        <p:spPr>
          <a:xfrm>
            <a:off x="0" y="0"/>
            <a:ext cx="9286920" cy="714384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714240" y="571680"/>
            <a:ext cx="77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 каких частей состоит предложение с прямой речью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357120" y="2286000"/>
            <a:ext cx="8572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ложения с прямой речью состоят из двух частей: речи какого-либо лица и слов автор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6" descr="c8eef432a5ca.jpg"/>
          <p:cNvPicPr/>
          <p:nvPr/>
        </p:nvPicPr>
        <p:blipFill>
          <a:blip r:embed="rId2"/>
          <a:stretch/>
        </p:blipFill>
        <p:spPr>
          <a:xfrm>
            <a:off x="6851520" y="4280040"/>
            <a:ext cx="12621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3" descr="4f79669e960941926ac09cb02.jpg"/>
          <p:cNvPicPr/>
          <p:nvPr/>
        </p:nvPicPr>
        <p:blipFill>
          <a:blip r:embed="rId1"/>
          <a:stretch/>
        </p:blipFill>
        <p:spPr>
          <a:xfrm>
            <a:off x="0" y="0"/>
            <a:ext cx="9286920" cy="7143840"/>
          </a:xfrm>
          <a:prstGeom prst="rect">
            <a:avLst/>
          </a:prstGeom>
          <a:ln w="0">
            <a:noFill/>
          </a:ln>
        </p:spPr>
      </p:pic>
      <p:sp>
        <p:nvSpPr>
          <p:cNvPr id="48" name="TextBox 2"/>
          <p:cNvSpPr/>
          <p:nvPr/>
        </p:nvSpPr>
        <p:spPr>
          <a:xfrm>
            <a:off x="642960" y="571680"/>
            <a:ext cx="7143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де может стоять в предложении прямая реч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571680" y="2286000"/>
            <a:ext cx="8072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ямая речь может стоять перед словами авт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Ешьте, ребята, яблоки», - предложил нам лес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Прямая речь может стоять после слов авт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сказала скалка: «Мне Федору жалко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Слова автора могут стоять внутри прямой ре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Теперь, – сказала мама, - можете идти гулять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5" descr="c8eef432a5ca.jpg"/>
          <p:cNvPicPr/>
          <p:nvPr/>
        </p:nvPicPr>
        <p:blipFill>
          <a:blip r:embed="rId2"/>
          <a:stretch/>
        </p:blipFill>
        <p:spPr>
          <a:xfrm>
            <a:off x="7564320" y="706320"/>
            <a:ext cx="100656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3" descr="4f79669e960941926ac09cb02.jpg"/>
          <p:cNvPicPr/>
          <p:nvPr/>
        </p:nvPicPr>
        <p:blipFill>
          <a:blip r:embed="rId1"/>
          <a:stretch/>
        </p:blipFill>
        <p:spPr>
          <a:xfrm>
            <a:off x="0" y="0"/>
            <a:ext cx="9286920" cy="7143840"/>
          </a:xfrm>
          <a:prstGeom prst="rect">
            <a:avLst/>
          </a:prstGeom>
          <a:ln w="0">
            <a:noFill/>
          </a:ln>
        </p:spPr>
      </p:pic>
      <p:sp>
        <p:nvSpPr>
          <p:cNvPr id="52" name="TextBox 2"/>
          <p:cNvSpPr/>
          <p:nvPr/>
        </p:nvSpPr>
        <p:spPr>
          <a:xfrm>
            <a:off x="785880" y="500040"/>
            <a:ext cx="764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пишется прямая реч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500040" y="1965240"/>
            <a:ext cx="8358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ямая речь заключается в кавычки, первое слово чужого высказывания пишется с прописной бук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Вы зачем линейкой деретесь?» – закричала Синеглаз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5" descr="c8eef432a5ca.jpg"/>
          <p:cNvPicPr/>
          <p:nvPr/>
        </p:nvPicPr>
        <p:blipFill>
          <a:blip r:embed="rId2"/>
          <a:stretch/>
        </p:blipFill>
        <p:spPr>
          <a:xfrm>
            <a:off x="6851520" y="4638600"/>
            <a:ext cx="137160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3" descr="4f79669e960941926ac09cb02.jpg"/>
          <p:cNvPicPr/>
          <p:nvPr/>
        </p:nvPicPr>
        <p:blipFill>
          <a:blip r:embed="rId1"/>
          <a:stretch/>
        </p:blipFill>
        <p:spPr>
          <a:xfrm>
            <a:off x="0" y="0"/>
            <a:ext cx="9286920" cy="7143840"/>
          </a:xfrm>
          <a:prstGeom prst="rect">
            <a:avLst/>
          </a:prstGeom>
          <a:ln w="0">
            <a:noFill/>
          </a:ln>
        </p:spPr>
      </p:pic>
      <p:sp>
        <p:nvSpPr>
          <p:cNvPr id="56" name="TextBox 2"/>
          <p:cNvSpPr/>
          <p:nvPr/>
        </p:nvSpPr>
        <p:spPr>
          <a:xfrm>
            <a:off x="785880" y="57168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 чего зависит  расстановка знаков препинания в предложениях с прямой речью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785880" y="2786040"/>
            <a:ext cx="7929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становка знаков препинания в предложениях с прямой речью зависит от того, в каком положении по отношению к словам автора находится прямая реч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6" descr="c8eef432a5ca.jpg"/>
          <p:cNvPicPr/>
          <p:nvPr/>
        </p:nvPicPr>
        <p:blipFill>
          <a:blip r:embed="rId2"/>
          <a:stretch/>
        </p:blipFill>
        <p:spPr>
          <a:xfrm>
            <a:off x="7016760" y="4925880"/>
            <a:ext cx="981000" cy="12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3" descr="4f79669e960941926ac09cb02.jpg"/>
          <p:cNvPicPr/>
          <p:nvPr/>
        </p:nvPicPr>
        <p:blipFill>
          <a:blip r:embed="rId1"/>
          <a:stretch/>
        </p:blipFill>
        <p:spPr>
          <a:xfrm>
            <a:off x="0" y="0"/>
            <a:ext cx="9286920" cy="714384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857160" y="928800"/>
            <a:ext cx="7500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ставятся знаки препинания, если прямая речь стоит перед словами автора? После слов автор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642960" y="2357280"/>
            <a:ext cx="7858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прямая речь стоит перед словами автора, она отделяется от слов автора с помощью тире. Слова автора пишутся со строчной букв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Я совсем не хотел обидеть вас», – сказал Незнай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прямая речь стоит после слов автора, то перед ней ставится двоеточ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илюлькин нахмурился и спросил: «А не дать ли тебе касторки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3" descr="4f79669e960941926ac09cb02.jpg"/>
          <p:cNvPicPr/>
          <p:nvPr/>
        </p:nvPicPr>
        <p:blipFill>
          <a:blip r:embed="rId1"/>
          <a:stretch/>
        </p:blipFill>
        <p:spPr>
          <a:xfrm>
            <a:off x="0" y="0"/>
            <a:ext cx="9286920" cy="714384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1785960" y="642960"/>
            <a:ext cx="59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ратите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785880" y="1857240"/>
            <a:ext cx="785808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ительный и восклицательный знаки ставятся внутри кавыче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: «П!»                            «П?» – 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чка и запятая (заменяющая точку, если предложение продолжается) ставятся после кавыч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: «П».                            «П», – 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5" descr="vosklitsatelnyiy-znak.jpg"/>
          <p:cNvPicPr/>
          <p:nvPr/>
        </p:nvPicPr>
        <p:blipFill>
          <a:blip r:embed="rId2"/>
          <a:stretch/>
        </p:blipFill>
        <p:spPr>
          <a:xfrm>
            <a:off x="493560" y="420840"/>
            <a:ext cx="129888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3" descr="4f79669e960941926ac09cb02.jpg"/>
          <p:cNvPicPr/>
          <p:nvPr/>
        </p:nvPicPr>
        <p:blipFill>
          <a:blip r:embed="rId1"/>
          <a:stretch/>
        </p:blipFill>
        <p:spPr>
          <a:xfrm>
            <a:off x="0" y="0"/>
            <a:ext cx="9286920" cy="7143840"/>
          </a:xfrm>
          <a:prstGeom prst="rect">
            <a:avLst/>
          </a:prstGeom>
          <a:ln w="0">
            <a:noFill/>
          </a:ln>
        </p:spPr>
      </p:pic>
      <p:sp>
        <p:nvSpPr>
          <p:cNvPr id="67" name="TextBox 2"/>
          <p:cNvSpPr/>
          <p:nvPr/>
        </p:nvSpPr>
        <p:spPr>
          <a:xfrm>
            <a:off x="1143000" y="674640"/>
            <a:ext cx="7572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слова автора идут внутри прямой речи, то знаки препинания ставятся так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714240" y="2928960"/>
            <a:ext cx="7858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пасибо, - ответил Вася. – Сейчас пойдем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Чуть не забыла! – спохватилась мама. – Купи квасу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Для окрошки? – облизнулся сын. – Хорошо, куплю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5" descr="vosklitsatelnyiy-znak.jpg"/>
          <p:cNvPicPr/>
          <p:nvPr/>
        </p:nvPicPr>
        <p:blipFill>
          <a:blip r:embed="rId2"/>
          <a:stretch/>
        </p:blipFill>
        <p:spPr>
          <a:xfrm>
            <a:off x="566640" y="566640"/>
            <a:ext cx="101304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3" descr="4f79669e960941926ac09cb02.jpg"/>
          <p:cNvPicPr/>
          <p:nvPr/>
        </p:nvPicPr>
        <p:blipFill>
          <a:blip r:embed="rId1"/>
          <a:stretch/>
        </p:blipFill>
        <p:spPr>
          <a:xfrm>
            <a:off x="0" y="0"/>
            <a:ext cx="9286920" cy="714384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143000" y="642960"/>
            <a:ext cx="721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такое диалог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"/>
          <p:cNvSpPr/>
          <p:nvPr/>
        </p:nvSpPr>
        <p:spPr>
          <a:xfrm>
            <a:off x="571680" y="1571760"/>
            <a:ext cx="82864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алог – это разговор двух или нескольких лиц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5" descr="jooAXTmq1is.jpg"/>
          <p:cNvPicPr/>
          <p:nvPr/>
        </p:nvPicPr>
        <p:blipFill>
          <a:blip r:embed="rId2"/>
          <a:stretch/>
        </p:blipFill>
        <p:spPr>
          <a:xfrm>
            <a:off x="2494080" y="2852640"/>
            <a:ext cx="4583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5T12:52:27Z</dcterms:created>
  <dc:creator>Вероника</dc:creator>
  <dc:description/>
  <dc:language>en-US</dc:language>
  <cp:lastModifiedBy>home</cp:lastModifiedBy>
  <dcterms:modified xsi:type="dcterms:W3CDTF">2020-12-04T11:05:07Z</dcterms:modified>
  <cp:revision>38</cp:revision>
  <dc:subject/>
  <dc:title>Слайд 1</dc:title>
</cp:coreProperties>
</file>