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AC8-9002-4AA3-A493-3BA958C2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82B-A745-4670-AEBA-AE7DA70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448-EB76-4B45-9762-EB50C7AE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AE1-2860-454A-822A-90E11BD0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3E0-941A-4846-B5E5-13DFC97F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D04-90F5-4E2E-A3D7-4CC352D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DF4-69A7-4E38-99B9-A07A714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AEE-F9DB-40C2-A4B6-1AFF691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4A5-49E0-46F0-AEDF-4B088AE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92B-73A9-4EF0-879F-425AA424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8D6-38B5-45E2-8695-EF1500D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2B1-CDF3-4E25-906C-734A3F6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B1F8-E020-4B38-BED4-D89FB501F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_slay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57160" y="7142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и препинания в предложения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785880" y="7142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формляется диалог на пись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2960" y="23572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ая реплика диалога начинается с новой строки. Перед репликой ставитс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р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выч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спользуют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ервое слово реплики пишется с прописной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реплика сопровождается словами автора, знаки препинания ставятся те же, что и в предложениях с прямой реч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785880" y="714240"/>
            <a:ext cx="764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аспознать в тексте прямую речь? Что будет опознавательным признаком пунктогра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42960" y="32860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 автора, вводящие прям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ал, спросил, подумал, ответил, крикнул, шепнул, произнес, объявил, попросил, проворчал и т..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571840" y="642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71680" y="164304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язь им вымолвил тогда: «Добрый путь вам, господ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лыла к нему рыбка, спросила: «Чего тебе надобно , старч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старик с поклоном отвечает: «Смилуйся, государыня рыб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ельщики в ответ: «Мы объехали весь св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ей зеркальце в ответ: «Ты прекрасна, спору нет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71640" y="57168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тический дикта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шите, расставьте знаки препи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50920" y="2637000"/>
            <a:ext cx="839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 спросила Кто тебя выучил так хорошо играть на дуд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охин выучил ответил Петр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лютик сказала она а вот это фиа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ушайте окликнул он, когда она с ним поравня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314606387.jpg"/>
          <p:cNvPicPr/>
          <p:nvPr/>
        </p:nvPicPr>
        <p:blipFill>
          <a:blip r:embed="rId2"/>
          <a:stretch/>
        </p:blipFill>
        <p:spPr>
          <a:xfrm>
            <a:off x="7443720" y="5267160"/>
            <a:ext cx="1371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43040" y="571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8840" y="1571760"/>
            <a:ext cx="735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», – 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, – а, –  п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!» – 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preview.jpg"/>
          <p:cNvPicPr/>
          <p:nvPr/>
        </p:nvPicPr>
        <p:blipFill>
          <a:blip r:embed="rId2"/>
          <a:stretch/>
        </p:blipFill>
        <p:spPr>
          <a:xfrm>
            <a:off x="5492880" y="2779560"/>
            <a:ext cx="233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слова, т.е. быт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ераспространенны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ли обращение состоит из нескольких слов, то оно являетс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спространенны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620280"/>
            <a:ext cx="7724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редложении обращение может занимать любое место: в начале, в середине или в конце предло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щение выделяется запяты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знаки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дел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жне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пишите, найдите обращения, расставьте знаки препин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Соседка перестань срамиться, тебе ль с слоном возитьс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Соседушка мой свет Пожалуйста покушай… Потешь же миленький дружочек! Вот лещик, потроха, вот стерляди кусочек! Еще хоть ложечку! Да кланяйся жен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Давно Полканушка мне больно самому, что, бывши одного двора с тобой собаки, мы дня не проживем без дра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Друзья К чему весь этот шум? Я, ваш старинный сват и кум, пришел мириться к вам, совсем не ради ссоры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Ну, что ж Хавронья там ты видела такого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Послушай-ка дружище! Ты, сказывают, петь великий мастерищ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preview.jpg"/>
          <p:cNvPicPr/>
          <p:nvPr/>
        </p:nvPicPr>
        <p:blipFill>
          <a:blip r:embed="rId2"/>
          <a:stretch/>
        </p:blipFill>
        <p:spPr>
          <a:xfrm>
            <a:off x="5492880" y="2779560"/>
            <a:ext cx="233496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 rot="20533800">
            <a:off x="639720" y="2047680"/>
            <a:ext cx="720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Monotype Corsiva"/>
              </a:rPr>
              <a:t>СПАСИБО  ЗА 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714240" y="5716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их частей состоит предложение с прямой реч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57120" y="2286000"/>
            <a:ext cx="857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ения с прямой речью состоят из двух частей: речи какого-либо лица и слов авт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c8eef432a5ca.jpg"/>
          <p:cNvPicPr/>
          <p:nvPr/>
        </p:nvPicPr>
        <p:blipFill>
          <a:blip r:embed="rId2"/>
          <a:stretch/>
        </p:blipFill>
        <p:spPr>
          <a:xfrm>
            <a:off x="6851520" y="4280040"/>
            <a:ext cx="1262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642960" y="5716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может стоять в предложении прямая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71680" y="2286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ая речь может стоять перед словам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шьте, ребята, яблоки», - предложил нам лес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ямая речь может стоять после слов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казала скалка: «Мне Федору жалк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лова автора могут стоять внутри прям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перь, – сказала мама, - можете идти гул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c8eef432a5ca.jpg"/>
          <p:cNvPicPr/>
          <p:nvPr/>
        </p:nvPicPr>
        <p:blipFill>
          <a:blip r:embed="rId2"/>
          <a:stretch/>
        </p:blipFill>
        <p:spPr>
          <a:xfrm>
            <a:off x="7564320" y="706320"/>
            <a:ext cx="10065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785880" y="50004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ишется прямая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00040" y="196524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ая речь заключается в кавычки, первое слово чужого высказывания пишется с прописной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ы зачем линейкой деретесь?» – закричала Синегл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c8eef432a5ca.jpg"/>
          <p:cNvPicPr/>
          <p:nvPr/>
        </p:nvPicPr>
        <p:blipFill>
          <a:blip r:embed="rId2"/>
          <a:stretch/>
        </p:blipFill>
        <p:spPr>
          <a:xfrm>
            <a:off x="6851520" y="4638600"/>
            <a:ext cx="1371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85880" y="571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его зависит  расстановка знаков препинания в предложениях с прямой реч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85880" y="278604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тановка знаков препинания в предложениях с прямой речью зависит от того, в каком положении по отношению к словам автора находится прямая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c8eef432a5ca.jpg"/>
          <p:cNvPicPr/>
          <p:nvPr/>
        </p:nvPicPr>
        <p:blipFill>
          <a:blip r:embed="rId2"/>
          <a:stretch/>
        </p:blipFill>
        <p:spPr>
          <a:xfrm>
            <a:off x="7016760" y="4925880"/>
            <a:ext cx="9810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57160" y="9288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тавятся знаки препинания, если прямая речь стоит перед словами автора? После слов ав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42960" y="2357280"/>
            <a:ext cx="7858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ямая речь стоит перед словами автора, она отделяется от слов автора с помощью тире. Слова автора пишу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Я совсем не хотел обидеть вас», – сказал Незна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ямая речь стоит после слов автора, то перед ней ставится двое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люлькин нахмурился и спросил: «А не дать ли тебе касторк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785960" y="64296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тите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857240"/>
            <a:ext cx="7858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ительный и восклицательный знаки ставятся внутри кавы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!»                            «П?»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и запятая (заменяющая точку, если предложение продолжается) ставятся после ка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».                            «П»,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vosklitsatelnyiy-znak.jpg"/>
          <p:cNvPicPr/>
          <p:nvPr/>
        </p:nvPicPr>
        <p:blipFill>
          <a:blip r:embed="rId2"/>
          <a:stretch/>
        </p:blipFill>
        <p:spPr>
          <a:xfrm>
            <a:off x="493560" y="420840"/>
            <a:ext cx="12988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143000" y="67464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слова автора идут внутри прямой речи, то знаки препинания ставятся т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14240" y="2928960"/>
            <a:ext cx="785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пасибо, - ответил Вася. – Сейчас пойд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уть не забыла! – спохватилась мама. – Купи квас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ля окрошки? – облизнулся сын. – Хорошо, купл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vosklitsatelnyiy-znak.jpg"/>
          <p:cNvPicPr/>
          <p:nvPr/>
        </p:nvPicPr>
        <p:blipFill>
          <a:blip r:embed="rId2"/>
          <a:stretch/>
        </p:blipFill>
        <p:spPr>
          <a:xfrm>
            <a:off x="566640" y="566640"/>
            <a:ext cx="1013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43000" y="64296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диало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71680" y="1571760"/>
            <a:ext cx="828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 – это разговор двух или нескольких лиц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jooAXTmq1is.jpg"/>
          <p:cNvPicPr/>
          <p:nvPr/>
        </p:nvPicPr>
        <p:blipFill>
          <a:blip r:embed="rId2"/>
          <a:stretch/>
        </p:blipFill>
        <p:spPr>
          <a:xfrm>
            <a:off x="2494080" y="2852640"/>
            <a:ext cx="4583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2:52:27Z</dcterms:created>
  <dc:creator>Вероника</dc:creator>
  <dc:description/>
  <dc:language>en-US</dc:language>
  <cp:lastModifiedBy>home</cp:lastModifiedBy>
  <dcterms:modified xsi:type="dcterms:W3CDTF">2020-12-04T11:05:07Z</dcterms:modified>
  <cp:revision>38</cp:revision>
  <dc:subject/>
  <dc:title>Слайд 1</dc:title>
</cp:coreProperties>
</file>