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332-C638-468F-BDB7-182CBB75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7A9-E61B-4B36-AC3A-FF3A5E53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B21-1873-4FE7-B782-18F21415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876-26FD-4E12-AD10-3CF8446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78B-F919-439E-81A6-77DA850A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6FCF-7AA6-4B41-94BC-FFDC76F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A96-086A-4A59-9ADD-E2AB9CB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E7E-D74E-4794-9F25-85EEC2B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7E5-9833-42AA-854B-0F38D24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6B30-F34F-410B-B6CA-89CA3B2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9D9-61E6-4C14-AF63-6365A26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EEA-334A-448B-BAC1-54D9AB33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059E-9FFA-4687-961C-E81234F5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FC08-CD04-4EA3-AD8F-BDCF8F9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FE47-C176-4776-ABEB-46F2FB36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B4D7-5E71-4DF5-8F1D-124B745B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EC9D-1192-4236-9DC3-324853B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2C6-A540-4183-80C9-B603851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B01-E5CE-4918-BA27-0F8F43B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32A-BBCD-4251-8AA5-B86E494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C3A-E03A-4FA2-9FEF-9538F65F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B28-84C3-43D3-AFEA-853735B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207-1C2F-42A7-8367-1B4582E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07F-BC1B-466A-92E9-A83BA6F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534-4758-4330-9836-27D5F03BA11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A73-3758-4257-9F1B-49069D0EF90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Лев Николаевич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олсто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иография  и  творчеств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охие  книги  не  только  бесполезны, но 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дны…  Надо  стараться  узнать  и  прочесть самых  лучших  писателей  всех  народов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Н. Толсто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151078351"/>
          <p:cNvPicPr/>
          <p:nvPr/>
        </p:nvPicPr>
        <p:blipFill>
          <a:blip r:embed="rId1"/>
          <a:stretch/>
        </p:blipFill>
        <p:spPr>
          <a:xfrm>
            <a:off x="2928960" y="2000160"/>
            <a:ext cx="3117960" cy="45007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ев Николаевич Толст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лся 26 августа (9 сентября) 1828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порт"/>
          <p:cNvPicPr/>
          <p:nvPr/>
        </p:nvPicPr>
        <p:blipFill>
          <a:blip r:embed="rId1"/>
          <a:stretch/>
        </p:blipFill>
        <p:spPr>
          <a:xfrm>
            <a:off x="2928960" y="2000160"/>
            <a:ext cx="3456000" cy="38894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ус"/>
          <p:cNvPicPr/>
          <p:nvPr/>
        </p:nvPicPr>
        <p:blipFill>
          <a:blip r:embed="rId1"/>
          <a:stretch/>
        </p:blipFill>
        <p:spPr>
          <a:xfrm>
            <a:off x="500040" y="1428840"/>
            <a:ext cx="2057400" cy="15429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5" name="Picture 5" descr="пруд"/>
          <p:cNvPicPr/>
          <p:nvPr/>
        </p:nvPicPr>
        <p:blipFill>
          <a:blip r:embed="rId2"/>
          <a:stretch/>
        </p:blipFill>
        <p:spPr>
          <a:xfrm>
            <a:off x="324000" y="4221000"/>
            <a:ext cx="2447640" cy="16131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6" name="Picture 6" descr="муз"/>
          <p:cNvPicPr/>
          <p:nvPr/>
        </p:nvPicPr>
        <p:blipFill>
          <a:blip r:embed="rId3"/>
          <a:stretch/>
        </p:blipFill>
        <p:spPr>
          <a:xfrm>
            <a:off x="6215040" y="1428840"/>
            <a:ext cx="2376360" cy="16621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pic>
        <p:nvPicPr>
          <p:cNvPr id="217" name="Picture 7" descr="мог"/>
          <p:cNvPicPr/>
          <p:nvPr/>
        </p:nvPicPr>
        <p:blipFill>
          <a:blip r:embed="rId4"/>
          <a:stretch/>
        </p:blipFill>
        <p:spPr>
          <a:xfrm>
            <a:off x="6227640" y="4221000"/>
            <a:ext cx="2519640" cy="158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8" name="Picture 8" descr="муз"/>
          <p:cNvPicPr/>
          <p:nvPr/>
        </p:nvPicPr>
        <p:blipFill>
          <a:blip r:embed="rId5"/>
          <a:stretch/>
        </p:blipFill>
        <p:spPr>
          <a:xfrm>
            <a:off x="3348000" y="4365720"/>
            <a:ext cx="2376360" cy="158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19" name="Rectangle 10"/>
          <p:cNvSpPr/>
          <p:nvPr/>
        </p:nvSpPr>
        <p:spPr>
          <a:xfrm>
            <a:off x="684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адьба «Ясная полян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357120" y="3429000"/>
            <a:ext cx="230508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3419640" y="6165720"/>
            <a:ext cx="230472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395280" y="60213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286680" y="3429000"/>
            <a:ext cx="23047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6300720" y="609300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г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70930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8" descr="веранда"/>
          <p:cNvPicPr/>
          <p:nvPr/>
        </p:nvPicPr>
        <p:blipFill>
          <a:blip r:embed="rId6"/>
          <a:stretch/>
        </p:blipFill>
        <p:spPr>
          <a:xfrm>
            <a:off x="3635280" y="1268280"/>
            <a:ext cx="1871640" cy="19465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sp>
        <p:nvSpPr>
          <p:cNvPr id="227" name="Rectangle 19"/>
          <p:cNvSpPr/>
          <p:nvPr/>
        </p:nvSpPr>
        <p:spPr>
          <a:xfrm>
            <a:off x="3571920" y="3429000"/>
            <a:ext cx="2016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ан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849"/>
          <p:cNvPicPr/>
          <p:nvPr/>
        </p:nvPicPr>
        <p:blipFill>
          <a:blip r:embed="rId1"/>
          <a:stretch/>
        </p:blipFill>
        <p:spPr>
          <a:xfrm>
            <a:off x="500040" y="285840"/>
            <a:ext cx="1677960" cy="24159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284328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учё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нкт Петербургском университ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210px-Russian_writers_by_Levitsky_1856"/>
          <p:cNvPicPr/>
          <p:nvPr/>
        </p:nvPicPr>
        <p:blipFill>
          <a:blip r:embed="rId2"/>
          <a:stretch/>
        </p:blipFill>
        <p:spPr>
          <a:xfrm>
            <a:off x="3059280" y="189000"/>
            <a:ext cx="2954160" cy="3024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1" name="Rectangle 8"/>
          <p:cNvSpPr/>
          <p:nvPr/>
        </p:nvSpPr>
        <p:spPr>
          <a:xfrm>
            <a:off x="3132000" y="3284640"/>
            <a:ext cx="28814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друзей -пис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пор"/>
          <p:cNvPicPr/>
          <p:nvPr/>
        </p:nvPicPr>
        <p:blipFill>
          <a:blip r:embed="rId3"/>
          <a:stretch/>
        </p:blipFill>
        <p:spPr>
          <a:xfrm>
            <a:off x="6715080" y="285840"/>
            <a:ext cx="1841400" cy="2520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3" name="Rectangle 10"/>
          <p:cNvSpPr/>
          <p:nvPr/>
        </p:nvSpPr>
        <p:spPr>
          <a:xfrm>
            <a:off x="5149800" y="6673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443640" y="2997360"/>
            <a:ext cx="2376360" cy="43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рмии на Кавка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2" descr="горький"/>
          <p:cNvPicPr/>
          <p:nvPr/>
        </p:nvPicPr>
        <p:blipFill>
          <a:blip r:embed="rId4"/>
          <a:stretch/>
        </p:blipFill>
        <p:spPr>
          <a:xfrm>
            <a:off x="1116000" y="3860640"/>
            <a:ext cx="2521080" cy="223236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sp>
        <p:nvSpPr>
          <p:cNvPr id="236" name="Rectangle 13"/>
          <p:cNvSpPr/>
          <p:nvPr/>
        </p:nvSpPr>
        <p:spPr>
          <a:xfrm>
            <a:off x="250920" y="6237360"/>
            <a:ext cx="259236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с М.Горьк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4" descr="чехов"/>
          <p:cNvPicPr/>
          <p:nvPr/>
        </p:nvPicPr>
        <p:blipFill>
          <a:blip r:embed="rId5"/>
          <a:stretch/>
        </p:blipFill>
        <p:spPr>
          <a:xfrm>
            <a:off x="5643720" y="3857760"/>
            <a:ext cx="1928520" cy="2305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8" name="Rectangle 15"/>
          <p:cNvSpPr/>
          <p:nvPr/>
        </p:nvSpPr>
        <p:spPr>
          <a:xfrm>
            <a:off x="4857840" y="6215040"/>
            <a:ext cx="3671640" cy="476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с А. П. Чехо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лстой среди родны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4" descr="жена"/>
          <p:cNvPicPr/>
          <p:nvPr/>
        </p:nvPicPr>
        <p:blipFill>
          <a:blip r:embed="rId1"/>
          <a:stretch/>
        </p:blipFill>
        <p:spPr>
          <a:xfrm>
            <a:off x="539640" y="1125360"/>
            <a:ext cx="2089440" cy="19432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41" name="Picture 15" descr="илья"/>
          <p:cNvPicPr/>
          <p:nvPr/>
        </p:nvPicPr>
        <p:blipFill>
          <a:blip r:embed="rId2"/>
          <a:stretch/>
        </p:blipFill>
        <p:spPr>
          <a:xfrm>
            <a:off x="5940360" y="3933720"/>
            <a:ext cx="2448000" cy="223200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42" name="Picture 16" descr="таня"/>
          <p:cNvPicPr/>
          <p:nvPr/>
        </p:nvPicPr>
        <p:blipFill>
          <a:blip r:embed="rId3"/>
          <a:stretch/>
        </p:blipFill>
        <p:spPr>
          <a:xfrm>
            <a:off x="468360" y="3860640"/>
            <a:ext cx="2303280" cy="237672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43" name="Rectangle 20"/>
          <p:cNvSpPr/>
          <p:nvPr/>
        </p:nvSpPr>
        <p:spPr>
          <a:xfrm>
            <a:off x="179280" y="3141720"/>
            <a:ext cx="3888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женой Софьей Андреевной Бер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250920" y="6353280"/>
            <a:ext cx="29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нучкой Та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796000" y="6281640"/>
            <a:ext cx="30956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нуками Соней и Ильё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3" descr="9"/>
          <p:cNvPicPr/>
          <p:nvPr/>
        </p:nvPicPr>
        <p:blipFill>
          <a:blip r:embed="rId4"/>
          <a:stretch/>
        </p:blipFill>
        <p:spPr>
          <a:xfrm>
            <a:off x="5643720" y="1071720"/>
            <a:ext cx="2881080" cy="194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47" name="Rectangle 24"/>
          <p:cNvSpPr/>
          <p:nvPr/>
        </p:nvSpPr>
        <p:spPr>
          <a:xfrm>
            <a:off x="5572080" y="3214800"/>
            <a:ext cx="29512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воей семьё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лстой для дет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5" descr="дети"/>
          <p:cNvPicPr/>
          <p:nvPr/>
        </p:nvPicPr>
        <p:blipFill>
          <a:blip r:embed="rId1"/>
          <a:stretch/>
        </p:blipFill>
        <p:spPr>
          <a:xfrm>
            <a:off x="3214800" y="1428840"/>
            <a:ext cx="1966680" cy="221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50" name="Picture 6" descr="азбука"/>
          <p:cNvPicPr/>
          <p:nvPr/>
        </p:nvPicPr>
        <p:blipFill>
          <a:blip r:embed="rId2"/>
          <a:stretch/>
        </p:blipFill>
        <p:spPr>
          <a:xfrm>
            <a:off x="468360" y="4437000"/>
            <a:ext cx="1368360" cy="1873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для детей"/>
          <p:cNvPicPr/>
          <p:nvPr/>
        </p:nvPicPr>
        <p:blipFill>
          <a:blip r:embed="rId3"/>
          <a:stretch/>
        </p:blipFill>
        <p:spPr>
          <a:xfrm>
            <a:off x="2195640" y="4437000"/>
            <a:ext cx="1304640" cy="18716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2" name="Picture 9" descr="кни"/>
          <p:cNvPicPr/>
          <p:nvPr/>
        </p:nvPicPr>
        <p:blipFill>
          <a:blip r:embed="rId4"/>
          <a:stretch/>
        </p:blipFill>
        <p:spPr>
          <a:xfrm>
            <a:off x="3963960" y="4437000"/>
            <a:ext cx="1255680" cy="192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3" name="Picture 11" descr="к"/>
          <p:cNvPicPr/>
          <p:nvPr/>
        </p:nvPicPr>
        <p:blipFill>
          <a:blip r:embed="rId5"/>
          <a:stretch/>
        </p:blipFill>
        <p:spPr>
          <a:xfrm>
            <a:off x="5643720" y="4429080"/>
            <a:ext cx="1306440" cy="192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4" name="Picture 12" descr="пл"/>
          <p:cNvPicPr/>
          <p:nvPr/>
        </p:nvPicPr>
        <p:blipFill>
          <a:blip r:embed="rId6"/>
          <a:stretch/>
        </p:blipFill>
        <p:spPr>
          <a:xfrm>
            <a:off x="468360" y="1341360"/>
            <a:ext cx="2389320" cy="260820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5" name="Picture 13" descr="отроч"/>
          <p:cNvPicPr/>
          <p:nvPr/>
        </p:nvPicPr>
        <p:blipFill>
          <a:blip r:embed="rId7"/>
          <a:stretch/>
        </p:blipFill>
        <p:spPr>
          <a:xfrm>
            <a:off x="7358040" y="4429080"/>
            <a:ext cx="1305000" cy="194004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56" name="Picture 14" descr="кн"/>
          <p:cNvPicPr/>
          <p:nvPr/>
        </p:nvPicPr>
        <p:blipFill>
          <a:blip r:embed="rId8"/>
          <a:stretch/>
        </p:blipFill>
        <p:spPr>
          <a:xfrm>
            <a:off x="5435640" y="1413000"/>
            <a:ext cx="1508040" cy="223200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7" name="Picture 15" descr="книг"/>
          <p:cNvPicPr/>
          <p:nvPr/>
        </p:nvPicPr>
        <p:blipFill>
          <a:blip r:embed="rId9"/>
          <a:stretch/>
        </p:blipFill>
        <p:spPr>
          <a:xfrm>
            <a:off x="7164360" y="1285920"/>
            <a:ext cx="1798560" cy="257472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8" name="Picture 6" descr="азбука"/>
          <p:cNvPicPr/>
          <p:nvPr/>
        </p:nvPicPr>
        <p:blipFill>
          <a:blip r:embed="rId10"/>
          <a:stretch/>
        </p:blipFill>
        <p:spPr>
          <a:xfrm>
            <a:off x="500040" y="4429080"/>
            <a:ext cx="1368360" cy="18734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151078215"/>
          <p:cNvPicPr/>
          <p:nvPr/>
        </p:nvPicPr>
        <p:blipFill>
          <a:blip r:embed="rId1"/>
          <a:stretch/>
        </p:blipFill>
        <p:spPr>
          <a:xfrm>
            <a:off x="179280" y="189000"/>
            <a:ext cx="2521080" cy="24350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pic>
        <p:nvPicPr>
          <p:cNvPr id="260" name="Picture 5" descr="151077984"/>
          <p:cNvPicPr/>
          <p:nvPr/>
        </p:nvPicPr>
        <p:blipFill>
          <a:blip r:embed="rId2"/>
          <a:stretch/>
        </p:blipFill>
        <p:spPr>
          <a:xfrm>
            <a:off x="5867280" y="189000"/>
            <a:ext cx="2881440" cy="23986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61" name="Picture 6" descr="кар"/>
          <p:cNvPicPr/>
          <p:nvPr/>
        </p:nvPicPr>
        <p:blipFill>
          <a:blip r:embed="rId3"/>
          <a:stretch/>
        </p:blipFill>
        <p:spPr>
          <a:xfrm>
            <a:off x="2428920" y="3357720"/>
            <a:ext cx="4103640" cy="27334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62" name="Picture 10" descr="images"/>
          <p:cNvPicPr/>
          <p:nvPr/>
        </p:nvPicPr>
        <p:blipFill>
          <a:blip r:embed="rId4"/>
          <a:stretch/>
        </p:blipFill>
        <p:spPr>
          <a:xfrm>
            <a:off x="3492360" y="189000"/>
            <a:ext cx="1778040" cy="2376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63" name="Rectangle 14"/>
          <p:cNvSpPr/>
          <p:nvPr/>
        </p:nvSpPr>
        <p:spPr>
          <a:xfrm>
            <a:off x="214200" y="27147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улка на лош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6195960" y="27147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в горо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2286000" y="6215040"/>
            <a:ext cx="45007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нецов «Лев Николаевич на паш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000240" y="2714760"/>
            <a:ext cx="27338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на велосип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87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ник Л.Н. Толст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р  в  1910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abaf8f5d"/>
          <p:cNvPicPr/>
          <p:nvPr/>
        </p:nvPicPr>
        <p:blipFill>
          <a:blip r:embed="rId1"/>
          <a:stretch/>
        </p:blipFill>
        <p:spPr>
          <a:xfrm>
            <a:off x="3095640" y="785880"/>
            <a:ext cx="2610000" cy="48578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286160" y="285480"/>
            <a:ext cx="4857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Как называется отдельный дом с примыкающими к нему строениями и угод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Что строил для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акой предмет преподавал в школ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К какому жанру относится произведение «Детство. Отрочество. Юност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Назовите главного героя рома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214280" y="478620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714240" y="1643040"/>
            <a:ext cx="14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214280" y="328608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214280" y="428616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71424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214280" y="378612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21472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71468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64320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71476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214800" y="3786120"/>
            <a:ext cx="428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214280" y="5786280"/>
            <a:ext cx="500400" cy="428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714760" y="22147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714760" y="27147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714760" y="3214800"/>
            <a:ext cx="50004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71476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714760" y="42861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643200" y="42861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643200" y="2143080"/>
            <a:ext cx="5000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643200" y="27147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643200" y="3214800"/>
            <a:ext cx="50004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214280" y="528624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714680" y="4786200"/>
            <a:ext cx="428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714760" y="214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714760" y="71424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714760" y="171468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714760" y="1214280"/>
            <a:ext cx="500040" cy="5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71424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143080" y="4786200"/>
            <a:ext cx="42876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1420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214280" y="621504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2643120" y="285840"/>
            <a:ext cx="214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214280" y="3286080"/>
            <a:ext cx="14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3643200" y="2143080"/>
            <a:ext cx="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14200" y="4786200"/>
            <a:ext cx="1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 flipH="1">
            <a:off x="714240" y="3857760"/>
            <a:ext cx="2145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55:21Z</dcterms:created>
  <dc:creator>eXPerience</dc:creator>
  <dc:description/>
  <dc:language>en-US</dc:language>
  <cp:lastModifiedBy>Елена Георгиевна</cp:lastModifiedBy>
  <dcterms:modified xsi:type="dcterms:W3CDTF">2009-11-06T12:19:25Z</dcterms:modified>
  <cp:revision>89</cp:revision>
  <dc:subject/>
  <dc:title>Презинтация программы</dc:title>
</cp:coreProperties>
</file>