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audio1.wav" ContentType="audio/x-wav"/>
  <Override PartName="/ppt/media/image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5F6-6457-40FA-BAC7-562244AF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48B-A9C7-4408-88A3-65DC8B44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6BA-EE6B-440E-8F2D-E7397790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FAC-A62C-46A4-84CF-16328022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1F5-52AF-4BB5-85B9-A29C534F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07BA-D694-4878-9B62-604DF3F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30E-C8CC-436E-A286-A65DC7A3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C2F7-A827-43A9-AAA2-AE8CC204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4F06-2A69-4455-8716-14A63FBC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F57D-2C69-4A0D-BE4A-67DDC6E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25DF-3C32-49AF-A760-F8DA035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AAE-A9DF-4EBC-9F9E-635D212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9D1A-6041-4243-9B48-97D26D7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8A65-6B32-43DA-AC6C-82165E1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6C5-7C92-4EEE-8921-0F33B2D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5193-FD20-4F4C-BA58-0131F35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C099-F04F-4130-A893-870DC3F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2997-B6CD-409A-A8B9-3084D51C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B7E8-1D69-420B-8250-FC0E7831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40EB-37F7-4FFF-8121-AE8BB20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1B5B-76EE-436E-A0D2-CC2B41A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8FA6-516C-419A-8DE2-E120BEB4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5EF-0E98-44A5-B3AA-8EA2712D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5F62-1B85-4A4B-BDBE-61D6591E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36D9-5F88-47F8-B148-3CEED09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DA2A-6320-4A12-895B-62163AD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AF60-BEC1-4042-8D0E-7D4C64B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B51C-6F1F-498C-978D-641880E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2440-EE29-4469-BA44-C9860459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6874-4C30-4229-A73D-6FB4852C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7DC4-DC63-4F9C-823C-23D640A3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A061-FC32-47D5-BC75-9E9FC2D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851D-05C4-44CA-87DA-DBA0F661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624-D291-4431-871A-650375A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B363-BDE0-41F3-8661-40F3764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5AAD-F1C1-453B-A9D5-1F488FB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E39B-2606-45AF-80EB-84C760A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8437-9E6A-4636-A6A1-EB132EE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0F4D-E294-4CCD-8FB1-5DD9BF3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D7BE-CC00-40BA-BA9F-04C758C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1905-061E-459F-9B1A-71B810F3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5FB4-DD3B-4882-8C6E-1541115F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CECB-FCF9-40E2-AD74-4E9CB345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CD9-2FF0-4912-947D-F6B2CBD2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9EF-22D0-4F1E-A4DD-8A474411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551-F9F8-42A7-8656-66A90FF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BFB-A304-438C-B750-DF4075C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8E9-7EC4-4463-9C8C-5B8A6C5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B2193D-4A91-4F24-B738-37DFC0D04BD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6A995F-34DE-477D-A22D-133AA9B552B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A9548A-BF54-4A74-A2B9-5D4358FF270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329E97-790F-452E-B383-36496385E0D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D:\6 СЕНТЯБРЯ\7! КРАСИВЫЕ ФОНЫ ФОТОШОП\Fon_Dlya_Ramok\k-48.jpg"/>
          <p:cNvPicPr/>
          <p:nvPr/>
        </p:nvPicPr>
        <p:blipFill>
          <a:blip r:embed="rId1"/>
          <a:stretch/>
        </p:blipFill>
        <p:spPr>
          <a:xfrm>
            <a:off x="1043640" y="548640"/>
            <a:ext cx="8100000" cy="630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59640" y="1845000"/>
            <a:ext cx="7497720" cy="280800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сказкотерапии в работе с детьми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школьного возраста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2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3640" y="404640"/>
            <a:ext cx="788976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аждой группы сказок есть своя возрастная детская аудитория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3—5 лет наиболее понятны и близки сказки о животных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зки о взаимодействии людей и животных. В этом возрасте дет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идентифицируют себя с животными, легко перевоплощаются 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х, копируя их манеру поведения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5 лет, ребенок идентифицирует себя преимуществен н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ими персонажами: принцами, царевнами, солдатами и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у нравятся сказки о людях, потому что в этих историях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ится рассказ о том, как человек познает мир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м  сказкотерапии  можно работать с малышами от 3-х лет.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инкевич – Евстигнеева читает, что сказку, как лекарство, можно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ть с 4-х летнего возраста, потому, что результативным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воздействия сказкотерапия становится только тогда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человек четко осознает отличие сказки и выдумки от жизни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ьности. А у ребенка это осознание начинается как раз на рубеж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-х лет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435680" y="908640"/>
            <a:ext cx="7497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Чтение  сказки  и её анализ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— осознание, интерпретация того, что стоит за каждо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очной ситуацией, за конструкцией сюжета, за поведением героев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рослушивания детьми сказки им задается ряд вопросов: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чём сказка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запомнилось больше всего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герои запомнились? Почему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случилось с тем или иным персонажем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чувства возникали во время чтения? В какие моменты было радостно? В какие грустно? Было ли жалко кого-нибудь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чувства, какое настроение после сказк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ется ли такое в жизни, по-настоящему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лись ли у тебя похожие ситуаци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у мы можем научиться у этой сказк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Picture 2" descr="D:\6 СЕНТЯБРЯ\5! КЛИП-АРТЫ\КЛИПАРТЫ ДЕТСКИЕ ))))\Klipart_Masha_i_Medved\10.png"/>
          <p:cNvPicPr/>
          <p:nvPr/>
        </p:nvPicPr>
        <p:blipFill>
          <a:blip r:embed="rId1"/>
          <a:stretch/>
        </p:blipFill>
        <p:spPr>
          <a:xfrm>
            <a:off x="6263640" y="4445640"/>
            <a:ext cx="2880000" cy="24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5680" y="188640"/>
            <a:ext cx="749772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3640" y="692640"/>
            <a:ext cx="78897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ссказывание сказок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ние сказки  от первого  или  третьего  лиц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предложить ребенку рассказать сказку от имени других  действующих лиц, участвующих или не участвующих в сказке. Например, как сказку о Колобке рассказала бы Лиса, Баба-Яга или Василиса Премудрая. «Давайте попробуем рассказать историю Колобка глазами Бабы-Яги, Лисы, Василисы Премудрой или  пенька, на котором сидел Колобок»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ое рассказывание сказок. Каждый  из группы детей по очереди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ет маленький кусочек известной всем сказк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ние известной сказки и придумывание к ней продолжения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ое придумывание сказки. Первый ребенок  говорит первую фразу: «В   некотором царстве, в некотором государстве…», следующий ребенок присоединяет  к сказочной фразе одну или две фразы и т.д. Этот прием помогает развивать  произвольную память; фантазию и воображение; умение выражать свои мысли; умение слушать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435680" y="764640"/>
            <a:ext cx="749772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Проигрывание эпизодов сказки, драматизация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грывание эпизодов дает возможность ребенку почувствовать некоторые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о значимые ситуации и проиграть эмоции, проигрывание сказки в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лях. Ребенок интуитивно выбирает для себя "исцеляющую" роль. И здесь надо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давать роль сценариста самому ребенку, тогда проблемные моменты точно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ут проиграны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Постановка сказок с помощью кукол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я с куклой, ребенок видит, что каждое его действие немедленно отражается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ведении куклы. Это помогает ему самостоятельно корректировать свои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ения и делать поведение куклы максимально выразительным. Работа с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клами позволяет совершенствовать и проявлять через куклу те эмоции, которые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о ребенок по каким-то причинам не может себе позволить проявить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Рисование по мотивам сказки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- 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унок наиболее значимого для ребенка отрывка;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имого сказочного героя,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азочной страны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уя или работая с различными материалами ребенок воплощает все, что его волнует, чувства и мысли, освобождаясь от тревоги или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ого чувства, которое беспокоило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435680" y="188640"/>
            <a:ext cx="7497720" cy="5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4" descr="05_1"/>
          <p:cNvPicPr/>
          <p:nvPr/>
        </p:nvPicPr>
        <p:blipFill>
          <a:blip r:embed="rId1"/>
          <a:stretch/>
        </p:blipFill>
        <p:spPr>
          <a:xfrm>
            <a:off x="7164360" y="4581000"/>
            <a:ext cx="1679400" cy="216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Структура   сказкотерапевтического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 занятия   содержит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5680" y="1052640"/>
            <a:ext cx="7497720" cy="51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туал «входа в сказку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строй на совместную работу)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передача волшебного  клубочка по кругу, проход через волшебный обруч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туальная присказка: «Добрая волшебница в гости пригласила, двери в сказку нам тихонько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ткрыла».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Сказка в гости к нам пришла, нам встречать ее пора!"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ую ча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педагог  рассказывает детям новую сказку, использует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образные   приемы работы со сказкой (обсуждение, вопросы к детям, инсценирование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и, рисование сказки)  Педагог обсуждает и анализирует вместе с детьми, в каких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туациях их жизни  они могут использовать тот опыт, что приобрели  сегодня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юмировани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ить приобретенный опыт связать его с уже имеющимся  опытом. Воспитател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водит итоги занятия. Четко проговаривает последовательность происходившего н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ях, отмечает отдельных детей за их заслуги, подчеркивает значимост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ного опыта, проговаривает конкретные ситуации реальной жизни, 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х дети могут использовать опыт, что приобрели  сегодня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туал «выхода из сказки»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Дети, стоя в кругу, проговаривают: «Мы берём с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ой  всё важное, что было сегодня с нами, всё, чему мы  научились»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Содержимое 5"/>
          <p:cNvGraphicFramePr/>
          <p:nvPr/>
        </p:nvGraphicFramePr>
        <p:xfrm>
          <a:off x="971640" y="980640"/>
          <a:ext cx="7992360" cy="5370120"/>
        </p:xfrm>
        <a:graphic>
          <a:graphicData uri="http://schemas.openxmlformats.org/drawingml/2006/table">
            <a:tbl>
              <a:tblPr/>
              <a:tblGrid>
                <a:gridCol w="2268720"/>
                <a:gridCol w="5724000"/>
              </a:tblGrid>
              <a:tr h="127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 – был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2520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сказки, встреча с ее героями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ервую очередь подобрать героя, близкого ребенку по полу, возрасту, характер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детей 3-4 лет рекомендуют делать главными героями сказок игрушки, маленьких человечков и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я с 5 лет – фей, волшебников, принцесс, принцев, солд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2520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друг однажды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сталкивается с какой-то проблемой, конфликтом, совпадающей с проблемой ребенка. Описать жизнь героя в сказочной стране так, чтобы ребенок нашел сходство со своей жизнью, и приписать герою все переживания ребенка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51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– за этого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но в чем состоит решение проблемы, и как это делают герои сказ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мин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и сказки справляются с трудност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130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язка                          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 действий героев сказ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 — герой, совершивший плохой поступок, наказа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 — герой, который проходит через все испытания, проявляет свои лучшие качества, вознагражд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язка  коррекционной  сказки должна быть позити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 сей сказки такова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и сказки извлекают уроки из своих действ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жизнь радикально измен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</a:tbl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81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Сочинение сказок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</a:rPr>
              <a:t>Для того чтобы сказка или история обрела силу и оказала помощь, необходимо, чтобы сказочный сюжет должен разворачиваться в определенной последовательности: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4300"/>
            </a:br>
            <a:br>
              <a:rPr sz="4300"/>
            </a:b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3" descr="1"/>
          <p:cNvPicPr/>
          <p:nvPr/>
        </p:nvPicPr>
        <p:blipFill>
          <a:blip r:embed="rId2"/>
          <a:stretch/>
        </p:blipFill>
        <p:spPr>
          <a:xfrm>
            <a:off x="-396720" y="-31536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674360" cy="1684080"/>
          </a:xfrm>
          <a:prstGeom prst="rect">
            <a:avLst/>
          </a:prstGeom>
          <a:ln w="9525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395640" y="476640"/>
            <a:ext cx="8424720" cy="527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адая в сказку, дети легко воспринимают «сказочные законы» - нормы и правила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 разряжаясь, сбрасывая зажимы, «отыгрывая» глубоко спрятанные в подсознании страх, беспокойство, агрессию или чувство вины, дети становятся мягче, добрее, увереннее в себе, восприимчивее к людям и окружающему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азкотерапия один из самых эффективных видов педагог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, в процессе которого задействованы все компоненты здоровь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в использовать в своей работе методы сказкотерапии, нужно помнить - результатов от лечения сказкой не стоит ждать сразу, но что они будут – несомненно. Ведь труд, терпение и доброта, как и в любой сказке, обязательно будут вознаграждены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робуйте! Уверена, что этот прием понравится вашим воспитанникам и поможет Вам в рабо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3640" y="188640"/>
            <a:ext cx="7497720" cy="63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«</a:t>
            </a:r>
            <a:r>
              <a:rPr b="1" i="1" lang="hr-HR" sz="3800" spc="-1" strike="noStrike">
                <a:solidFill>
                  <a:srgbClr val="002060"/>
                </a:solidFill>
                <a:latin typeface="Times New Roman"/>
              </a:rPr>
              <a:t>Сказка - ложь, да в ней намек –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i="1" lang="hr-HR" sz="3800" spc="-1" strike="noStrike">
                <a:solidFill>
                  <a:srgbClr val="002060"/>
                </a:solidFill>
                <a:latin typeface="Times New Roman"/>
              </a:rPr>
              <a:t>обрым молодцам урок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казка - это один из первых видов художественного творчества, с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оторым знакомится ребенок. Наверное, нет ни одного малыша,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оторый был бы равнодушен к сказке.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едь сказки полны народной мудрости, они помогают научиться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лушать другого человека, учат видеть добро и зло. Сказка помогает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ебенку учиться справляться с трудностями и учит находить разные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пособы   выхода из затруднительных положений. 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овремя рассказанная сказка может помочь малышу решить свою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етскую проблему, обрести уверенность в себе, излечить детские страхи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 конце концов, сказки могут направить энергию ребенка в правильное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усло - русло самопознания и безграничного творчества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19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«Сказки могут помочь воспитать ум, дать ключи для того,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чтобы  войти   в действительность новыми путями, может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помочь ребёнку узнать мир  и одарить его воображение»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Д. Родари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34" b="15475"/>
          <a:stretch/>
        </p:blipFill>
        <p:spPr>
          <a:xfrm>
            <a:off x="6948360" y="4293000"/>
            <a:ext cx="230400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64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3432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WordArt 22"/>
          <p:cNvSpPr txBox="1"/>
          <p:nvPr/>
        </p:nvSpPr>
        <p:spPr>
          <a:xfrm>
            <a:off x="2987640" y="620640"/>
            <a:ext cx="3457080" cy="114264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ln w="0">
                  <a:noFill/>
                </a:ln>
                <a:solidFill>
                  <a:srgbClr val="800080"/>
                </a:solidFill>
                <a:latin typeface="Arial"/>
              </a:rPr>
              <a:t>Сказкотерапия</a:t>
            </a:r>
            <a:endParaRPr b="0" lang="en-US" sz="4000" spc="-1" strike="noStrike">
              <a:ln w="0">
                <a:noFill/>
              </a:ln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467640" y="1340640"/>
            <a:ext cx="727632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827640" y="1124640"/>
            <a:ext cx="8105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отерапия – один из видов  здоровьесберегающ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инновационным методом в работе с детьми, который, 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ягко и ненавязчиво воздействовать на ребенка при помощи сказки, р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этом самые разные задачи. Сказка  является наиболее эффек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роверенным способом и  средством воспитания и обучения  детей, 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из эффективных методов работы с детьми, испытывающими те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иные эмоциональные и поведенческие затруд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ких случаях уместно “лечение сказкой”? Оно необходимо, есл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бёнка наблюдаются эмоционально-личностные и повед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: агрессивность, тревожность, страхи, капризность, заст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уверенность в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а  позволяет ребенку актуализировать,  осознать свои проблем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идеть различные пути   их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206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                 </a:t>
            </a: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Виды  сказок </a:t>
            </a:r>
            <a:br>
              <a:rPr sz="3200"/>
            </a:b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(классификация   Зинкевич  - Евстигнеевой)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4" descr="5 cka3ok"/>
          <p:cNvPicPr/>
          <p:nvPr/>
        </p:nvPicPr>
        <p:blipFill>
          <a:blip r:embed="rId1"/>
          <a:stretch/>
        </p:blipFill>
        <p:spPr>
          <a:xfrm>
            <a:off x="1475640" y="1196640"/>
            <a:ext cx="7416360" cy="5328360"/>
          </a:xfrm>
          <a:prstGeom prst="rect">
            <a:avLst/>
          </a:prstGeom>
          <a:ln w="9525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Художественные 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3640" y="98064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Художественные  сказки делятся на народные   и авторские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одные  сказки  способствуют  воспитанию нравственных и эстетических чувств: взаимопомощи, поддержки, сопереживания, сочувствия, долга, ответственности и др. Так, в сказке «Репка» ярко отражается  то, что помощь и поддержка других людей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воляют достигнуть цели, которая не по силам одному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у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ая  мысль сказки «Маша и медведь - из любой трудной ситуации всегда можно найти выход, главное не сила, а смекалка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2" descr="C:\Users\На\Desktop\1344598613_x_7f281fc0.jpg"/>
          <p:cNvPicPr/>
          <p:nvPr/>
        </p:nvPicPr>
        <p:blipFill>
          <a:blip r:embed="rId1"/>
          <a:stretch/>
        </p:blipFill>
        <p:spPr>
          <a:xfrm>
            <a:off x="3420000" y="4365000"/>
            <a:ext cx="316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Дидактические 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3640" y="1124640"/>
            <a:ext cx="788976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 сказки используются для преподнесения детям новых для них знаний учебного характера. В этих сказках абстрактные для ребёнка символы: буквы, цифры, звуки  становятся одушевлёнными   и повествуют о новых для  ребёнка  понятиях.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-познавательный материал, преподнесенный в контексте сказки  легче воспринимается ребенком, а значит, процесс обучения становится более эффектив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6" name="Picture 2" descr="C:\Users\На\Desktop\i.jpg"/>
          <p:cNvPicPr/>
          <p:nvPr/>
        </p:nvPicPr>
        <p:blipFill>
          <a:blip r:embed="rId1"/>
          <a:stretch/>
        </p:blipFill>
        <p:spPr>
          <a:xfrm>
            <a:off x="1475640" y="4077000"/>
            <a:ext cx="2808000" cy="259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На\Desktop\77769609_12.png"/>
          <p:cNvPicPr/>
          <p:nvPr/>
        </p:nvPicPr>
        <p:blipFill>
          <a:blip r:embed="rId2"/>
          <a:stretch/>
        </p:blipFill>
        <p:spPr>
          <a:xfrm>
            <a:off x="5148000" y="4149000"/>
            <a:ext cx="2952000" cy="2270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Диагностические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5680" y="1052640"/>
            <a:ext cx="7497720" cy="51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ческие сказки позволяют определить наличи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ы у ребёнка, а также определить его характер 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к тому, что его окружает. Например, если ребёнок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ает предпочтение сказкам, где главным героем является зайка-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сишка, то можно предположить, что он сам достаточн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стенчивый, с повышенным  уровнем  тревожности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ческая сказка может способствовать выявлению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я ребенка, о которых он не хочет или не может говорит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лух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" name="Picture 2" descr="D:\6 СЕНТЯБРЯ\5! КЛИП-АРТЫ\КЛИПАРТЫ ДЕТСКИЕ ))))\Klipart_Masha_i_Medved\10.png"/>
          <p:cNvPicPr/>
          <p:nvPr/>
        </p:nvPicPr>
        <p:blipFill>
          <a:blip r:embed="rId1"/>
          <a:stretch/>
        </p:blipFill>
        <p:spPr>
          <a:xfrm>
            <a:off x="3420000" y="4149000"/>
            <a:ext cx="2880000" cy="24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1880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Психокоррекционные  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3640" y="1124640"/>
            <a:ext cx="7776360" cy="50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коррекционные сказки помогают взрослому мягко влиять н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дение ребенка, «замещая» неэффективный  стиль поведения н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продуктивный и объясняя ребенку смысл происходящего, т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ненавязчиво в сказочно-волшебной форме предлагается ребенку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тельный пример поведения, и нет ничего удивительного, чт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будет вести себя так же, как и сказочный герой. Он будет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иться пользоваться примером положительного героя в борьб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своими страхами и  проблемами.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3" name="Picture 4" descr="03_1"/>
          <p:cNvPicPr/>
          <p:nvPr/>
        </p:nvPicPr>
        <p:blipFill>
          <a:blip r:embed="rId1"/>
          <a:stretch/>
        </p:blipFill>
        <p:spPr>
          <a:xfrm>
            <a:off x="5292000" y="3789000"/>
            <a:ext cx="244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Медитативные 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640" y="1268640"/>
            <a:ext cx="792036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тативные сказки активизируют положительные эмоции детей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т позитивному настрою. Особенностью этих сказок являетс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отрицательных героев и конфликтных  ситуаций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дитативные   сказ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рассказываются под специальную музыку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ющую расслаблению. Такие сказки успокаивают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зывают положительные эмоции, настраивают на гармонию с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им собой и  окружающими, внушают уверенность в себе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ют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у позитива, спокойствия, комфорта, расслабления, снимают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яжения и возбуждения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 этих сказок – путешествие. Принцип построения сказк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:  30-40 секунд звучит спокойная музыка. Ребенок делает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убокий вдох и выдох. Педагог говорит: «Сейчас мы с вам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правляемся в путешествие в прекрасную сказочную страну...»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«в  волшебный  лес…»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6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34" b="15475"/>
          <a:stretch/>
        </p:blipFill>
        <p:spPr>
          <a:xfrm>
            <a:off x="7236360" y="2925000"/>
            <a:ext cx="19072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644</TotalTime>
  <Application>LibreOffice/7.4.7.2$Linux_X86_64 LibreOffice_project/40$Build-2</Application>
  <AppVersion>15.0000</AppVersion>
  <Words>118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4-03-22T19:11:11Z</dcterms:modified>
  <cp:revision>265</cp:revision>
  <dc:subject/>
  <dc:title>  Роль сказки                               в   работе  с дошкольник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