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audio1.wav" ContentType="audio/x-wav"/>
  <Override PartName="/ppt/media/image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EBD-0343-4802-B49C-8D7F7A55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F33-EC15-43D4-8A6B-98266AF5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2FE-2BAE-4472-B3F3-DEF5BAFE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8A4-1226-4F39-828D-732E941D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9441-CFC9-4175-8869-667EB3D1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BBFD-1C2C-452F-B75F-4D3FED7F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5776-6273-4F18-9884-C80C391D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16A7-DE59-425A-AF62-1C1B2B4E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B480-5335-4738-BCC3-AF0FED72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32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1F29-5EFB-460A-BEFE-AFFC7842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0E98-5DBA-430B-ADE3-11F618A8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10C-DCCC-4D7A-92EC-03D716DA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FB44-7161-4B65-B3E4-1B422F06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5C07-9C22-49DE-918D-3F73310D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0FA5-AC85-4E94-B813-17A1ED48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AAC6-F812-474E-987D-AE2986D9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6E4A-E6B1-4B44-94A4-6F66BA9E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FAA1-C6C4-4822-8900-EF802A35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A7A26-0361-4D71-931D-34F41578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F024-37A8-4BD1-8959-3577D9A1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E7832-7AE6-4048-A0EF-C1C38F18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93D9-064A-4B07-A66D-004D4461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8E6-B2FB-4F2F-A016-72812B0B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5680" y="27432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425C-D635-480B-8380-5042372B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37D4-CB27-40C0-B4B8-91D48556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276C-0872-4C20-AB9A-C52E53E1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AF79-5BFF-42CD-B24C-EFD5360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7688A-319B-4F6E-8AED-4ED79766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6CB0-0E5D-4149-8B09-F393A450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BEECE-57B0-4277-B603-4856D7A4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FE787-1505-40BD-9194-CA3FF258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F7C76-7F1C-4F76-B53A-FD624B83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4E48-7315-4D77-9F43-2A945A0A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52D-48A3-4B1F-A271-9E4AB2D7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0923-E8E9-49DE-BD20-50204B91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D74D3-DA74-4906-BFE0-02AF9FCB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435680" y="27432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4EA3-0F72-47BC-B0CD-9B47E79A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D38F-30DE-4106-A4A8-46F9E60F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34AE2-9D51-4B63-886C-BAE25146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F4A25-637D-465F-9DB9-E2BE3DDC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6D99A-65AC-4FBC-A040-C6C77DFA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79E03-50B7-4101-A5EB-AA197B99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09B15-0543-4340-B6EC-5FC8844C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C1C-7D6A-44D2-9F1F-FA2D53AD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32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960-BF58-4D82-B3E8-4B3B69C5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9B8-A80B-4D4E-84C7-C14A8AC8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F62-AD65-43DE-AD45-DC5070A4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8FF-623D-46B7-B8BF-53580EB1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76D5428-75E3-4022-B62A-6FE87A51F279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7B5A06F-E468-41B8-B18B-6A4E5171B992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6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3F7EA7-6143-4FAF-86EC-B4EE25434DBA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2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4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3FE2D62-5F2E-4D5D-BAA4-99BAD995D676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D:\6 СЕНТЯБРЯ\7! КРАСИВЫЕ ФОНЫ ФОТОШОП\Fon_Dlya_Ramok\k-48.jpg"/>
          <p:cNvPicPr/>
          <p:nvPr/>
        </p:nvPicPr>
        <p:blipFill>
          <a:blip r:embed="rId1"/>
          <a:stretch/>
        </p:blipFill>
        <p:spPr>
          <a:xfrm>
            <a:off x="1043640" y="548640"/>
            <a:ext cx="8100000" cy="6309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59640" y="1845000"/>
            <a:ext cx="7497720" cy="2808000"/>
          </a:xfrm>
          <a:prstGeom prst="rect">
            <a:avLst/>
          </a:prstGeom>
          <a:noFill/>
          <a:ln w="3816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сказкотерапии в работе с детьми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школьного возраста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  <p:sndAc>
      <p:stSnd>
        <p:snd r:embed="rId2" name="audio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43640" y="404640"/>
            <a:ext cx="7889760" cy="58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каждой группы сказок есть своя возрастная детская аудитория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ям 3—5 лет наиболее понятны и близки сказки о животных 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азки о взаимодействии людей и животных. В этом возрасте дет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о идентифицируют себя с животными, легко перевоплощаются в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х, копируя их манеру поведения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иная с 5 лет, ребенок идентифицирует себя преимуществен но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ческими персонажами: принцами, царевнами, солдатами и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у нравятся сказки о людях, потому что в этих историях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ится рассказ о том, как человек познает мир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м  сказкотерапии  можно работать с малышами от 3-х лет. 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инкевич – Евстигнеева читает, что сказку, как лекарство, можно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ять с 4-х летнего возраста, потому, что результативным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ом воздействия сказкотерапия становится только тогда,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человек четко осознает отличие сказки и выдумки от жизни 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ьности. А у ребенка это осознание начинается как раз на рубеже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-х лет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  <p:sndAc>
      <p:stSnd>
        <p:snd r:embed="rId1" name="audio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435680" y="908640"/>
            <a:ext cx="7497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Чтение  сказки  и её анализ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— осознание, интерпретация того, что стоит за каждой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очной ситуацией, за конструкцией сюжета, за поведением героев.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прослушивания детьми сказки им задается ряд вопросов: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чём сказка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запомнилось больше всего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герои запомнились? Почему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случилось с тем или иным персонажем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чувства возникали во время чтения? В какие моменты было радостно? В какие грустно? Было ли жалко кого-нибудь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чувства, какое настроение после сказки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ется ли такое в жизни, по-настоящему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лись ли у тебя похожие ситуации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му мы можем научиться у этой сказки?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c3300"/>
                </a:solidFill>
                <a:latin typeface="Gill Sans MT"/>
              </a:rPr>
              <a:t>Приёмы  работы  со сказкой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Picture 2" descr="D:\6 СЕНТЯБРЯ\5! КЛИП-АРТЫ\КЛИПАРТЫ ДЕТСКИЕ ))))\Klipart_Masha_i_Medved\10.png"/>
          <p:cNvPicPr/>
          <p:nvPr/>
        </p:nvPicPr>
        <p:blipFill>
          <a:blip r:embed="rId1"/>
          <a:stretch/>
        </p:blipFill>
        <p:spPr>
          <a:xfrm>
            <a:off x="6263640" y="4445640"/>
            <a:ext cx="2880000" cy="241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audio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5680" y="188640"/>
            <a:ext cx="7497720" cy="5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c3300"/>
                </a:solidFill>
                <a:latin typeface="Gill Sans MT"/>
              </a:rPr>
              <a:t>Приёмы  работы  со сказкой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3640" y="692640"/>
            <a:ext cx="78897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ссказывание сказок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: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казывание сказки  от первого  или  третьего  лица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жно предложить ребенку рассказать сказку от имени других  действующих лиц, участвующих или не участвующих в сказке. Например, как сказку о Колобке рассказала бы Лиса, Баба-Яга или Василиса Премудрая. «Давайте попробуем рассказать историю Колобка глазами Бабы-Яги, Лисы, Василисы Премудрой или  пенька, на котором сидел Колобок»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овое рассказывание сказок. Каждый  из группы детей по очереди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казывает маленький кусочек известной всем сказки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казывание известной сказки и придумывание к ней продолжения.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овое придумывание сказки. Первый ребенок  говорит первую фразу: «В   некотором царстве, в некотором государстве…», следующий ребенок присоединяет  к сказочной фразе одну или две фразы и т.д. Этот прием помогает развивать  произвольную память; фантазию и воображение; умение выражать свои мысли; умение слушать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  <p:sndAc>
      <p:stSnd>
        <p:snd r:embed="rId1" name="audio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435680" y="764640"/>
            <a:ext cx="749772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59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Проигрывание эпизодов сказки, драматизация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игрывание эпизодов дает возможность ребенку почувствовать некоторые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моционально значимые ситуации и проиграть эмоции, проигрывание сказки в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лях. Ребенок интуитивно выбирает для себя "исцеляющую" роль. И здесь надо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давать роль сценариста самому ребенку, тогда проблемные моменты точно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дут проиграны.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Постановка сказок с помощью кукол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ботая с куклой, ребенок видит, что каждое его действие немедленно отражается 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поведении куклы. Это помогает ему самостоятельно корректировать свои 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ижения и делать поведение куклы максимально выразительным. Работа с 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клами позволяет совершенствовать и проявлять через куклу те эмоции, которые 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ычно ребенок по каким-то причинам не может себе позволить проявить.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Рисование по мотивам сказки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- 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унок наиболее значимого для ребенка отрывка;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бимого сказочного героя, 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азочной страны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уя или работая с различными материалами ребенок воплощает все, что его волнует, чувства и мысли, освобождаясь от тревоги или 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угого чувства, которое беспокоило.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435680" y="188640"/>
            <a:ext cx="7497720" cy="5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c3300"/>
                </a:solidFill>
                <a:latin typeface="Gill Sans MT"/>
              </a:rPr>
              <a:t>Приёмы  работы  со сказкой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4" descr="05_1"/>
          <p:cNvPicPr/>
          <p:nvPr/>
        </p:nvPicPr>
        <p:blipFill>
          <a:blip r:embed="rId1"/>
          <a:stretch/>
        </p:blipFill>
        <p:spPr>
          <a:xfrm>
            <a:off x="7164360" y="4581000"/>
            <a:ext cx="1679400" cy="216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audio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572314"/>
                </a:solidFill>
                <a:latin typeface="Gill Sans MT"/>
              </a:rPr>
              <a:t>Структура   сказкотерапевтического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Gill Sans MT"/>
              </a:rPr>
              <a:t> занятия   содержит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5680" y="1052640"/>
            <a:ext cx="7497720" cy="51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61080" indent="-27972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туал «входа в сказку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астрой на совместную работу)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передача волшебного  клубочка по кругу, проход через волшебный обруч,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туальная присказка: «Добрая волшебница в гости пригласила, двери в сказку нам тихонько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ткрыла».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Сказка в гости к нам пришла, нам встречать ее пора!"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ую ча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где педагог  рассказывает детям новую сказку, использует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нообразные   приемы работы со сказкой (обсуждение, вопросы к детям, инсценирование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ки, рисование сказки)  Педагог обсуждает и анализирует вместе с детьми, в каких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туациях их жизни  они могут использовать тот опыт, что приобрели  сегодня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юмирование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бщить приобретенный опыт связать его с уже имеющимся  опытом. Воспитател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водит итоги занятия. Четко проговаривает последовательность происходившего н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ятиях, отмечает отдельных детей за их заслуги, подчеркивает значимост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ного опыта, проговаривает конкретные ситуации реальной жизни, в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ых дети могут использовать опыт, что приобрели  сегодня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туал «выхода из сказки»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Дети, стоя в кругу, проговаривают: «Мы берём с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бой  всё важное, что было сегодня с нами, всё, чему мы  научились». 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  <p:sndAc>
      <p:stSnd>
        <p:snd r:embed="rId1" name="audio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Содержимое 5"/>
          <p:cNvGraphicFramePr/>
          <p:nvPr/>
        </p:nvGraphicFramePr>
        <p:xfrm>
          <a:off x="971640" y="980640"/>
          <a:ext cx="7992360" cy="5370120"/>
        </p:xfrm>
        <a:graphic>
          <a:graphicData uri="http://schemas.openxmlformats.org/drawingml/2006/table">
            <a:tbl>
              <a:tblPr/>
              <a:tblGrid>
                <a:gridCol w="2268720"/>
                <a:gridCol w="5724000"/>
              </a:tblGrid>
              <a:tr h="1272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 – был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25200">
                      <a:solidFill>
                        <a:srgbClr val="475a8d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 сказки, встреча с ее героями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ервую очередь подобрать героя, близкого ребенку по полу, возрасту, характеру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детей 3-4 лет рекомендуют делать главными героями сказок игрушки, маленьких человечков и животн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я с 5 лет – фей, волшебников, принцесс, принцев, солд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25200">
                      <a:solidFill>
                        <a:srgbClr val="475a8d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друг однажды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solidFill>
                      <a:schemeClr val="accent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ой сталкивается с какой-то проблемой, конфликтом, совпадающей с проблемой ребенка. Описать жизнь героя в сказочной стране так, чтобы ребенок нашел сходство со своей жизнью, и приписать герою все переживания ребенка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solidFill>
                      <a:schemeClr val="accent6"/>
                    </a:solidFill>
                  </a:tcPr>
                </a:tc>
              </a:tr>
              <a:tr h="51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– за этого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но в чем состоит решение проблемы, и как это делают герои сказ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мин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solidFill>
                      <a:schemeClr val="accent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ои сказки справляются с трудност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solidFill>
                      <a:schemeClr val="accent6"/>
                    </a:solidFill>
                  </a:tcPr>
                </a:tc>
              </a:tr>
              <a:tr h="1309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язка                                          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 действий героев сказк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-» — герой, совершивший плохой поступок, наказа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+» — герой, который проходит через все испытания, проявляет свои лучшие качества, вознагражд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язка  коррекционной  сказки должна быть позити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аль сей сказки такова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solidFill>
                      <a:schemeClr val="accent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ои сказки извлекают уроки из своих действ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х жизнь радикально изменя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475a8d"/>
                      </a:solidFill>
                    </a:lnL>
                    <a:lnR w="12240">
                      <a:solidFill>
                        <a:srgbClr val="475a8d"/>
                      </a:solidFill>
                    </a:lnR>
                    <a:lnT w="12240">
                      <a:solidFill>
                        <a:srgbClr val="475a8d"/>
                      </a:solidFill>
                    </a:lnT>
                    <a:lnB w="12240">
                      <a:solidFill>
                        <a:srgbClr val="475a8d"/>
                      </a:solidFill>
                    </a:lnB>
                    <a:solidFill>
                      <a:schemeClr val="accent6"/>
                    </a:solidFill>
                  </a:tcPr>
                </a:tc>
              </a:tr>
            </a:tbl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8172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16000"/>
          </a:bodyPr>
          <a:p>
            <a:pPr indent="0" algn="ctr">
              <a:lnSpc>
                <a:spcPct val="100000"/>
              </a:lnSpc>
              <a:buNone/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Сочинение сказок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</a:rPr>
              <a:t>Для того чтобы сказка или история обрела силу и оказала помощь, необходимо, чтобы сказочный сюжет должен разворачиваться в определенной последовательности: 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4300"/>
            </a:br>
            <a:br>
              <a:rPr sz="4300"/>
            </a:b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  <p:sndAc>
      <p:stSnd>
        <p:snd r:embed="rId1" name="audio1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9525">
            <a:noFill/>
          </a:ln>
        </p:spPr>
      </p:pic>
      <p:pic>
        <p:nvPicPr>
          <p:cNvPr id="231" name="Picture 3" descr="1"/>
          <p:cNvPicPr/>
          <p:nvPr/>
        </p:nvPicPr>
        <p:blipFill>
          <a:blip r:embed="rId2"/>
          <a:stretch/>
        </p:blipFill>
        <p:spPr>
          <a:xfrm>
            <a:off x="-396720" y="-31536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232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1674360" cy="1684080"/>
          </a:xfrm>
          <a:prstGeom prst="rect">
            <a:avLst/>
          </a:prstGeom>
          <a:ln w="9525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395640" y="476640"/>
            <a:ext cx="8424720" cy="5273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падая в сказку, дети легко воспринимают «сказочные законы» - нормы и правила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моционально разряжаясь, сбрасывая зажимы, «отыгрывая» глубоко спрятанные в подсознании страх, беспокойство, агрессию или чувство вины, дети становятся мягче, добрее, увереннее в себе, восприимчивее к людям и окружающему ми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азкотерапия один из самых эффективных видов педагог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доровьесберегающих технологий, в процессе которого задействованы все компоненты здоровь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в использовать в своей работе методы сказкотерапии, нужно помнить - результатов от лечения сказкой не стоит ждать сразу, но что они будут – несомненно. Ведь труд, терпение и доброта, как и в любой сказке, обязательно будут вознаграждены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пробуйте! Уверена, что этот прием понравится вашим воспитанникам и поможет Вам в рабо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4" name="audio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403640" y="188640"/>
            <a:ext cx="7497720" cy="63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8000"/>
          </a:bodyPr>
          <a:p>
            <a:pPr marL="369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3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002060"/>
                </a:solidFill>
                <a:latin typeface="Times New Roman"/>
              </a:rPr>
              <a:t>«</a:t>
            </a:r>
            <a:r>
              <a:rPr b="1" i="1" lang="hr-HR" sz="3800" spc="-1" strike="noStrike">
                <a:solidFill>
                  <a:srgbClr val="002060"/>
                </a:solidFill>
                <a:latin typeface="Times New Roman"/>
              </a:rPr>
              <a:t>Сказка - ложь, да в ней намек –</a:t>
            </a:r>
            <a:r>
              <a:rPr b="1" i="1" lang="ru-RU" sz="3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002060"/>
                </a:solidFill>
                <a:latin typeface="Times New Roman"/>
              </a:rPr>
              <a:t>Д</a:t>
            </a:r>
            <a:r>
              <a:rPr b="1" i="1" lang="hr-HR" sz="3800" spc="-1" strike="noStrike">
                <a:solidFill>
                  <a:srgbClr val="002060"/>
                </a:solidFill>
                <a:latin typeface="Times New Roman"/>
              </a:rPr>
              <a:t>обрым молодцам урок</a:t>
            </a:r>
            <a:r>
              <a:rPr b="1" i="1" lang="ru-RU" sz="3800" spc="-1" strike="noStrike">
                <a:solidFill>
                  <a:srgbClr val="002060"/>
                </a:solidFill>
                <a:latin typeface="Times New Roman"/>
              </a:rPr>
              <a:t>»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казка - это один из первых видов художественного творчества, с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которым знакомится ребенок. Наверное, нет ни одного малыша,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который был бы равнодушен к сказке.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Ведь сказки полны народной мудрости, они помогают научиться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лушать другого человека, учат видеть добро и зло. Сказка помогает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ебенку учиться справляться с трудностями и учит находить разные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пособы   выхода из затруднительных положений. 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Вовремя рассказанная сказка может помочь малышу решить свою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детскую проблему, обрести уверенность в себе, излечить детские страхи.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В конце концов, сказки могут направить энергию ребенка в правильное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усло - русло самопознания и безграничного творчества.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19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</a:rPr>
              <a:t>«Сказки могут помочь воспитать ум, дать ключи для того,</a:t>
            </a:r>
            <a:endParaRPr b="0" lang="ru-RU" sz="33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</a:rPr>
              <a:t>чтобы  войти   в действительность новыми путями, может</a:t>
            </a:r>
            <a:endParaRPr b="0" lang="ru-RU" sz="33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</a:rPr>
              <a:t>помочь ребёнку узнать мир  и одарить его воображение»</a:t>
            </a:r>
            <a:endParaRPr b="0" lang="ru-RU" sz="33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ru-RU" sz="3300" spc="-1" strike="noStrike">
                <a:solidFill>
                  <a:srgbClr val="7030a0"/>
                </a:solidFill>
                <a:latin typeface="Times New Roman"/>
              </a:rPr>
              <a:t>Д. Родари</a:t>
            </a:r>
            <a:endParaRPr b="0" lang="ru-RU" sz="33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" name="Picture 3" descr="D:\6 СЕНТЯБРЯ\5! КЛИП-АРТЫ\КЛИПАРТЫ ДЕТСКИЕ ))))\Klipart_Masha_i_Medved\3.png"/>
          <p:cNvPicPr/>
          <p:nvPr/>
        </p:nvPicPr>
        <p:blipFill>
          <a:blip r:embed="rId1"/>
          <a:srcRect l="0" t="0" r="5334" b="15475"/>
          <a:stretch/>
        </p:blipFill>
        <p:spPr>
          <a:xfrm>
            <a:off x="6948360" y="4293000"/>
            <a:ext cx="2304000" cy="2327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audio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3640" cy="6867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120" cy="143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6920" cy="64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00000" y="1600200"/>
            <a:ext cx="73432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WordArt 22"/>
          <p:cNvSpPr txBox="1"/>
          <p:nvPr/>
        </p:nvSpPr>
        <p:spPr>
          <a:xfrm>
            <a:off x="2987640" y="620640"/>
            <a:ext cx="3457080" cy="1142640"/>
          </a:xfrm>
          <a:prstGeom prst="rect">
            <a:avLst/>
          </a:prstGeom>
        </p:spPr>
        <p:txBody>
          <a:bodyPr wrap="none" fromWordArt="1" lIns="90000" rIns="90000" tIns="45000" bIns="45000" anchor="b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ln w="0">
                  <a:noFill/>
                </a:ln>
                <a:solidFill>
                  <a:srgbClr val="800080"/>
                </a:solidFill>
                <a:latin typeface="Arial"/>
              </a:rPr>
              <a:t>Сказкотерапия</a:t>
            </a:r>
            <a:endParaRPr b="0" lang="en-US" sz="4000" spc="-1" strike="noStrike">
              <a:ln w="0">
                <a:noFill/>
              </a:ln>
              <a:solidFill>
                <a:srgbClr val="800080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467640" y="1340640"/>
            <a:ext cx="727632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одержимое 2"/>
          <p:cNvSpPr/>
          <p:nvPr/>
        </p:nvSpPr>
        <p:spPr>
          <a:xfrm>
            <a:off x="827640" y="1124640"/>
            <a:ext cx="8105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котерапия – один из видов  здоровьесберегающи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ется инновационным методом в работе с детьми, который, позво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ягко и ненавязчиво воздействовать на ребенка при помощи сказки, ре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этом самые разные задачи. Сказка  является наиболее эффектив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роверенным способом и  средством воспитания и обучения  детей, а так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им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 из эффективных методов работы с детьми, испытывающими те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иные эмоциональные и поведенческие затруд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каких случаях уместно “лечение сказкой”? Оно необходимо, если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бёнка наблюдаются эмоционально-личностные и поведен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ы: агрессивность, тревожность, страхи, капризность, заст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еуверенность в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ка  позволяет ребенку актуализировать,  осознать свои проблемы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 algn="just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идеть различные пути   их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5" name="audio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82062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4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cc3300"/>
                </a:solidFill>
                <a:latin typeface="Gill Sans MT"/>
              </a:rPr>
              <a:t>                 </a:t>
            </a:r>
            <a:r>
              <a:rPr b="1" i="1" lang="ru-RU" sz="3200" spc="-1" strike="noStrike">
                <a:solidFill>
                  <a:srgbClr val="cc3300"/>
                </a:solidFill>
                <a:latin typeface="Gill Sans MT"/>
              </a:rPr>
              <a:t>Виды  сказок </a:t>
            </a:r>
            <a:br>
              <a:rPr sz="3200"/>
            </a:br>
            <a:r>
              <a:rPr b="1" i="1" lang="ru-RU" sz="3200" spc="-1" strike="noStrike">
                <a:solidFill>
                  <a:srgbClr val="cc3300"/>
                </a:solidFill>
                <a:latin typeface="Gill Sans MT"/>
              </a:rPr>
              <a:t>(классификация   Зинкевич  - Евстигнеевой)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0" name="Picture 4" descr="5 cka3ok"/>
          <p:cNvPicPr/>
          <p:nvPr/>
        </p:nvPicPr>
        <p:blipFill>
          <a:blip r:embed="rId1"/>
          <a:stretch/>
        </p:blipFill>
        <p:spPr>
          <a:xfrm>
            <a:off x="1475640" y="1196640"/>
            <a:ext cx="7416360" cy="5328360"/>
          </a:xfrm>
          <a:prstGeom prst="rect">
            <a:avLst/>
          </a:prstGeom>
          <a:ln w="9525">
            <a:noFill/>
          </a:ln>
        </p:spPr>
      </p:pic>
    </p:spTree>
  </p:cSld>
  <p:transition spd="slow">
    <p:wedge/>
    <p:sndAc>
      <p:stSnd>
        <p:snd r:embed="rId2" name="audio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c3300"/>
                </a:solidFill>
                <a:latin typeface="Gill Sans MT"/>
              </a:rPr>
              <a:t>Художественные    сказки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3640" y="98064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Gill Sans MT"/>
              </a:rPr>
              <a:t>     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Художественные  сказки делятся на народные   и авторские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одные  сказки  способствуют  воспитанию нравственных и эстетических чувств: взаимопомощи, поддержки, сопереживания, сочувствия, долга, ответственности и др. Так, в сказке «Репка» ярко отражается  то, что помощь и поддержка других людей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воляют достигнуть цели, которая не по силам одному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ку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ая  мысль сказки «Маша и медведь - из любой трудной ситуации всегда можно найти выход, главное не сила, а смекалка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" name="Picture 2" descr="C:\Users\На\Desktop\1344598613_x_7f281fc0.jpg"/>
          <p:cNvPicPr/>
          <p:nvPr/>
        </p:nvPicPr>
        <p:blipFill>
          <a:blip r:embed="rId1"/>
          <a:stretch/>
        </p:blipFill>
        <p:spPr>
          <a:xfrm>
            <a:off x="3420000" y="4365000"/>
            <a:ext cx="316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c3300"/>
                </a:solidFill>
                <a:latin typeface="Gill Sans MT"/>
              </a:rPr>
              <a:t>Дидактические 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3640" y="1124640"/>
            <a:ext cx="7889760" cy="51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дактические сказки используются для преподнесения детям новых для них знаний учебного характера. В этих сказках абстрактные для ребёнка символы: буквы, цифры, звуки  становятся одушевлёнными   и повествуют о новых для  ребёнка  понятиях.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о-познавательный материал, преподнесенный в контексте сказки  легче воспринимается ребенком, а значит, процесс обучения становится более эффектив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6" name="Picture 2" descr="C:\Users\На\Desktop\i.jpg"/>
          <p:cNvPicPr/>
          <p:nvPr/>
        </p:nvPicPr>
        <p:blipFill>
          <a:blip r:embed="rId1"/>
          <a:stretch/>
        </p:blipFill>
        <p:spPr>
          <a:xfrm>
            <a:off x="1475640" y="4077000"/>
            <a:ext cx="2808000" cy="2592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На\Desktop\77769609_12.png"/>
          <p:cNvPicPr/>
          <p:nvPr/>
        </p:nvPicPr>
        <p:blipFill>
          <a:blip r:embed="rId2"/>
          <a:stretch/>
        </p:blipFill>
        <p:spPr>
          <a:xfrm>
            <a:off x="5148000" y="4149000"/>
            <a:ext cx="2952000" cy="2270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audio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c3300"/>
                </a:solidFill>
                <a:latin typeface="Gill Sans MT"/>
              </a:rPr>
              <a:t>Диагностические   сказки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5680" y="1052640"/>
            <a:ext cx="7497720" cy="51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ческие сказки позволяют определить наличие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ы у ребёнка, а также определить его характер  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к тому, что его окружает. Например, если ребёнок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дает предпочтение сказкам, где главным героем является зайка-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сишка, то можно предположить, что он сам достаточно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стенчивый, с повышенным  уровнем  тревожности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ческая сказка может способствовать выявлению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я ребенка, о которых он не хочет или не может говорит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лух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0" name="Picture 2" descr="D:\6 СЕНТЯБРЯ\5! КЛИП-АРТЫ\КЛИПАРТЫ ДЕТСКИЕ ))))\Klipart_Masha_i_Medved\10.png"/>
          <p:cNvPicPr/>
          <p:nvPr/>
        </p:nvPicPr>
        <p:blipFill>
          <a:blip r:embed="rId1"/>
          <a:stretch/>
        </p:blipFill>
        <p:spPr>
          <a:xfrm>
            <a:off x="3420000" y="4149000"/>
            <a:ext cx="2880000" cy="241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audio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1880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c3300"/>
                </a:solidFill>
                <a:latin typeface="Gill Sans MT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Gill Sans MT"/>
              </a:rPr>
              <a:t>Психокоррекционные     сказки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43640" y="1124640"/>
            <a:ext cx="7776360" cy="50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коррекционные сказки помогают взрослому мягко влиять на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дение ребенка, «замещая» неэффективный  стиль поведения на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продуктивный и объясняя ребенку смысл происходящего, то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ненавязчиво в сказочно-волшебной форме предлагается ребенку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тельный пример поведения, и нет ничего удивительного, что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будет вести себя так же, как и сказочный герой. Он будет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миться пользоваться примером положительного героя в борьбе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 своими страхами и  проблемами. 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3" name="Picture 4" descr="03_1"/>
          <p:cNvPicPr/>
          <p:nvPr/>
        </p:nvPicPr>
        <p:blipFill>
          <a:blip r:embed="rId1"/>
          <a:stretch/>
        </p:blipFill>
        <p:spPr>
          <a:xfrm>
            <a:off x="5292000" y="3789000"/>
            <a:ext cx="2448000" cy="28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c3300"/>
                </a:solidFill>
                <a:latin typeface="Gill Sans MT"/>
              </a:rPr>
              <a:t>Медитативные  сказ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71640" y="1268640"/>
            <a:ext cx="792036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итативные сказки активизируют положительные эмоции детей,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т позитивному настрою. Особенностью этих сказок является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утствие отрицательных героев и конфликтных  ситуаций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едитативные   сказки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рассказываются под специальную музыку,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ющую расслаблению. Такие сказки успокаивают,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зывают положительные эмоции, настраивают на гармонию с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им собой и  окружающими, внушают уверенность в себе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ют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мосферу позитива, спокойствия, комфорта, расслабления, снимают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яжения и возбуждения. 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 этих сказок – путешествие. Принцип построения сказк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т:  30-40 секунд звучит спокойная музыка. Ребенок делает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убокий вдох и выдох. Педагог говорит: «Сейчас мы с вам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правляемся в путешествие в прекрасную сказочную страну...»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«в  волшебный  лес…»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6" name="Picture 3" descr="D:\6 СЕНТЯБРЯ\5! КЛИП-АРТЫ\КЛИПАРТЫ ДЕТСКИЕ ))))\Klipart_Masha_i_Medved\3.png"/>
          <p:cNvPicPr/>
          <p:nvPr/>
        </p:nvPicPr>
        <p:blipFill>
          <a:blip r:embed="rId1"/>
          <a:srcRect l="0" t="0" r="5334" b="15475"/>
          <a:stretch/>
        </p:blipFill>
        <p:spPr>
          <a:xfrm>
            <a:off x="7236360" y="2925000"/>
            <a:ext cx="1907280" cy="2327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audio1.wav"/>
      </p:stSnd>
    </p:sndAc>
  </p:transition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644</TotalTime>
  <Application>LibreOffice/7.4.7.2$Linux_X86_64 LibreOffice_project/40$Build-2</Application>
  <AppVersion>15.0000</AppVersion>
  <Words>1188</Words>
  <Paragraphs>1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4-03-22T19:11:11Z</dcterms:modified>
  <cp:revision>265</cp:revision>
  <dc:subject/>
  <dc:title>  Роль сказки                               в   работе  с дошкольник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