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B82-C060-470F-AFDC-CDB0A780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9ED-FD4F-4B70-BBB3-F295964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273-B43B-4002-BB86-CCA803D3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164-D945-404B-95CA-A61940E6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6A76-7850-4EFE-93EE-6C7309B9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E022-73DF-470E-8BE5-F186D58D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4DC6-BCCC-41F7-983C-7C520035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747-7D28-4875-931E-38524D8A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277B-ABE5-48BB-BB55-B919D20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392-924F-46E0-A8AF-EE11A596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ED8-C003-446B-A4B5-2AB1EA7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8DB-1C25-40F2-BBFD-873CAC1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5CC-0476-4C1F-8AC6-8295F02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5A3C-71DF-4BFC-904B-FFCAC36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531-051E-47BA-86F0-9D1B0CD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5FA1-DCDA-486B-9B39-813A691C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C6C6-7900-4056-ACFA-6E090DD7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7DD-674A-4B58-A4A8-68F2FF61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365-9A77-4B84-8607-31A0047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586-8462-4A11-9C2E-32BD9CE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185-2DAF-4A35-9A6D-B35CDC08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23E-A8F7-4A24-BA38-26E40D9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955-8A64-4979-8DC3-278DC30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732-7149-4A82-9AC0-337AC1D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3723-DE8F-43FB-AA83-8A9F34A31C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2AE-BB6B-477F-ACD2-EC0B00D6AB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%20&#1087;&#1086;%20&#1090;&#1077;&#1084;&#1077;.xl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ccecff"/>
                </a:solidFill>
                <a:latin typeface="Monotype Corsiva"/>
              </a:rPr>
              <a:t>Шмикк Светлана Леонидовна</a:t>
            </a:r>
            <a:endParaRPr b="0" lang="en-US" sz="10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квалификационной категории МОУ «СОШ № 4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ловарные слова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ревн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очки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ер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7200" spc="-1" strike="noStrike">
                <a:solidFill>
                  <a:srgbClr val="ff6600"/>
                </a:solidFill>
                <a:latin typeface="Arial"/>
              </a:rPr>
              <a:t>оро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с учебни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95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общ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дятлов есть особенности, их легко можно отличить от других птиц. У них приспособленные для лазания конечности, два пальца направлены вперёд, а два – назад. Все пальцы , как железо, когти. Он опирается на дерево с помощью жёстких перьев клиновидного хво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ый распространённый вид дятлов – пёстрый дятел. Самый маленький пёстрый дятел, он величиной с вороб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Д Я Т </a:t>
            </a:r>
            <a:r>
              <a:rPr b="0" lang="en-US" sz="66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ихотворение С.Я. Марш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ятел жил в дупле пустом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уб долбил, как долот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рок оконче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МОЛОД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3818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Написание проверяемых и непроверяемых гласных в безударных слогах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тьумение правильного написания безударных гла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Отработать  умение распознавать проверяемые и непроверяемые гласные в безударных слог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Развивать речь, орфографическую зоркость, каллиграфические навы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Воспитывать чувства взаимопомощи, бережного отношения к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Сообщение темы и цели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Минутка чистопис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Работа по теме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Физмину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Закрепление изучен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Итог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ест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пословиц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6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Без букв и грамматики не учатся математике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оч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сосновые л…са (и, е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белые гр…бы (е, и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заячьи сл…ды (и, е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*вишнёвые с…ды (о, а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ьный 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сосновые л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белые гр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заячьи сл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*вишнёвые с</a:t>
            </a: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Картинный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с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ло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хол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р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сад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ре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2001960"/>
            <a:ext cx="2286000" cy="1884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505320" y="203976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9480" y="47242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400800" y="47242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ur</cp:lastModifiedBy>
  <dcterms:modified xsi:type="dcterms:W3CDTF">2008-02-24T15:58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