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718-7EF0-4960-A919-82C0EBF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B98-D6DE-45C7-A1CF-8A822BC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A3D-9F78-4881-90B5-9889A4BF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3E2-C734-4153-967E-F1E125A6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A335-2AE5-4937-8684-8EA6310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1D1-B3EF-45F9-8B78-516CBF7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D70B-3EDC-45EB-A0D9-4D5F2C70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3834-7635-43C5-90AC-9A9578C6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626F-6B77-4D66-A0D0-896F12A2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C93-63AE-44D9-9718-4CFEEB8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0C5F-C642-48E6-ADEE-67145A9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D47-55B2-4C2F-85E8-A9AAAF5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5C7-84B4-46A7-98BD-B755E00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417D-2817-4F65-9005-2BA2BE0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4B8C-140E-4813-A836-69C4D10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79B-52E4-40AD-9C8A-52B962C5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7C5-8243-4849-A864-3C992DFD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FE7-89C7-46EF-BF88-CF3C781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30A-D52B-4E67-8C86-E9AC3B45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D8A-BA6C-4FCC-95BA-E030A92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E33-5694-4E09-ADC0-DC662294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D64-57D2-42C6-ADB9-7C9E3EB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53A-F950-494D-8B71-78331B6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51A-13D2-4DF9-A756-31D9026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602-2088-4953-B0A3-C2C5AC5135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9F0D-3920-43BF-81A7-F935907C04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%20&#1087;&#1086;%20&#1090;&#1077;&#1084;&#1077;.xl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ccecff"/>
                </a:solidFill>
                <a:latin typeface="Monotype Corsiva"/>
              </a:rPr>
              <a:t>Шмикк Светлана Леонидовна</a:t>
            </a:r>
            <a:endParaRPr b="0" lang="en-US" sz="10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квалификационной категории МОУ «СОШ № 4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ловарные слова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ревн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очки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ер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оро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с учебни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95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общ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дятлов есть особенности, их легко можно отличить от других птиц. У них приспособленные для лазания конечности, два пальца направлены вперёд, а два – назад. Все пальцы , как железо, когти. Он опирается на дерево с помощью жёстких перьев клиновидного хво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ый распространённый вид дятлов – пёстрый дятел. Самый маленький пёстрый дятел, он величиной с вороб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Д Я Т </a:t>
            </a:r>
            <a:r>
              <a:rPr b="0" lang="en-US" sz="66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ихотворение С.Я. Марш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ятел жил в дупле пустом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уб долбил, как долот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рок оконче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МОЛОД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3818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Написание проверяемых и непроверяемых гласных в безударных слогах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тьумение правильного написания безударных гла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Отработать  умение распознавать проверяемые и непроверяемые гласные в безударных слог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Развивать речь, орфографическую зоркость, каллиграфические навы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Воспитывать чувства взаимопомощи, бережного отношения к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Сообщение темы и цели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Минутка чистопис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Работа по теме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Физмину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Закрепление изучен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Итог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ест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пословиц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6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Без букв и грамматики не учатся математике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оч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сосновые л…са (и, е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белые гр…бы (е, и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заячьи сл…ды (и, е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вишнёвые с…ды (о, а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ьный 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сосновые л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белые гр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заячьи сл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вишнёвые с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Картинный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с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ло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хол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р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сад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ре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2001960"/>
            <a:ext cx="2286000" cy="1884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505320" y="203976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9480" y="47242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400800" y="47242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ur</cp:lastModifiedBy>
  <dcterms:modified xsi:type="dcterms:W3CDTF">2008-02-24T15:58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