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69D-B475-425F-8676-056CE874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A96-88AA-41DE-B5FF-9CE72B1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485-7602-4EA5-B221-79D43B2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755-4974-47CE-A4F3-1DB30469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C65-EFB3-4ACB-A79B-D2137CE8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944-DCE0-41A0-AB8E-2961DC1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D05-F866-4AD6-AA61-1E7D51B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21E-A7F7-41A7-833E-C60714A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1CD-A6F2-4217-B896-2303E11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EDA-9D28-4999-AF58-52CCAB1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793-B677-4DF2-89AD-103A95C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943-0E52-45AD-90B3-020F5C5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783-3BA8-4A80-839A-CC3A9293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685800"/>
            <a:ext cx="512460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классное занят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ачальной школ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 Здравствуй Маслени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057400"/>
            <a:ext cx="4572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ббота — золовкины 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ые невестки приглашали в гости к себе золовок. Новобрачная невестка должна была подарить золовке какой-нибудь пода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86440" y="685800"/>
            <a:ext cx="405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4572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ресенье — про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же называется целовальник, прощенный день, последний день Масленицы — Прощёное воскресенье. В храмах на вечернем богослужении совершается чин прощения (настоятель просит прощения у других клириков и прихожан). Затем и все верующие, кланяясь друг другу, просят прощения и в ответ на просьбу произносят «Бог простит». Начинают совершать великопостные службы. В этот день ходили в баню. Остатки праздничной еды сжигали, посуду тщательно мыли. В конце праздника торжественно сжигали «чучело Масленицы», полученный пепел рассыпали по по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98960" y="533520"/>
            <a:ext cx="3854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880"/>
            <a:ext cx="83818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оворки и пословицы о Масленице и про Маслен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житье-бытье, а Масле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все коту Масленица, будет и Великий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асленица семь дней гул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асленица объедуха, деньгами прибер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оится Масленица горькой редьки да пареной репы (т.е. пос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Масленица идет, блин да мед нес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линцы, блинчики, бл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колеса у Вес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а горах покататься, в блинах повал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4319640"/>
            <a:ext cx="327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2880" y="2036880"/>
            <a:ext cx="45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землю — кро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земли — лепе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52480" y="4114800"/>
            <a:ext cx="1676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р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24280" y="115236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400" y="2112840"/>
            <a:ext cx="373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рега 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ыба без ко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а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4267080"/>
            <a:ext cx="53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вородка, тесто и мас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4191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1776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к желез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ад я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3962520"/>
            <a:ext cx="44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 на сковоро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4095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440" y="2341440"/>
            <a:ext cx="42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дит царь-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олотых яич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962520"/>
            <a:ext cx="4190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ворода на угл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962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0574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 икрой, и со сметаной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якие они вкусн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здреваты и румяны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ши солнышк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4343400"/>
            <a:ext cx="24382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89440" y="838080"/>
            <a:ext cx="3471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00800" y="6248520"/>
              <a:ext cx="274320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572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зорное и весёлое прощание с зимой и встреча весны, несущей оживление в природе и солнечное тепло. Люди испокон веков воспринимали весну как начало новой жизни и почитали Солнце, дающее жизнь и силы всему живому. В честь солнца сначала пекли пресные лепёшки, а когда научились готовить заквасное тесто, стали печь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87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" y="1371600"/>
            <a:ext cx="53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евние люди считали б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волом солнца, поскольку 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солнце, жёл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лый и горя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ерили, что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блином они съе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ичку его тепла и мог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32240" y="533520"/>
            <a:ext cx="391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4572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недельн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стр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ром свекор со свекровью отправляли невестку на день к отцу и матери, вечером сами приходили к сватам в гости. Обговаривались время и место гуляний, определялся состав гостей. К этому дню достраивались горы, качели, балаганы. Начинали печь блины. Первый блин отдавался нищим на помин усоп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4197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торник — за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т день происходили смотрины невест. Все масленичные обряды, по сути, сводились к сватовству, для того, чтобы после Великого поста, на Красную горку, сыграть свадьбу. С утра молодые люди приглашались кататься с гор, поесть блинов. Звали родных и знакомых. Для зазывания Масленицы произносили слова: «У нас горы снежные готовы и блины напечены — просим жаловать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990720"/>
            <a:ext cx="46483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4572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реда — лако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день зять приходил к тёще на блины. Кроме зятя тёща приглашала и других г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86280" y="914400"/>
            <a:ext cx="4257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14400"/>
            <a:ext cx="4572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Четверг — разгуля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ул, широкий разг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этого дня Масленица разворачивалась во всю ширь. Народ предавался всевозможным потехам, катанием на лошадях, кулачным боям, шумным пирушкам. Главное действие в четверг — штурм и дальнейший захват снежного горо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919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0492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52280" y="28195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ятница — тёщины вечё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ятья приглашали в гости своих тёщ, угощали их бл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32160" y="0"/>
            <a:ext cx="49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5-06-24T17:04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