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92C-B867-4D37-87AD-5155F4AF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DC9-76C3-42A1-9D86-FED57BC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E76-8AE9-479C-BF68-80115B5D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7CF-F502-4E36-8EE4-855E3864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DCB-31C4-48C1-A9C9-402C9A38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BF9-0554-4F0C-B647-27AF615C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790-710F-4A22-AFAD-AC9065C4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3F3-582B-4CF0-AC21-6CAC6F47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3F2-8512-404C-8B34-235DEAFD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464-481E-451E-87F1-23A25D9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ACC-5258-4030-9559-47E8DA36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47E-381E-404A-981A-69774E7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108F-A220-43D4-ABC9-7AAC7F8D3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685800"/>
            <a:ext cx="512460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классное занят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начальной школ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 Здравствуй Маслениц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057400"/>
            <a:ext cx="4572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ббота — золовкины поси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ые невестки приглашали в гости к себе золовок. Новобрачная невестка должна была подарить золовке какой-нибудь пода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86440" y="685800"/>
            <a:ext cx="405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04920"/>
            <a:ext cx="45720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кресенье — про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же называется целовальник, прощенный день, последний день Масленицы — Прощёное воскресенье. В храмах на вечернем богослужении совершается чин прощения (настоятель просит прощения у других клириков и прихожан). Затем и все верующие, кланяясь друг другу, просят прощения и в ответ на просьбу произносят «Бог простит». Начинают совершать великопостные службы. В этот день ходили в баню. Остатки праздничной еды сжигали, посуду тщательно мыли. В конце праздника торжественно сжигали «чучело Масленицы», полученный пепел рассыпали по по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98960" y="533520"/>
            <a:ext cx="3854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0880"/>
            <a:ext cx="83818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оворки и пословицы о Масленице и про Маслен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житье-бытье, а Маслен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все коту Масленица, будет и Великий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асленица семь дней гуля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асленица объедуха, деньгами приберу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Боится Масленица горькой редьки да пареной репы (т.е. пос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Масленица идет, блин да мед нес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Блинцы, блинчики, бл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колеса у Вес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а горах покататься, в блинах поваля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319640"/>
            <a:ext cx="327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2880" y="2036880"/>
            <a:ext cx="459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землю — кро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земли — лепе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52480" y="4114800"/>
            <a:ext cx="1676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р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24280" y="115236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400" y="2112840"/>
            <a:ext cx="373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рега кр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ыба без ко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да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4267080"/>
            <a:ext cx="53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вородка, тесто и масл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4191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1776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к желез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ад я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3962520"/>
            <a:ext cx="44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н на сковород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40957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9440" y="2341440"/>
            <a:ext cx="42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дит царь-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олотых яич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962520"/>
            <a:ext cx="4190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ворода на угл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962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0574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 икрой, и со сметаной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якие они вкусн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здреваты и румяны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ши солнышк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4343400"/>
            <a:ext cx="24382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89440" y="838080"/>
            <a:ext cx="3471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00800" y="6248520"/>
              <a:ext cx="274320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572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сл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озорное и весёлое прощание с зимой и встреча весны, несущей оживление в природе и солнечное тепло. Люди испокон веков воспринимали весну как начало новой жизни и почитали Солнце, дающее жизнь и силы всему живому. В честь солнца сначала пекли пресные лепёшки, а когда научились готовить заквасное тесто, стали печь б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875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" y="1371600"/>
            <a:ext cx="530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евние люди считали б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волом солнца, поскольку 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и солнце, жёл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лый и горяч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ерили, что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блином они съе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ичку его тепла и могу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32240" y="533520"/>
            <a:ext cx="3911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8600"/>
            <a:ext cx="45720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недельни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стр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ром свекор со свекровью отправляли невестку на день к отцу и матери, вечером сами приходили к сватам в гости. Обговаривались время и место гуляний, определялся состав гостей. К этому дню достраивались горы, качели, балаганы. Начинали печь блины. Первый блин отдавался нищим на помин усоп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4197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торник — за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т день происходили смотрины невест. Все масленичные обряды, по сути, сводились к сватовству, для того, чтобы после Великого поста, на Красную горку, сыграть свадьбу. С утра молодые люди приглашались кататься с гор, поесть блинов. Звали родных и знакомых. Для зазывания Масленицы произносили слова: «У нас горы снежные готовы и блины напечены — просим жаловать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990720"/>
            <a:ext cx="46483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4572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реда — лако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т день зять приходил к тёще на блины. Кроме зятя тёща приглашала и других г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86280" y="914400"/>
            <a:ext cx="4257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14400"/>
            <a:ext cx="4572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Четверг — разгуля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ул, широкий разг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этого дня Масленица разворачивалась во всю ширь. Народ предавался всевозможным потехам, катанием на лошадях, кулачным боям, шумным пирушкам. Главное действие в четверг — штурм и дальнейший захват снежного горо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3919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30492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52280" y="28195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ятница — тёщины вечё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ятья приглашали в гости своих тёщ, угощали их бл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32160" y="0"/>
            <a:ext cx="49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5-06-24T17:04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