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voltage.wav" ContentType="audio/x-wav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3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40B3-2487-4201-8CED-03F0E031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54CA-5741-49D4-8CAA-4B43134B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8AC4-8EA2-4533-8C1C-D991AEF6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6EDA-3229-450E-B26F-E0A999BB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BAF-9849-4D7B-9DE8-B866C495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EA2-34F1-44C2-9D53-522036F9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A54C-CFC1-4E43-85DD-D65FCFC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C5A9-8ABB-496F-AB06-43A3F318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F5E9-49F3-4257-8D91-5597C63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6732-A430-4150-AFDC-88B26BAF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B3E4-5EDF-4783-94C1-E2D73E3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88B3-1545-457F-A674-21897AC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41AC-5018-444F-8F54-77EAF15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31F-7ED3-4F68-B9FA-48F5619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93D9-4735-46CD-BC80-D3FE1A3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8AE9-0B9C-4B3A-A42D-763DC9B2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42B-CC6C-4AC4-AF11-41A0154A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2FE36-DE91-4BA2-B6B2-C9B36C3D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B1BED-2586-45EC-9C4A-B3C89E5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DE393-8D54-4E9D-89BA-C90FE78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6A827-9F74-437B-A2EF-9B1DBD34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F4449-CCB5-4DA7-9800-14DD70D9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243D-2CAD-4462-BDBA-D47E398B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9D61A-3B7F-41ED-9D7B-7AC7534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F61A1-3E29-4ED3-AD45-D352A36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2CF5B-3264-4577-A623-54B52B7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F2029-CC75-4C34-8F73-2B73D651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19446-6B53-4266-AA55-D673732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31D73-34B1-438C-AE0A-97F1BB4C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2E044-3EE3-40D8-BA48-D1589C3F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CB9B-48A0-459B-BCBB-8C773E99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4BCE7-7A74-4DDE-A3BB-36FF177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F20F9-499A-4AAC-B6B4-008E89DF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310D-8261-4A7D-A4E5-4C4B954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DB2D-246D-4DF6-81DF-1FED2AC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E88F-C225-4EEE-901D-CA57183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339C-E68D-4AE0-A3E2-18C8E95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9A2DC-8F90-45E0-821D-5831763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015A-6475-456E-8587-0E6EC30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9154-69F7-41AB-A69B-DB9A34D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CD73-0CB7-42BC-989C-A0B25BCA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AC70-BA9F-4600-8F2B-B88BB11A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AAE3-8B58-4402-9EA7-AEE70FED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200C-14E2-4E3B-B157-E0B0818C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B382-BBAC-49F2-B8C8-49866292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2986-5E03-40C3-B554-4EC04F0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B3A9-E613-4065-B66E-4E461B2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CA47-B9AE-4080-B04B-BAB27CD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0B92-25DB-49FB-88B3-1259737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86DC-D134-4BA0-B55F-C928FD0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6584-EB95-4266-9849-85907F1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20F9-572B-4211-B46D-BC80C15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E635-8C21-499C-863B-28446C1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E94E-978E-4812-968C-BBCAE4AD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771B-5577-4ED0-B26A-5F4C510B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9A24-6C74-4FA9-BD38-D81086C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A08F-932A-472A-AC0A-AFC03928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8CE5-87C6-4DE4-A415-478888D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ABDA-DC7B-429F-893F-03FC6AB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9185-5597-4ED5-9A1A-0B93A74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F44-B507-4818-9C17-F8C07BFC8E6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4E1-9218-4A1F-9405-B21F23B30E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ADF3-54BB-4A40-A48A-35928BE29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2E96-2510-4F59-98E1-05A160FF8AC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3CB-8C5E-4B59-9C75-04AE73C45016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684360" y="1413000"/>
            <a:ext cx="7848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ДОРОЖНОГО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2340000" y="2924280"/>
            <a:ext cx="53532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5840">
                  <a:solidFill>
                    <a:srgbClr val="ebf25a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Я</a:t>
            </a:r>
            <a:endParaRPr b="1" lang="en-US" sz="7200" spc="1" strike="noStrike">
              <a:ln w="15840">
                <a:solidFill>
                  <a:srgbClr val="ebf25a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10" descr="J0283467"/>
          <p:cNvPicPr/>
          <p:nvPr/>
        </p:nvPicPr>
        <p:blipFill>
          <a:blip r:embed="rId1"/>
          <a:stretch/>
        </p:blipFill>
        <p:spPr>
          <a:xfrm>
            <a:off x="68436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1758E-007 C 0.01146 -0.03978 0.02292 -0.07956 0.04028 -0.08279 C 0.05764 -0.0858 0.07917 -0.02313 0.10469 -0.01873 C 0.13038 -0.01457 0.16788 -0.05227 0.19427 -0.05643 C 0.22066 -0.06059 0.23646 -0.04463 0.26302 -0.04394 C 0.28958 -0.04325 0.33247 -0.05735 0.35347 -0.05273 C 0.37448 -0.0481 0.37118 -0.01688 0.38958 -0.01619 C 0.40781 -0.01573 0.44236 -0.05042 0.46372 -0.05018 C 0.48524 -0.04995 0.49826 -0.01549 0.51823 -0.01503 C 0.53837 -0.01457 0.57101 -0.04487 0.58386 -0.04764 C 0.5967 -0.05042 0.5691 -0.04857 0.59583 -0.03261 C 0.62257 -0.01688 0.71684 0.03423 0.74427 0.04764 C 0.7717 0.06105 0.75781 0.04764 0.76059 0.04764 E">
                                      <p:cBhvr>
                                        <p:cTn id="4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Ограничение скорост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скорость нужно снизить до определённого показател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5" name="Picture 8" descr="j0346337"/>
          <p:cNvPicPr/>
          <p:nvPr/>
        </p:nvPicPr>
        <p:blipFill>
          <a:blip r:embed="rId1"/>
          <a:stretch/>
        </p:blipFill>
        <p:spPr>
          <a:xfrm>
            <a:off x="5796000" y="1484280"/>
            <a:ext cx="1741320" cy="1805040"/>
          </a:xfrm>
          <a:prstGeom prst="rect">
            <a:avLst/>
          </a:prstGeom>
          <a:ln w="0">
            <a:noFill/>
          </a:ln>
        </p:spPr>
      </p:pic>
      <p:sp>
        <p:nvSpPr>
          <p:cNvPr id="306" name="Oval 9"/>
          <p:cNvSpPr/>
          <p:nvPr/>
        </p:nvSpPr>
        <p:spPr>
          <a:xfrm>
            <a:off x="5796000" y="4005360"/>
            <a:ext cx="1655640" cy="1655640"/>
          </a:xfrm>
          <a:prstGeom prst="ellipse">
            <a:avLst/>
          </a:prstGeom>
          <a:solidFill>
            <a:srgbClr val="ffffff"/>
          </a:solidFill>
          <a:ln w="219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867280" y="4221000"/>
            <a:ext cx="1440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9528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гон ЗАПРЕЩЁН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обгон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1" name="Picture 7" descr="j0346365"/>
          <p:cNvPicPr/>
          <p:nvPr/>
        </p:nvPicPr>
        <p:blipFill>
          <a:blip r:embed="rId1"/>
          <a:stretch/>
        </p:blipFill>
        <p:spPr>
          <a:xfrm>
            <a:off x="1042920" y="2421000"/>
            <a:ext cx="2592360" cy="27576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572000" y="3213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j0407571"/>
          <p:cNvPicPr/>
          <p:nvPr/>
        </p:nvPicPr>
        <p:blipFill>
          <a:blip r:embed="rId1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  <p:sp>
        <p:nvSpPr>
          <p:cNvPr id="314" name="Line 5"/>
          <p:cNvSpPr/>
          <p:nvPr/>
        </p:nvSpPr>
        <p:spPr>
          <a:xfrm flipV="1">
            <a:off x="3132000" y="5345280"/>
            <a:ext cx="2232000" cy="1512720"/>
          </a:xfrm>
          <a:prstGeom prst="line">
            <a:avLst/>
          </a:prstGeom>
          <a:ln w="1555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6" descr="j0346317"/>
          <p:cNvPicPr/>
          <p:nvPr/>
        </p:nvPicPr>
        <p:blipFill>
          <a:blip r:embed="rId2"/>
          <a:stretch/>
        </p:blipFill>
        <p:spPr>
          <a:xfrm>
            <a:off x="7797960" y="2060640"/>
            <a:ext cx="22096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0416E-006 L 0.29532 -0.22138 E">
                                      <p:cBhvr>
                                        <p:cTn id="31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21" dur="123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22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24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НИМАНИЕ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либо опасный участок дороги, либо часто люди переходят дорогу. В этом месте нужно быть предельно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НИМАТЕЛЬНЫМ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8" name="Picture 8" descr="j0411320"/>
          <p:cNvPicPr/>
          <p:nvPr/>
        </p:nvPicPr>
        <p:blipFill>
          <a:blip r:embed="rId1"/>
          <a:stretch/>
        </p:blipFill>
        <p:spPr>
          <a:xfrm>
            <a:off x="1106640" y="1600200"/>
            <a:ext cx="2536560" cy="2025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j0346317"/>
          <p:cNvPicPr/>
          <p:nvPr/>
        </p:nvPicPr>
        <p:blipFill>
          <a:blip r:embed="rId2"/>
          <a:stretch/>
        </p:blipFill>
        <p:spPr>
          <a:xfrm>
            <a:off x="1042920" y="4076640"/>
            <a:ext cx="2536920" cy="20336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4572000" y="47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рыв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обрыв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3" name="Picture 7" descr="j0344035"/>
          <p:cNvPicPr/>
          <p:nvPr/>
        </p:nvPicPr>
        <p:blipFill>
          <a:blip r:embed="rId1"/>
          <a:stretch/>
        </p:blipFill>
        <p:spPr>
          <a:xfrm>
            <a:off x="5219640" y="1628640"/>
            <a:ext cx="3243240" cy="28339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9"/>
          <p:cNvSpPr/>
          <p:nvPr/>
        </p:nvSpPr>
        <p:spPr>
          <a:xfrm>
            <a:off x="324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рутой спуск, подъём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крутой спуск или подъём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7" name="Picture 18" descr="j0346319"/>
          <p:cNvPicPr/>
          <p:nvPr/>
        </p:nvPicPr>
        <p:blipFill>
          <a:blip r:embed="rId1"/>
          <a:stretch/>
        </p:blipFill>
        <p:spPr>
          <a:xfrm>
            <a:off x="1332000" y="1700280"/>
            <a:ext cx="2279520" cy="1827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j0346357"/>
          <p:cNvPicPr/>
          <p:nvPr/>
        </p:nvPicPr>
        <p:blipFill>
          <a:blip r:embed="rId2"/>
          <a:stretch/>
        </p:blipFill>
        <p:spPr>
          <a:xfrm>
            <a:off x="1116000" y="4149720"/>
            <a:ext cx="2495520" cy="2000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572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n00681_"/>
          <p:cNvPicPr/>
          <p:nvPr/>
        </p:nvPicPr>
        <p:blipFill>
          <a:blip r:embed="rId1"/>
          <a:stretch/>
        </p:blipFill>
        <p:spPr>
          <a:xfrm>
            <a:off x="2843280" y="1916280"/>
            <a:ext cx="294300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43" dur="123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44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46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орожные работы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оказывает, что впереди идут дорожные работы, ремонт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3" name="Picture 11" descr="j0344065"/>
          <p:cNvPicPr/>
          <p:nvPr/>
        </p:nvPicPr>
        <p:blipFill>
          <a:blip r:embed="rId1"/>
          <a:stretch/>
        </p:blipFill>
        <p:spPr>
          <a:xfrm>
            <a:off x="5724360" y="4005360"/>
            <a:ext cx="2200320" cy="1922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j0346285"/>
          <p:cNvPicPr/>
          <p:nvPr/>
        </p:nvPicPr>
        <p:blipFill>
          <a:blip r:embed="rId2"/>
          <a:stretch/>
        </p:blipFill>
        <p:spPr>
          <a:xfrm>
            <a:off x="5651640" y="1700280"/>
            <a:ext cx="2403360" cy="19224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468360" y="378936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Неровности дорог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важно знать, так как он предупреждает о неровностях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8" name="Picture 7" descr="j0411364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3243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46836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Гололёд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предупреждает, что впереди скользкая трасса, опасный участок дороги, ГОЛОЛЁД!!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Особенно важно для автолюбителей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2" name="Picture 9" descr="j0411362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равила дорожного движения должен знать каждый человек. Они очень важны. Ведь эти правила помогают нам сохранить самое главное -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ЖИЗНЬ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ешеходный переход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пешеходный переход, участок, где люди  переходят дорогу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5" name="Picture 17" descr="bd06006_"/>
          <p:cNvPicPr/>
          <p:nvPr/>
        </p:nvPicPr>
        <p:blipFill>
          <a:blip r:embed="rId1"/>
          <a:stretch/>
        </p:blipFill>
        <p:spPr>
          <a:xfrm>
            <a:off x="541512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j0344029"/>
          <p:cNvPicPr/>
          <p:nvPr/>
        </p:nvPicPr>
        <p:blipFill>
          <a:blip r:embed="rId2"/>
          <a:stretch/>
        </p:blipFill>
        <p:spPr>
          <a:xfrm>
            <a:off x="5508720" y="1628640"/>
            <a:ext cx="2504880" cy="2187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9"/>
          <p:cNvSpPr/>
          <p:nvPr/>
        </p:nvSpPr>
        <p:spPr>
          <a:xfrm>
            <a:off x="324000" y="4221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611280" y="3789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ажно знать и пешеходам, и автолюбителя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480"/>
                            </p:stCondLst>
                            <p:childTnLst>
                              <p:par>
                                <p:cTn id="5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8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3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980"/>
                            </p:stCondLst>
                            <p:childTnLst>
                              <p:par>
                                <p:cTn id="576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Извилистая дорога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редупреждает о крутом изгибе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1" name="Picture 10" descr="j0411428"/>
          <p:cNvPicPr/>
          <p:nvPr/>
        </p:nvPicPr>
        <p:blipFill>
          <a:blip r:embed="rId1"/>
          <a:stretch/>
        </p:blipFill>
        <p:spPr>
          <a:xfrm>
            <a:off x="684360" y="2060640"/>
            <a:ext cx="4038480" cy="3224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1"/>
          <p:cNvSpPr/>
          <p:nvPr/>
        </p:nvSpPr>
        <p:spPr>
          <a:xfrm>
            <a:off x="4788000" y="342900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8 0.07338 C -0.08732 0.05069 -0.09826 0.01204 -0.09236 -0.02662 C -0.08923 -0.04005 -0.08524 -0.05324 -0.07934 -0.06389 C -0.07534 -0.03334 -0.06128 -0.00533 -0.04028 0.01204 C -0.04028 -0.02523 -0.0243 -0.06134 0.00278 -0.07732 C 0.01181 -0.08403 0.0217 -0.08658 0.03177 -0.08796 C 0.01667 -0.06528 0.00868 -0.03334 0.01181 1.85185E-006 C 0.03368 -0.02384 0.06476 -0.0294 0.09167 -0.01204 C 0.1007 -0.00671 0.10972 0.00278 0.1158 0.01204 C 0.09271 0.00949 0.06875 0.02129 0.05174 0.04537 C 0.07865 0.05347 0.10174 0.08148 0.10868 0.12014 C 0.11077 0.13333 0.11077 0.14676 0.10868 0.15995 C 0.09566 0.13472 0.07379 0.11736 0.04966 0.11481 C 0.06181 0.14815 0.05868 0.18935 0.0408 0.22014 C 0.03368 0.23079 0.0257 0.24004 0.01667 0.24537 C 0.02379 0.21597 0.01979 0.18264 0.00677 0.15602 C -0.00521 0.18935 -0.03125 0.21204 -0.06128 0.21204 C -0.07222 0.21204 -0.08229 0.20949 -0.09132 0.20393 C -0.06927 0.19329 -0.05225 0.16805 -0.04427 0.13727 C -0.07222 0.14537 -0.10121 0.13333 -0.12031 0.10278 C -0.12725 0.09074 -0.13125 0.0787 -0.1342 0.06528 C -0.11423 0.08264 -0.08819 0.08541 -0.06528 0.07338 Z">
                                      <p:cBhvr>
                                        <p:cTn id="59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оворот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сообщает нам о поворотах на дорог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5" name="Picture 8" descr="j0346343"/>
          <p:cNvPicPr/>
          <p:nvPr/>
        </p:nvPicPr>
        <p:blipFill>
          <a:blip r:embed="rId1"/>
          <a:stretch/>
        </p:blipFill>
        <p:spPr>
          <a:xfrm>
            <a:off x="5508720" y="1484280"/>
            <a:ext cx="2520720" cy="2021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j0346351"/>
          <p:cNvPicPr/>
          <p:nvPr/>
        </p:nvPicPr>
        <p:blipFill>
          <a:blip r:embed="rId2"/>
          <a:stretch/>
        </p:blipFill>
        <p:spPr>
          <a:xfrm>
            <a:off x="5435640" y="3860640"/>
            <a:ext cx="2663640" cy="21355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0"/>
          <p:cNvSpPr/>
          <p:nvPr/>
        </p:nvSpPr>
        <p:spPr>
          <a:xfrm>
            <a:off x="539640" y="3645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L -0.90972 -0.01065 E">
                                      <p:cBhvr>
                                        <p:cTn id="650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1.48148E-006 L 0.43716 -0.00857 E">
                                      <p:cBhvr>
                                        <p:cTn id="652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59" name="Picture 9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j0343615"/>
          <p:cNvPicPr/>
          <p:nvPr/>
        </p:nvPicPr>
        <p:blipFill>
          <a:blip r:embed="rId3"/>
          <a:stretch/>
        </p:blipFill>
        <p:spPr>
          <a:xfrm>
            <a:off x="5148360" y="278136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0" y="2349360"/>
            <a:ext cx="424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 впереди находится автозаправ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63" name="Picture 9" descr="j0343615"/>
          <p:cNvPicPr/>
          <p:nvPr/>
        </p:nvPicPr>
        <p:blipFill>
          <a:blip r:embed="rId1"/>
          <a:stretch/>
        </p:blipFill>
        <p:spPr>
          <a:xfrm>
            <a:off x="826920" y="220500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65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j0343615"/>
          <p:cNvPicPr/>
          <p:nvPr/>
        </p:nvPicPr>
        <p:blipFill>
          <a:blip r:embed="rId3"/>
          <a:stretch/>
        </p:blipFill>
        <p:spPr>
          <a:xfrm>
            <a:off x="5076720" y="2421000"/>
            <a:ext cx="29005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5" dur="123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6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18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вблизи   находится стоянка такси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0" name="Picture 18" descr="j0411312"/>
          <p:cNvPicPr/>
          <p:nvPr/>
        </p:nvPicPr>
        <p:blipFill>
          <a:blip r:embed="rId1"/>
          <a:stretch/>
        </p:blipFill>
        <p:spPr>
          <a:xfrm>
            <a:off x="5383080" y="2139840"/>
            <a:ext cx="256716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72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j0343615"/>
          <p:cNvPicPr/>
          <p:nvPr/>
        </p:nvPicPr>
        <p:blipFill>
          <a:blip r:embed="rId3"/>
          <a:stretch/>
        </p:blipFill>
        <p:spPr>
          <a:xfrm>
            <a:off x="5076720" y="2492280"/>
            <a:ext cx="275760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2483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, что недалеко находится автосервис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7" name="Picture 7" descr="j0411416"/>
          <p:cNvPicPr/>
          <p:nvPr/>
        </p:nvPicPr>
        <p:blipFill>
          <a:blip r:embed="rId1"/>
          <a:stretch/>
        </p:blipFill>
        <p:spPr>
          <a:xfrm>
            <a:off x="1187280" y="1989000"/>
            <a:ext cx="262584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2843280" y="1989000"/>
            <a:ext cx="2952720" cy="2808360"/>
          </a:xfrm>
          <a:prstGeom prst="ellipse">
            <a:avLst/>
          </a:prstGeom>
          <a:solidFill>
            <a:srgbClr val="ffffff"/>
          </a:solidFill>
          <a:ln w="33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924280"/>
            <a:ext cx="26654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ahoma"/>
              </a:rPr>
              <a:t>КОНЕЦ!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Чтобы изучать правила дорожного движения нужно знать 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ДОРОЖНЫЕ ЗНАКИ.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оя презентация как раз и будет посвящена экскурсу по дорожным знак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fbfa7"/>
                </a:solidFill>
                <a:latin typeface="Garamond"/>
              </a:rPr>
              <a:t>ЭКСКУРС ПО ДОРОЖНЫМ ЗНАКАМ.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aramond"/>
              </a:rPr>
              <a:t>Все знаки делятся н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0" y="155736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Предупрежд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Oval 19"/>
          <p:cNvSpPr/>
          <p:nvPr/>
        </p:nvSpPr>
        <p:spPr>
          <a:xfrm>
            <a:off x="3059280" y="2565360"/>
            <a:ext cx="316836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2802240" y="3429000"/>
            <a:ext cx="36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Oval 21"/>
          <p:cNvSpPr/>
          <p:nvPr/>
        </p:nvSpPr>
        <p:spPr>
          <a:xfrm>
            <a:off x="5796000" y="393372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Сооб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j0403587"/>
          <p:cNvPicPr/>
          <p:nvPr/>
        </p:nvPicPr>
        <p:blipFill>
          <a:blip r:embed="rId1"/>
          <a:stretch/>
        </p:blipFill>
        <p:spPr>
          <a:xfrm>
            <a:off x="-1981080" y="0"/>
            <a:ext cx="1219176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j0401489"/>
          <p:cNvPicPr/>
          <p:nvPr/>
        </p:nvPicPr>
        <p:blipFill>
          <a:blip r:embed="rId2"/>
          <a:stretch/>
        </p:blipFill>
        <p:spPr>
          <a:xfrm>
            <a:off x="-1260360" y="0"/>
            <a:ext cx="10945800" cy="710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j0145603"/>
          <p:cNvPicPr/>
          <p:nvPr/>
        </p:nvPicPr>
        <p:blipFill>
          <a:blip r:embed="rId3"/>
          <a:stretch/>
        </p:blipFill>
        <p:spPr>
          <a:xfrm>
            <a:off x="1403280" y="0"/>
            <a:ext cx="5329440" cy="7029360"/>
          </a:xfrm>
          <a:prstGeom prst="rect">
            <a:avLst/>
          </a:prstGeom>
          <a:ln w="0">
            <a:noFill/>
          </a:ln>
        </p:spPr>
      </p:pic>
      <p:pic>
        <p:nvPicPr>
          <p:cNvPr id="283" name="Гулькина - Айвенго.mp3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7" descr="j0201786"/>
          <p:cNvPicPr/>
          <p:nvPr/>
        </p:nvPicPr>
        <p:blipFill>
          <a:blip r:embed="rId5"/>
          <a:stretch/>
        </p:blipFill>
        <p:spPr>
          <a:xfrm>
            <a:off x="-468360" y="0"/>
            <a:ext cx="10296720" cy="7101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j0401490"/>
          <p:cNvPicPr/>
          <p:nvPr/>
        </p:nvPicPr>
        <p:blipFill>
          <a:blip r:embed="rId6"/>
          <a:stretch/>
        </p:blipFill>
        <p:spPr>
          <a:xfrm>
            <a:off x="2484360" y="0"/>
            <a:ext cx="3311640" cy="7101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j0402290"/>
          <p:cNvPicPr/>
          <p:nvPr/>
        </p:nvPicPr>
        <p:blipFill>
          <a:blip r:embed="rId7"/>
          <a:stretch/>
        </p:blipFill>
        <p:spPr>
          <a:xfrm>
            <a:off x="1692360" y="189000"/>
            <a:ext cx="6132600" cy="666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2" descr="j0407571"/>
          <p:cNvPicPr/>
          <p:nvPr/>
        </p:nvPicPr>
        <p:blipFill>
          <a:blip r:embed="rId8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89" name="Picture 8" descr="j0401289"/>
          <p:cNvPicPr/>
          <p:nvPr/>
        </p:nvPicPr>
        <p:blipFill>
          <a:blip r:embed="rId1"/>
          <a:stretch/>
        </p:blipFill>
        <p:spPr>
          <a:xfrm>
            <a:off x="250920" y="1557360"/>
            <a:ext cx="4321080" cy="453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j0409564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j0401489"/>
          <p:cNvPicPr/>
          <p:nvPr/>
        </p:nvPicPr>
        <p:blipFill>
          <a:blip r:embed="rId3"/>
          <a:stretch/>
        </p:blipFill>
        <p:spPr>
          <a:xfrm>
            <a:off x="5025960" y="3938760"/>
            <a:ext cx="3282840" cy="2187360"/>
          </a:xfrm>
          <a:prstGeom prst="rect">
            <a:avLst/>
          </a:prstGeom>
          <a:ln w="0">
            <a:noFill/>
          </a:ln>
        </p:spPr>
      </p:pic>
      <p:pic>
        <p:nvPicPr>
          <p:cNvPr id="292" name="12 Peter Gunn.wma" descr=""/>
          <p:cNvPicPr/>
          <p:nvPr/>
        </p:nvPicPr>
        <p:blipFill>
          <a:blip r:embed="rId4"/>
          <a:stretch/>
        </p:blipFill>
        <p:spPr>
          <a:xfrm>
            <a:off x="684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въезд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95" name="Picture 8" descr="j0078977"/>
          <p:cNvPicPr/>
          <p:nvPr/>
        </p:nvPicPr>
        <p:blipFill>
          <a:blip r:embed="rId1"/>
          <a:stretch/>
        </p:blipFill>
        <p:spPr>
          <a:xfrm>
            <a:off x="971640" y="2060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4643280" y="3284640"/>
            <a:ext cx="3961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3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сторожно, ДЕТИ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Этот знак означает, что в близи данной местности находятся детские учреждения. И дети часто переходят дорогу!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0" name="Picture 9" descr="j0344203"/>
          <p:cNvPicPr/>
          <p:nvPr/>
        </p:nvPicPr>
        <p:blipFill>
          <a:blip r:embed="rId1"/>
          <a:stretch/>
        </p:blipFill>
        <p:spPr>
          <a:xfrm>
            <a:off x="1332000" y="3789360"/>
            <a:ext cx="2501640" cy="21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bd06007_"/>
          <p:cNvPicPr/>
          <p:nvPr/>
        </p:nvPicPr>
        <p:blipFill>
          <a:blip r:embed="rId2"/>
          <a:stretch/>
        </p:blipFill>
        <p:spPr>
          <a:xfrm>
            <a:off x="1332000" y="1413000"/>
            <a:ext cx="2501640" cy="21859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2"/>
          <p:cNvSpPr/>
          <p:nvPr/>
        </p:nvSpPr>
        <p:spPr>
          <a:xfrm>
            <a:off x="4859280" y="4005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9:17:56Z</dcterms:created>
  <dc:creator>Vladimir</dc:creator>
  <dc:description/>
  <dc:language>en-US</dc:language>
  <cp:lastModifiedBy>Алиночка</cp:lastModifiedBy>
  <dcterms:modified xsi:type="dcterms:W3CDTF">2014-09-14T10:43:07Z</dcterms:modified>
  <cp:revision>43</cp:revision>
  <dc:subject/>
  <dc:title>     </dc:title>
</cp:coreProperties>
</file>