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voltage.wav" ContentType="audio/x-wav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23.wmf" ContentType="image/x-wmf"/>
  <Override PartName="/ppt/media/image11.jpeg" ContentType="image/jpeg"/>
  <Override PartName="/ppt/media/image30.wmf" ContentType="image/x-wmf"/>
  <Override PartName="/ppt/media/image13.jpeg" ContentType="image/jpeg"/>
  <Override PartName="/ppt/media/image32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3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6A35-6AF2-4547-9A52-944791EC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D142-6AB0-4F21-9C4D-FCAA5796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9505-B2EF-4AC3-97B1-0C2FEB09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1428-A2F6-44B4-BB42-EB23C0C8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E0A-9077-4D0F-AD36-DB918EBF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7C60-BF18-484E-85DC-2E8D70D6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F0FC-F8A9-49B4-9C97-D8C088CA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D2B4-CF97-40BB-B8B0-8B83A39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B100-9BF2-4ACA-967E-19911512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B104-0127-4987-BA53-DB206F0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646D-9012-42CE-9626-821FE043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FDED-5438-4291-884B-76EEC5F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7CBB-11A6-446E-A597-21F71A3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84BD-3C40-4843-BCD1-71C38AC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04CB-36F5-44DD-87A8-F2B8A1E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AFB9-A8E3-4AA5-B37F-C9B4E483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9CF-5513-4512-862E-9A0B6C72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847A3-C1FA-46B2-BDC3-F5CBA0C6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D51E8-312F-4745-AB2D-A55BD44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BDBD4-B49C-411E-AB1C-22D28A0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0937D-C094-4B9D-BAB7-31DCEC4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C731F-2D97-4022-86F0-98CACF95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0AD7-5B04-42CD-8DED-C0D0BE6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296A2-B572-4FC9-8212-D2D39AB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B4333-2FEE-4D6F-86EF-DB5C241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BFC42-356C-45A9-8D40-49365D6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5F93B-C496-4FE9-BAC7-E56B0FA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89B2D-5DBD-4721-A257-5B51258E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1E859-811D-49F8-A652-F666AB9B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5D026-AAC4-49B1-BD41-4F4DE569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DEA8-AC6C-4BF7-B2E3-D6E75D20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B9D7-E8C2-409F-BF80-0DADF0EB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6EC1-5DA8-45D7-8191-2CE6DBC8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C539-06A8-4ED5-8177-FA2C0FC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8450-9F3E-4AC9-AC62-C9B0837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569E6-E668-466D-BE6F-F49DFBBF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8867-C74C-4F44-8715-855276C2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F22C-A5A7-410B-A075-05679E6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3BA0-A8C2-4B8E-8581-007F545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4D11-7C58-4ECB-8293-11D9359C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2A46-3CAF-4504-B3DD-55D99F6D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131C-371E-4F09-A7C8-BCB920A6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1B47-F269-4777-BAB9-FDA95A6F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01B1-42AE-490C-837C-327F6AA2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E802-2DF6-4E07-A231-1F381A9C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A82C-18CF-439B-B2C2-A9C797EE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D89F-FECC-40FC-8FF8-D8FAF67E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02CA-BF97-41A4-8956-70A5CC4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FD8B-1570-4D4A-A925-29059E3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1024-18B0-4982-89D5-28E3546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A326-3DEF-46A2-B9BF-AB5CBD70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5382-0601-4C7F-B2C5-33CBFE2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5C58-F674-49C5-B6B5-2A85305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1B30-DB22-419B-B964-51EDE36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FE4D9-1C6D-4C5E-A51E-42BEF0C7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57F5-6351-4D64-A1D8-64D139DF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9C76-3B12-4C97-9F03-7BD08E7D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C874-964C-49AC-B933-C5C3A0D6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C4EA-418D-4737-9A4B-3196C0D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E363-6819-4403-A758-E44A6A1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CAF-20E4-4695-BF61-E32F8E194DB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9BD9-8190-4C8B-9ABB-56E87B98CB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7DF-6A3D-407E-860D-40EE33D1C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8B5-9989-4759-AD5F-D9E04689D55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9306-DF8C-4224-8F69-19607CE6907C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684360" y="1413000"/>
            <a:ext cx="7848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ДОРОЖНОГО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2340000" y="2924280"/>
            <a:ext cx="535320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5840">
                  <a:solidFill>
                    <a:srgbClr val="ebf25a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ВИЖЕНИЯ</a:t>
            </a:r>
            <a:endParaRPr b="1" lang="en-US" sz="7200" spc="1" strike="noStrike">
              <a:ln w="15840">
                <a:solidFill>
                  <a:srgbClr val="ebf25a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10" descr="J0283467"/>
          <p:cNvPicPr/>
          <p:nvPr/>
        </p:nvPicPr>
        <p:blipFill>
          <a:blip r:embed="rId1"/>
          <a:stretch/>
        </p:blipFill>
        <p:spPr>
          <a:xfrm>
            <a:off x="684360" y="486900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1758E-007 C 0.01146 -0.03978 0.02292 -0.07956 0.04028 -0.08279 C 0.05764 -0.0858 0.07917 -0.02313 0.10469 -0.01873 C 0.13038 -0.01457 0.16788 -0.05227 0.19427 -0.05643 C 0.22066 -0.06059 0.23646 -0.04463 0.26302 -0.04394 C 0.28958 -0.04325 0.33247 -0.05735 0.35347 -0.05273 C 0.37448 -0.0481 0.37118 -0.01688 0.38958 -0.01619 C 0.40781 -0.01573 0.44236 -0.05042 0.46372 -0.05018 C 0.48524 -0.04995 0.49826 -0.01549 0.51823 -0.01503 C 0.53837 -0.01457 0.57101 -0.04487 0.58386 -0.04764 C 0.5967 -0.05042 0.5691 -0.04857 0.59583 -0.03261 C 0.62257 -0.01688 0.71684 0.03423 0.74427 0.04764 C 0.7717 0.06105 0.75781 0.04764 0.76059 0.04764 E">
                                      <p:cBhvr>
                                        <p:cTn id="4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Ограничение скорост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скорость нужно снизить до определённого показател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05" name="Picture 8" descr="j0346337"/>
          <p:cNvPicPr/>
          <p:nvPr/>
        </p:nvPicPr>
        <p:blipFill>
          <a:blip r:embed="rId1"/>
          <a:stretch/>
        </p:blipFill>
        <p:spPr>
          <a:xfrm>
            <a:off x="5796000" y="1484280"/>
            <a:ext cx="1741320" cy="1805040"/>
          </a:xfrm>
          <a:prstGeom prst="rect">
            <a:avLst/>
          </a:prstGeom>
          <a:ln w="0">
            <a:noFill/>
          </a:ln>
        </p:spPr>
      </p:pic>
      <p:sp>
        <p:nvSpPr>
          <p:cNvPr id="306" name="Oval 9"/>
          <p:cNvSpPr/>
          <p:nvPr/>
        </p:nvSpPr>
        <p:spPr>
          <a:xfrm>
            <a:off x="5796000" y="4005360"/>
            <a:ext cx="1655640" cy="1655640"/>
          </a:xfrm>
          <a:prstGeom prst="ellipse">
            <a:avLst/>
          </a:prstGeom>
          <a:solidFill>
            <a:srgbClr val="ffffff"/>
          </a:solidFill>
          <a:ln w="219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867280" y="4221000"/>
            <a:ext cx="1440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95280" y="393372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бгон ЗАПРЕЩЁН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Этот знак означает, что обгон ЗАПРЕЩЁН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11" name="Picture 7" descr="j0346365"/>
          <p:cNvPicPr/>
          <p:nvPr/>
        </p:nvPicPr>
        <p:blipFill>
          <a:blip r:embed="rId1"/>
          <a:stretch/>
        </p:blipFill>
        <p:spPr>
          <a:xfrm>
            <a:off x="1042920" y="2421000"/>
            <a:ext cx="2592360" cy="27576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572000" y="3213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j0407571"/>
          <p:cNvPicPr/>
          <p:nvPr/>
        </p:nvPicPr>
        <p:blipFill>
          <a:blip r:embed="rId1"/>
          <a:stretch/>
        </p:blipFill>
        <p:spPr>
          <a:xfrm>
            <a:off x="-1981080" y="-747720"/>
            <a:ext cx="12169800" cy="7848720"/>
          </a:xfrm>
          <a:prstGeom prst="rect">
            <a:avLst/>
          </a:prstGeom>
          <a:ln w="0">
            <a:noFill/>
          </a:ln>
        </p:spPr>
      </p:pic>
      <p:sp>
        <p:nvSpPr>
          <p:cNvPr id="314" name="Line 5"/>
          <p:cNvSpPr/>
          <p:nvPr/>
        </p:nvSpPr>
        <p:spPr>
          <a:xfrm flipV="1">
            <a:off x="3132000" y="5345280"/>
            <a:ext cx="2232000" cy="1512720"/>
          </a:xfrm>
          <a:prstGeom prst="line">
            <a:avLst/>
          </a:prstGeom>
          <a:ln w="1555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Picture 6" descr="j0346317"/>
          <p:cNvPicPr/>
          <p:nvPr/>
        </p:nvPicPr>
        <p:blipFill>
          <a:blip r:embed="rId2"/>
          <a:stretch/>
        </p:blipFill>
        <p:spPr>
          <a:xfrm>
            <a:off x="7797960" y="2060640"/>
            <a:ext cx="22096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0416E-006 L 0.29532 -0.22138 E">
                                      <p:cBhvr>
                                        <p:cTn id="31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21" dur="123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22" dur="123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24" dur="123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НИМАНИЕ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либо опасный участок дороги, либо часто люди переходят дорогу. В этом месте нужно быть предельно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НИМАТЕЛЬНЫМ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18" name="Picture 8" descr="j0411320"/>
          <p:cNvPicPr/>
          <p:nvPr/>
        </p:nvPicPr>
        <p:blipFill>
          <a:blip r:embed="rId1"/>
          <a:stretch/>
        </p:blipFill>
        <p:spPr>
          <a:xfrm>
            <a:off x="1106640" y="1600200"/>
            <a:ext cx="2536560" cy="2025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j0346317"/>
          <p:cNvPicPr/>
          <p:nvPr/>
        </p:nvPicPr>
        <p:blipFill>
          <a:blip r:embed="rId2"/>
          <a:stretch/>
        </p:blipFill>
        <p:spPr>
          <a:xfrm>
            <a:off x="1042920" y="4076640"/>
            <a:ext cx="2536920" cy="20336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4572000" y="47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брыв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обрыв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3" name="Picture 7" descr="j0344035"/>
          <p:cNvPicPr/>
          <p:nvPr/>
        </p:nvPicPr>
        <p:blipFill>
          <a:blip r:embed="rId1"/>
          <a:stretch/>
        </p:blipFill>
        <p:spPr>
          <a:xfrm>
            <a:off x="5219640" y="1628640"/>
            <a:ext cx="3243240" cy="28339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9"/>
          <p:cNvSpPr/>
          <p:nvPr/>
        </p:nvSpPr>
        <p:spPr>
          <a:xfrm>
            <a:off x="324000" y="29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рутой спуск, подъём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крутой спуск или подъём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7" name="Picture 18" descr="j0346319"/>
          <p:cNvPicPr/>
          <p:nvPr/>
        </p:nvPicPr>
        <p:blipFill>
          <a:blip r:embed="rId1"/>
          <a:stretch/>
        </p:blipFill>
        <p:spPr>
          <a:xfrm>
            <a:off x="1332000" y="1700280"/>
            <a:ext cx="2279520" cy="1827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j0346357"/>
          <p:cNvPicPr/>
          <p:nvPr/>
        </p:nvPicPr>
        <p:blipFill>
          <a:blip r:embed="rId2"/>
          <a:stretch/>
        </p:blipFill>
        <p:spPr>
          <a:xfrm>
            <a:off x="1116000" y="4149720"/>
            <a:ext cx="2495520" cy="2000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572000" y="29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in00681_"/>
          <p:cNvPicPr/>
          <p:nvPr/>
        </p:nvPicPr>
        <p:blipFill>
          <a:blip r:embed="rId1"/>
          <a:stretch/>
        </p:blipFill>
        <p:spPr>
          <a:xfrm>
            <a:off x="2843280" y="1916280"/>
            <a:ext cx="294300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43" dur="123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44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46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орожные работы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показывает, что впереди идут дорожные работы, ремонт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3" name="Picture 11" descr="j0344065"/>
          <p:cNvPicPr/>
          <p:nvPr/>
        </p:nvPicPr>
        <p:blipFill>
          <a:blip r:embed="rId1"/>
          <a:stretch/>
        </p:blipFill>
        <p:spPr>
          <a:xfrm>
            <a:off x="5724360" y="4005360"/>
            <a:ext cx="2200320" cy="1922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j0346285"/>
          <p:cNvPicPr/>
          <p:nvPr/>
        </p:nvPicPr>
        <p:blipFill>
          <a:blip r:embed="rId2"/>
          <a:stretch/>
        </p:blipFill>
        <p:spPr>
          <a:xfrm>
            <a:off x="5651640" y="1700280"/>
            <a:ext cx="2403360" cy="19224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468360" y="378936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Неровности дорог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важно знать, так как он предупреждает о неровностях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8" name="Picture 7" descr="j0411364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3243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468360" y="393372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Гололёд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Этот знак предупреждает, что впереди скользкая трасса, опасный участок дороги, ГОЛОЛЁД!!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Особенно важно для автолюбителей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2" name="Picture 9" descr="j0411362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равила дорожного движения должен знать каждый человек. Они очень важны. Ведь эти правила помогают нам сохранить самое главное - </a:t>
            </a:r>
            <a:r>
              <a:rPr b="1" lang="ru-RU" sz="3800" spc="-1" strike="noStrike">
                <a:solidFill>
                  <a:srgbClr val="ff3300"/>
                </a:solidFill>
                <a:latin typeface="Tahoma"/>
              </a:rPr>
              <a:t>ЖИЗНЬ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ешеходный переход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пешеходный переход, участок, где люди  переходят дорогу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5" name="Picture 17" descr="bd06006_"/>
          <p:cNvPicPr/>
          <p:nvPr/>
        </p:nvPicPr>
        <p:blipFill>
          <a:blip r:embed="rId1"/>
          <a:stretch/>
        </p:blipFill>
        <p:spPr>
          <a:xfrm>
            <a:off x="541512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j0344029"/>
          <p:cNvPicPr/>
          <p:nvPr/>
        </p:nvPicPr>
        <p:blipFill>
          <a:blip r:embed="rId2"/>
          <a:stretch/>
        </p:blipFill>
        <p:spPr>
          <a:xfrm>
            <a:off x="5508720" y="1628640"/>
            <a:ext cx="2504880" cy="2187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9"/>
          <p:cNvSpPr/>
          <p:nvPr/>
        </p:nvSpPr>
        <p:spPr>
          <a:xfrm>
            <a:off x="324000" y="422100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611280" y="378936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ажно знать и пешеходам, и автолюбителя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480"/>
                            </p:stCondLst>
                            <p:childTnLst>
                              <p:par>
                                <p:cTn id="5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8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3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980"/>
                            </p:stCondLst>
                            <p:childTnLst>
                              <p:par>
                                <p:cTn id="576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Извилистая дорога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предупреждает о крутом изгибе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1" name="Picture 10" descr="j0411428"/>
          <p:cNvPicPr/>
          <p:nvPr/>
        </p:nvPicPr>
        <p:blipFill>
          <a:blip r:embed="rId1"/>
          <a:stretch/>
        </p:blipFill>
        <p:spPr>
          <a:xfrm>
            <a:off x="684360" y="2060640"/>
            <a:ext cx="4038480" cy="3224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1"/>
          <p:cNvSpPr/>
          <p:nvPr/>
        </p:nvSpPr>
        <p:spPr>
          <a:xfrm>
            <a:off x="4788000" y="3429000"/>
            <a:ext cx="41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8 0.07338 C -0.08732 0.05069 -0.09826 0.01204 -0.09236 -0.02662 C -0.08923 -0.04005 -0.08524 -0.05324 -0.07934 -0.06389 C -0.07534 -0.03334 -0.06128 -0.00533 -0.04028 0.01204 C -0.04028 -0.02523 -0.0243 -0.06134 0.00278 -0.07732 C 0.01181 -0.08403 0.0217 -0.08658 0.03177 -0.08796 C 0.01667 -0.06528 0.00868 -0.03334 0.01181 1.85185E-006 C 0.03368 -0.02384 0.06476 -0.0294 0.09167 -0.01204 C 0.1007 -0.00671 0.10972 0.00278 0.1158 0.01204 C 0.09271 0.00949 0.06875 0.02129 0.05174 0.04537 C 0.07865 0.05347 0.10174 0.08148 0.10868 0.12014 C 0.11077 0.13333 0.11077 0.14676 0.10868 0.15995 C 0.09566 0.13472 0.07379 0.11736 0.04966 0.11481 C 0.06181 0.14815 0.05868 0.18935 0.0408 0.22014 C 0.03368 0.23079 0.0257 0.24004 0.01667 0.24537 C 0.02379 0.21597 0.01979 0.18264 0.00677 0.15602 C -0.00521 0.18935 -0.03125 0.21204 -0.06128 0.21204 C -0.07222 0.21204 -0.08229 0.20949 -0.09132 0.20393 C -0.06927 0.19329 -0.05225 0.16805 -0.04427 0.13727 C -0.07222 0.14537 -0.10121 0.13333 -0.12031 0.10278 C -0.12725 0.09074 -0.13125 0.0787 -0.1342 0.06528 C -0.11423 0.08264 -0.08819 0.08541 -0.06528 0.07338 Z">
                                      <p:cBhvr>
                                        <p:cTn id="59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оворот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сообщает нам о поворотах на дорог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5" name="Picture 8" descr="j0346343"/>
          <p:cNvPicPr/>
          <p:nvPr/>
        </p:nvPicPr>
        <p:blipFill>
          <a:blip r:embed="rId1"/>
          <a:stretch/>
        </p:blipFill>
        <p:spPr>
          <a:xfrm>
            <a:off x="5508720" y="1484280"/>
            <a:ext cx="2520720" cy="2021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j0346351"/>
          <p:cNvPicPr/>
          <p:nvPr/>
        </p:nvPicPr>
        <p:blipFill>
          <a:blip r:embed="rId2"/>
          <a:stretch/>
        </p:blipFill>
        <p:spPr>
          <a:xfrm>
            <a:off x="5435640" y="3860640"/>
            <a:ext cx="2663640" cy="21355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0"/>
          <p:cNvSpPr/>
          <p:nvPr/>
        </p:nvSpPr>
        <p:spPr>
          <a:xfrm>
            <a:off x="539640" y="3645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L -0.90972 -0.01065 E">
                                      <p:cBhvr>
                                        <p:cTn id="650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1.48148E-006 L 0.43716 -0.00857 E">
                                      <p:cBhvr>
                                        <p:cTn id="652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59" name="Picture 9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j0343615"/>
          <p:cNvPicPr/>
          <p:nvPr/>
        </p:nvPicPr>
        <p:blipFill>
          <a:blip r:embed="rId3"/>
          <a:stretch/>
        </p:blipFill>
        <p:spPr>
          <a:xfrm>
            <a:off x="5148360" y="278136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0" y="2349360"/>
            <a:ext cx="424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 нам, что  впереди находится автозаправк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63" name="Picture 9" descr="j0343615"/>
          <p:cNvPicPr/>
          <p:nvPr/>
        </p:nvPicPr>
        <p:blipFill>
          <a:blip r:embed="rId1"/>
          <a:stretch/>
        </p:blipFill>
        <p:spPr>
          <a:xfrm>
            <a:off x="826920" y="220500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65" name="Picture 4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j0343615"/>
          <p:cNvPicPr/>
          <p:nvPr/>
        </p:nvPicPr>
        <p:blipFill>
          <a:blip r:embed="rId3"/>
          <a:stretch/>
        </p:blipFill>
        <p:spPr>
          <a:xfrm>
            <a:off x="5076720" y="2421000"/>
            <a:ext cx="29005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15" dur="123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6" dur="123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18" dur="123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 нам, что вблизи   находится стоянка такси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70" name="Picture 18" descr="j0411312"/>
          <p:cNvPicPr/>
          <p:nvPr/>
        </p:nvPicPr>
        <p:blipFill>
          <a:blip r:embed="rId1"/>
          <a:stretch/>
        </p:blipFill>
        <p:spPr>
          <a:xfrm>
            <a:off x="5383080" y="2139840"/>
            <a:ext cx="256716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72" name="Picture 4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j0343615"/>
          <p:cNvPicPr/>
          <p:nvPr/>
        </p:nvPicPr>
        <p:blipFill>
          <a:blip r:embed="rId3"/>
          <a:stretch/>
        </p:blipFill>
        <p:spPr>
          <a:xfrm>
            <a:off x="5076720" y="2492280"/>
            <a:ext cx="275760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716000" y="1988640"/>
            <a:ext cx="424836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, что недалеко находится автосервис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77" name="Picture 7" descr="j0411416"/>
          <p:cNvPicPr/>
          <p:nvPr/>
        </p:nvPicPr>
        <p:blipFill>
          <a:blip r:embed="rId1"/>
          <a:stretch/>
        </p:blipFill>
        <p:spPr>
          <a:xfrm>
            <a:off x="1187280" y="1989000"/>
            <a:ext cx="262584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2843280" y="1989000"/>
            <a:ext cx="2952720" cy="2808360"/>
          </a:xfrm>
          <a:prstGeom prst="ellipse">
            <a:avLst/>
          </a:prstGeom>
          <a:solidFill>
            <a:srgbClr val="ffffff"/>
          </a:solidFill>
          <a:ln w="33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924280"/>
            <a:ext cx="266544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ahoma"/>
              </a:rPr>
              <a:t>КОНЕЦ!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Чтобы изучать правила дорожного движения нужно знать  </a:t>
            </a:r>
            <a:r>
              <a:rPr b="1" lang="ru-RU" sz="3800" spc="-1" strike="noStrike">
                <a:solidFill>
                  <a:srgbClr val="ff3300"/>
                </a:solidFill>
                <a:latin typeface="Tahoma"/>
              </a:rPr>
              <a:t>ДОРОЖНЫЕ ЗНАКИ.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Моя презентация как раз и будет посвящена экскурсу по дорожным знак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bfbfa7"/>
                </a:solidFill>
                <a:latin typeface="Garamond"/>
              </a:rPr>
              <a:t>ЭКСКУРС ПО ДОРОЖНЫМ ЗНАКАМ.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aramond"/>
              </a:rPr>
              <a:t>Все знаки делятся н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6" name="Oval 17"/>
          <p:cNvSpPr/>
          <p:nvPr/>
        </p:nvSpPr>
        <p:spPr>
          <a:xfrm>
            <a:off x="0" y="1557360"/>
            <a:ext cx="316872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Предупрежд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Oval 19"/>
          <p:cNvSpPr/>
          <p:nvPr/>
        </p:nvSpPr>
        <p:spPr>
          <a:xfrm>
            <a:off x="3059280" y="2565360"/>
            <a:ext cx="316836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2802240" y="3429000"/>
            <a:ext cx="36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Запрещ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Oval 21"/>
          <p:cNvSpPr/>
          <p:nvPr/>
        </p:nvSpPr>
        <p:spPr>
          <a:xfrm>
            <a:off x="5796000" y="3933720"/>
            <a:ext cx="316872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Сообщ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j0403587"/>
          <p:cNvPicPr/>
          <p:nvPr/>
        </p:nvPicPr>
        <p:blipFill>
          <a:blip r:embed="rId1"/>
          <a:stretch/>
        </p:blipFill>
        <p:spPr>
          <a:xfrm>
            <a:off x="-1981080" y="0"/>
            <a:ext cx="1219176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j0401489"/>
          <p:cNvPicPr/>
          <p:nvPr/>
        </p:nvPicPr>
        <p:blipFill>
          <a:blip r:embed="rId2"/>
          <a:stretch/>
        </p:blipFill>
        <p:spPr>
          <a:xfrm>
            <a:off x="-1260360" y="0"/>
            <a:ext cx="10945800" cy="7101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j0145603"/>
          <p:cNvPicPr/>
          <p:nvPr/>
        </p:nvPicPr>
        <p:blipFill>
          <a:blip r:embed="rId3"/>
          <a:stretch/>
        </p:blipFill>
        <p:spPr>
          <a:xfrm>
            <a:off x="1403280" y="0"/>
            <a:ext cx="5329440" cy="7029360"/>
          </a:xfrm>
          <a:prstGeom prst="rect">
            <a:avLst/>
          </a:prstGeom>
          <a:ln w="0">
            <a:noFill/>
          </a:ln>
        </p:spPr>
      </p:pic>
      <p:pic>
        <p:nvPicPr>
          <p:cNvPr id="283" name="Гулькина - Айвенго.mp3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7" descr="j0201786"/>
          <p:cNvPicPr/>
          <p:nvPr/>
        </p:nvPicPr>
        <p:blipFill>
          <a:blip r:embed="rId5"/>
          <a:stretch/>
        </p:blipFill>
        <p:spPr>
          <a:xfrm>
            <a:off x="-468360" y="0"/>
            <a:ext cx="10296720" cy="7101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j0401490"/>
          <p:cNvPicPr/>
          <p:nvPr/>
        </p:nvPicPr>
        <p:blipFill>
          <a:blip r:embed="rId6"/>
          <a:stretch/>
        </p:blipFill>
        <p:spPr>
          <a:xfrm>
            <a:off x="2484360" y="0"/>
            <a:ext cx="3311640" cy="7101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j0402290"/>
          <p:cNvPicPr/>
          <p:nvPr/>
        </p:nvPicPr>
        <p:blipFill>
          <a:blip r:embed="rId7"/>
          <a:stretch/>
        </p:blipFill>
        <p:spPr>
          <a:xfrm>
            <a:off x="1692360" y="189000"/>
            <a:ext cx="6132600" cy="6669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2" descr="j0407571"/>
          <p:cNvPicPr/>
          <p:nvPr/>
        </p:nvPicPr>
        <p:blipFill>
          <a:blip r:embed="rId8"/>
          <a:stretch/>
        </p:blipFill>
        <p:spPr>
          <a:xfrm>
            <a:off x="-1981080" y="-747720"/>
            <a:ext cx="12169800" cy="78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89" name="Picture 8" descr="j0401289"/>
          <p:cNvPicPr/>
          <p:nvPr/>
        </p:nvPicPr>
        <p:blipFill>
          <a:blip r:embed="rId1"/>
          <a:stretch/>
        </p:blipFill>
        <p:spPr>
          <a:xfrm>
            <a:off x="250920" y="1557360"/>
            <a:ext cx="4321080" cy="453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j0409564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j0401489"/>
          <p:cNvPicPr/>
          <p:nvPr/>
        </p:nvPicPr>
        <p:blipFill>
          <a:blip r:embed="rId3"/>
          <a:stretch/>
        </p:blipFill>
        <p:spPr>
          <a:xfrm>
            <a:off x="5025960" y="3938760"/>
            <a:ext cx="3282840" cy="2187360"/>
          </a:xfrm>
          <a:prstGeom prst="rect">
            <a:avLst/>
          </a:prstGeom>
          <a:ln w="0">
            <a:noFill/>
          </a:ln>
        </p:spPr>
      </p:pic>
      <p:pic>
        <p:nvPicPr>
          <p:cNvPr id="292" name="12 Peter Gunn.wma" descr=""/>
          <p:cNvPicPr/>
          <p:nvPr/>
        </p:nvPicPr>
        <p:blipFill>
          <a:blip r:embed="rId4"/>
          <a:stretch/>
        </p:blipFill>
        <p:spPr>
          <a:xfrm>
            <a:off x="68436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TOP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Этот знак означает, что въезд ЗАПРЕЩЁН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95" name="Picture 8" descr="j0078977"/>
          <p:cNvPicPr/>
          <p:nvPr/>
        </p:nvPicPr>
        <p:blipFill>
          <a:blip r:embed="rId1"/>
          <a:stretch/>
        </p:blipFill>
        <p:spPr>
          <a:xfrm>
            <a:off x="971640" y="2060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4643280" y="3284640"/>
            <a:ext cx="3961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3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сторожно, ДЕТИ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Этот знак означает, что в близи данной местности находятся детские учреждения. И дети часто переходят дорогу!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00" name="Picture 9" descr="j0344203"/>
          <p:cNvPicPr/>
          <p:nvPr/>
        </p:nvPicPr>
        <p:blipFill>
          <a:blip r:embed="rId1"/>
          <a:stretch/>
        </p:blipFill>
        <p:spPr>
          <a:xfrm>
            <a:off x="1332000" y="3789360"/>
            <a:ext cx="2501640" cy="21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bd06007_"/>
          <p:cNvPicPr/>
          <p:nvPr/>
        </p:nvPicPr>
        <p:blipFill>
          <a:blip r:embed="rId2"/>
          <a:stretch/>
        </p:blipFill>
        <p:spPr>
          <a:xfrm>
            <a:off x="1332000" y="1413000"/>
            <a:ext cx="2501640" cy="21859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2"/>
          <p:cNvSpPr/>
          <p:nvPr/>
        </p:nvSpPr>
        <p:spPr>
          <a:xfrm>
            <a:off x="4859280" y="400536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9:17:56Z</dcterms:created>
  <dc:creator>Vladimir</dc:creator>
  <dc:description/>
  <dc:language>en-US</dc:language>
  <cp:lastModifiedBy>Алиночка</cp:lastModifiedBy>
  <dcterms:modified xsi:type="dcterms:W3CDTF">2014-09-14T10:43:07Z</dcterms:modified>
  <cp:revision>43</cp:revision>
  <dc:subject/>
  <dc:title>     </dc:title>
</cp:coreProperties>
</file>