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3.jpeg" ContentType="image/jpeg"/>
  <Override PartName="/ppt/media/voltage.wav" ContentType="audio/x-wav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23.wmf" ContentType="image/x-wmf"/>
  <Override PartName="/ppt/media/image11.jpeg" ContentType="image/jpeg"/>
  <Override PartName="/ppt/media/image30.wmf" ContentType="image/x-wmf"/>
  <Override PartName="/ppt/media/image13.jpeg" ContentType="image/jpeg"/>
  <Override PartName="/ppt/media/image32.wmf" ContentType="image/x-wmf"/>
  <Override PartName="/ppt/media/image33.wmf" ContentType="image/x-wmf"/>
  <Override PartName="/ppt/media/image12.jpeg" ContentType="image/jpeg"/>
  <Override PartName="/ppt/media/image34.wmf" ContentType="image/x-wmf"/>
  <Override PartName="/ppt/media/image35.wmf" ContentType="image/x-wmf"/>
  <Override PartName="/ppt/media/image15.png" ContentType="image/png"/>
  <Override PartName="/ppt/media/image36.wmf" ContentType="image/x-wmf"/>
  <Override PartName="/ppt/media/image37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jpeg" ContentType="image/jpeg"/>
  <Override PartName="/ppt/media/image31.wmf" ContentType="image/x-wmf"/>
  <Override PartName="/ppt/media/image7.jpeg" ContentType="image/jpeg"/>
  <Override PartName="/ppt/media/image6.png" ContentType="image/png"/>
  <Override PartName="/ppt/media/image14.wmf" ContentType="image/x-wmf"/>
  <Override PartName="/ppt/media/image1.jpeg" ContentType="image/jpe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B0B5-15BA-4CE3-9029-9887744E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96223-1B3F-4628-BDB6-8560FF47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6661A-EFB8-432A-BE8C-0E31CAEB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54749-B23B-4F7B-BE1E-7C867944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8D26-9942-4D31-BED6-848C3E14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B489-F21F-4344-8768-8CCA3594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ED1E-82F3-43E3-AD9B-9E53A82C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50B5-C9C0-4D9C-8F16-85F7C68A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E6EA-9D10-4822-A224-1FE2392A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316A-2417-4089-A17D-0BE129E5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869B-FA9D-4A00-895F-E699B894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388B-C5FC-4C68-9C66-EFE0FCAC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CEAF-14EE-40DF-B626-7266F9DE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E25F-8E5B-47E6-A9B6-28D0F9AB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4C65-EC7A-48B0-A037-645E9E74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40C4-1E10-4944-9B5D-5DF4D6EB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2F64-F1CE-4DC5-87C2-C5630D61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4E375-34E7-491A-B21E-06D165F7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18F83-5D40-4918-A52A-A44FF5EC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064D1-0319-40C3-B75B-9F919181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9520C-C7D3-4029-9CEE-B9D9BBB8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B670E-72CB-45D2-95B8-88B2B914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7A52-8330-4D95-B30C-2884ECC1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7D3C1-569B-4E78-82CC-C8D5719C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F7AE6-80C6-49B9-955F-C41B092B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43711-4AD8-46C6-A235-1632580E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C204F-C12C-4A1A-B406-FCE0E63A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C1901-3D48-457E-BB99-137C2048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F02A3-18C8-4576-AD49-9568B220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579D8-FF32-47FF-AC96-49390549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C59E0-28A1-4DD6-AF14-7FB5FC67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05DED-030C-4488-9D1A-14A02CB2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4FD39-43C2-4FA1-87AB-F4C83D7F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331E-A0FB-46F8-9E97-87175624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11874-0200-4BC2-9AD0-107AA1DA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D8D94-816B-42D4-90F3-26E6BC7E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17A58-F918-44E0-B7A1-742AC8D6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4C502-3CC9-48D9-9CF6-9F08386B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7FC97-B70E-4A5F-9A80-6AAFFBE0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328D6-96EE-4E69-BAA5-0840355D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F626B-DB94-4C81-BE35-8FF1EA49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7A192-C8E0-4937-906B-C9F36CF6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2E989-4FD0-4764-B472-CC26B9A9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969FD-625D-4E24-B1D4-B3A92E26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C093-6355-4813-A3FD-3F5B2A7A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E9ED4-E987-49C7-AEA7-7DB5665E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6AC0E-AA60-4B5D-9AD4-73865152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F470C-B6BA-4773-9E61-E1976F4D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DA3A4-00EC-41BE-A350-58088EC0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AEA32-66DD-4750-B684-A34DC0E9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6879F-6CBD-4A9C-A674-401D38F7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B2020-8666-4E69-B875-4E869BC9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4CA08-4ABF-4A31-B7F1-A9D06175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715A6-8EBA-4B30-98B3-E9126250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C39DE-FBB9-4E09-8F53-27F303C1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6A23-0A3F-4A65-AF70-4790602C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E1A7D-C697-4C64-B9F7-9D427037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B9EC-8F24-4509-9390-2F6FBEA3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0269-6B77-4507-B74F-493CB637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129A-F6CA-4BED-9042-DDA13F4B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E454-F9C9-450F-85FF-55F9341C2F9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0757-951B-4ECD-82E9-D02A9D6B82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9536-09E3-4385-86FF-7F0E8D4A95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ebf25a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FD20-CCC3-4AE1-B5F0-7B49DB531A3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2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336A-0597-456D-8EED-A8AE3F0CFF58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   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WordArt 5"/>
          <p:cNvSpPr txBox="1"/>
          <p:nvPr/>
        </p:nvSpPr>
        <p:spPr>
          <a:xfrm>
            <a:off x="684360" y="1413000"/>
            <a:ext cx="78483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А ДОРОЖНОГО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WordArt 6"/>
          <p:cNvSpPr txBox="1"/>
          <p:nvPr/>
        </p:nvSpPr>
        <p:spPr>
          <a:xfrm>
            <a:off x="2340000" y="2924280"/>
            <a:ext cx="5353200" cy="17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5840">
                  <a:solidFill>
                    <a:srgbClr val="ebf25a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ВИЖЕНИЯ</a:t>
            </a:r>
            <a:endParaRPr b="1" lang="en-US" sz="7200" spc="1" strike="noStrike">
              <a:ln w="15840">
                <a:solidFill>
                  <a:srgbClr val="ebf25a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0" name="Picture 10" descr="J0283467"/>
          <p:cNvPicPr/>
          <p:nvPr/>
        </p:nvPicPr>
        <p:blipFill>
          <a:blip r:embed="rId1"/>
          <a:stretch/>
        </p:blipFill>
        <p:spPr>
          <a:xfrm>
            <a:off x="684360" y="486900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01758E-007 C 0.01146 -0.03978 0.02292 -0.07956 0.04028 -0.08279 C 0.05764 -0.0858 0.07917 -0.02313 0.10469 -0.01873 C 0.13038 -0.01457 0.16788 -0.05227 0.19427 -0.05643 C 0.22066 -0.06059 0.23646 -0.04463 0.26302 -0.04394 C 0.28958 -0.04325 0.33247 -0.05735 0.35347 -0.05273 C 0.37448 -0.0481 0.37118 -0.01688 0.38958 -0.01619 C 0.40781 -0.01573 0.44236 -0.05042 0.46372 -0.05018 C 0.48524 -0.04995 0.49826 -0.01549 0.51823 -0.01503 C 0.53837 -0.01457 0.57101 -0.04487 0.58386 -0.04764 C 0.5967 -0.05042 0.5691 -0.04857 0.59583 -0.03261 C 0.62257 -0.01688 0.71684 0.03423 0.74427 0.04764 C 0.7717 0.06105 0.75781 0.04764 0.76059 0.04764 E">
                                      <p:cBhvr>
                                        <p:cTn id="43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Ограничение скорости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означает, что скорость нужно снизить до определённого показателя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05" name="Picture 8" descr="j0346337"/>
          <p:cNvPicPr/>
          <p:nvPr/>
        </p:nvPicPr>
        <p:blipFill>
          <a:blip r:embed="rId1"/>
          <a:stretch/>
        </p:blipFill>
        <p:spPr>
          <a:xfrm>
            <a:off x="5796000" y="1484280"/>
            <a:ext cx="1741320" cy="1805040"/>
          </a:xfrm>
          <a:prstGeom prst="rect">
            <a:avLst/>
          </a:prstGeom>
          <a:ln w="0">
            <a:noFill/>
          </a:ln>
        </p:spPr>
      </p:pic>
      <p:sp>
        <p:nvSpPr>
          <p:cNvPr id="306" name="Oval 9"/>
          <p:cNvSpPr/>
          <p:nvPr/>
        </p:nvSpPr>
        <p:spPr>
          <a:xfrm>
            <a:off x="5796000" y="4005360"/>
            <a:ext cx="1655640" cy="1655640"/>
          </a:xfrm>
          <a:prstGeom prst="ellipse">
            <a:avLst/>
          </a:prstGeom>
          <a:solidFill>
            <a:srgbClr val="ffffff"/>
          </a:solidFill>
          <a:ln w="219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5867280" y="4221000"/>
            <a:ext cx="1440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395280" y="393372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Обгон ЗАПРЕЩЁН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Этот знак означает, что обгон ЗАПРЕЩЁН!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11" name="Picture 7" descr="j0346365"/>
          <p:cNvPicPr/>
          <p:nvPr/>
        </p:nvPicPr>
        <p:blipFill>
          <a:blip r:embed="rId1"/>
          <a:stretch/>
        </p:blipFill>
        <p:spPr>
          <a:xfrm>
            <a:off x="1042920" y="2421000"/>
            <a:ext cx="2592360" cy="27576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572000" y="321300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j0407571"/>
          <p:cNvPicPr/>
          <p:nvPr/>
        </p:nvPicPr>
        <p:blipFill>
          <a:blip r:embed="rId1"/>
          <a:stretch/>
        </p:blipFill>
        <p:spPr>
          <a:xfrm>
            <a:off x="-1981080" y="-747720"/>
            <a:ext cx="12169800" cy="7848720"/>
          </a:xfrm>
          <a:prstGeom prst="rect">
            <a:avLst/>
          </a:prstGeom>
          <a:ln w="0">
            <a:noFill/>
          </a:ln>
        </p:spPr>
      </p:pic>
      <p:sp>
        <p:nvSpPr>
          <p:cNvPr id="314" name="Line 5"/>
          <p:cNvSpPr/>
          <p:nvPr/>
        </p:nvSpPr>
        <p:spPr>
          <a:xfrm flipV="1">
            <a:off x="3132000" y="5345280"/>
            <a:ext cx="2232000" cy="1512720"/>
          </a:xfrm>
          <a:prstGeom prst="line">
            <a:avLst/>
          </a:prstGeom>
          <a:ln w="1555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Picture 6" descr="j0346317"/>
          <p:cNvPicPr/>
          <p:nvPr/>
        </p:nvPicPr>
        <p:blipFill>
          <a:blip r:embed="rId2"/>
          <a:stretch/>
        </p:blipFill>
        <p:spPr>
          <a:xfrm>
            <a:off x="7797960" y="2060640"/>
            <a:ext cx="22096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0416E-006 L 0.29532 -0.22138 E">
                                      <p:cBhvr>
                                        <p:cTn id="316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21" dur="1230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22" dur="123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2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24" dur="123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2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ВНИМАНИЕ!!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означает, что впереди либо опасный участок дороги, либо часто люди переходят дорогу. В этом месте нужно быть предельно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НИМАТЕЛЬНЫМ!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18" name="Picture 8" descr="j0411320"/>
          <p:cNvPicPr/>
          <p:nvPr/>
        </p:nvPicPr>
        <p:blipFill>
          <a:blip r:embed="rId1"/>
          <a:stretch/>
        </p:blipFill>
        <p:spPr>
          <a:xfrm>
            <a:off x="1106640" y="1600200"/>
            <a:ext cx="2536560" cy="2025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j0346317"/>
          <p:cNvPicPr/>
          <p:nvPr/>
        </p:nvPicPr>
        <p:blipFill>
          <a:blip r:embed="rId2"/>
          <a:stretch/>
        </p:blipFill>
        <p:spPr>
          <a:xfrm>
            <a:off x="1042920" y="4076640"/>
            <a:ext cx="2536920" cy="20336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0"/>
          <p:cNvSpPr/>
          <p:nvPr/>
        </p:nvSpPr>
        <p:spPr>
          <a:xfrm>
            <a:off x="4572000" y="472428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Обрыв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означает, что впереди обрыв!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23" name="Picture 7" descr="j0344035"/>
          <p:cNvPicPr/>
          <p:nvPr/>
        </p:nvPicPr>
        <p:blipFill>
          <a:blip r:embed="rId1"/>
          <a:stretch/>
        </p:blipFill>
        <p:spPr>
          <a:xfrm>
            <a:off x="5219640" y="1628640"/>
            <a:ext cx="3243240" cy="283392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9"/>
          <p:cNvSpPr/>
          <p:nvPr/>
        </p:nvSpPr>
        <p:spPr>
          <a:xfrm>
            <a:off x="324000" y="292428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Крутой спуск, подъём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означает, что впереди крутой спуск или подъём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27" name="Picture 18" descr="j0346319"/>
          <p:cNvPicPr/>
          <p:nvPr/>
        </p:nvPicPr>
        <p:blipFill>
          <a:blip r:embed="rId1"/>
          <a:stretch/>
        </p:blipFill>
        <p:spPr>
          <a:xfrm>
            <a:off x="1332000" y="1700280"/>
            <a:ext cx="2279520" cy="1827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9" descr="j0346357"/>
          <p:cNvPicPr/>
          <p:nvPr/>
        </p:nvPicPr>
        <p:blipFill>
          <a:blip r:embed="rId2"/>
          <a:stretch/>
        </p:blipFill>
        <p:spPr>
          <a:xfrm>
            <a:off x="1116000" y="4149720"/>
            <a:ext cx="2495520" cy="20001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0"/>
          <p:cNvSpPr/>
          <p:nvPr/>
        </p:nvSpPr>
        <p:spPr>
          <a:xfrm>
            <a:off x="4572000" y="292428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in00681_"/>
          <p:cNvPicPr/>
          <p:nvPr/>
        </p:nvPicPr>
        <p:blipFill>
          <a:blip r:embed="rId1"/>
          <a:stretch/>
        </p:blipFill>
        <p:spPr>
          <a:xfrm>
            <a:off x="2843280" y="1916280"/>
            <a:ext cx="2943000" cy="34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43" dur="1230" fill="hold"/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44" dur="123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4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46" dur="123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4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Дорожные работы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показывает, что впереди идут дорожные работы, ремонт дороги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33" name="Picture 11" descr="j0344065"/>
          <p:cNvPicPr/>
          <p:nvPr/>
        </p:nvPicPr>
        <p:blipFill>
          <a:blip r:embed="rId1"/>
          <a:stretch/>
        </p:blipFill>
        <p:spPr>
          <a:xfrm>
            <a:off x="5724360" y="4005360"/>
            <a:ext cx="2200320" cy="1922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j0346285"/>
          <p:cNvPicPr/>
          <p:nvPr/>
        </p:nvPicPr>
        <p:blipFill>
          <a:blip r:embed="rId2"/>
          <a:stretch/>
        </p:blipFill>
        <p:spPr>
          <a:xfrm>
            <a:off x="5651640" y="1700280"/>
            <a:ext cx="2403360" cy="19224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3"/>
          <p:cNvSpPr/>
          <p:nvPr/>
        </p:nvSpPr>
        <p:spPr>
          <a:xfrm>
            <a:off x="468360" y="378936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9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Неровности дороги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важно знать, так как он предупреждает о неровностях дороги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38" name="Picture 7" descr="j0411364"/>
          <p:cNvPicPr/>
          <p:nvPr/>
        </p:nvPicPr>
        <p:blipFill>
          <a:blip r:embed="rId1"/>
          <a:stretch/>
        </p:blipFill>
        <p:spPr>
          <a:xfrm>
            <a:off x="4643280" y="1916280"/>
            <a:ext cx="4038840" cy="32432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8"/>
          <p:cNvSpPr/>
          <p:nvPr/>
        </p:nvSpPr>
        <p:spPr>
          <a:xfrm>
            <a:off x="468360" y="393372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Гололёд!!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Этот знак предупреждает, что впереди скользкая трасса, опасный участок дороги, ГОЛОЛЁД!!!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Особенно важно для автолюбителей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42" name="Picture 9" descr="j0411362"/>
          <p:cNvPicPr/>
          <p:nvPr/>
        </p:nvPicPr>
        <p:blipFill>
          <a:blip r:embed="rId1"/>
          <a:stretch/>
        </p:blipFill>
        <p:spPr>
          <a:xfrm>
            <a:off x="468360" y="2133720"/>
            <a:ext cx="4038480" cy="32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равила дорожного движения должен знать каждый человек. Они очень важны. Ведь эти правила помогают нам сохранить самое главное - </a:t>
            </a:r>
            <a:r>
              <a:rPr b="1" lang="ru-RU" sz="3800" spc="-1" strike="noStrike">
                <a:solidFill>
                  <a:srgbClr val="ff3300"/>
                </a:solidFill>
                <a:latin typeface="Tahoma"/>
              </a:rPr>
              <a:t>ЖИЗНЬ!!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Пешеходный переход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384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Этот знак означает, что впереди пешеходный переход, участок, где люди  переходят дорогу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45" name="Picture 17" descr="bd06006_"/>
          <p:cNvPicPr/>
          <p:nvPr/>
        </p:nvPicPr>
        <p:blipFill>
          <a:blip r:embed="rId1"/>
          <a:stretch/>
        </p:blipFill>
        <p:spPr>
          <a:xfrm>
            <a:off x="5415120" y="3938760"/>
            <a:ext cx="2503440" cy="2187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8" descr="j0344029"/>
          <p:cNvPicPr/>
          <p:nvPr/>
        </p:nvPicPr>
        <p:blipFill>
          <a:blip r:embed="rId2"/>
          <a:stretch/>
        </p:blipFill>
        <p:spPr>
          <a:xfrm>
            <a:off x="5508720" y="1628640"/>
            <a:ext cx="2504880" cy="21877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9"/>
          <p:cNvSpPr/>
          <p:nvPr/>
        </p:nvSpPr>
        <p:spPr>
          <a:xfrm>
            <a:off x="324000" y="422100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611280" y="3789360"/>
            <a:ext cx="381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ажно знать и пешеходам, и автолюбителям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480"/>
                            </p:stCondLst>
                            <p:childTnLst>
                              <p:par>
                                <p:cTn id="56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8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69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0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25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73" dur="25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4" dur="25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980"/>
                            </p:stCondLst>
                            <p:childTnLst>
                              <p:par>
                                <p:cTn id="576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Извилистая дорога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предупреждает о крутом изгибе дороги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51" name="Picture 10" descr="j0411428"/>
          <p:cNvPicPr/>
          <p:nvPr/>
        </p:nvPicPr>
        <p:blipFill>
          <a:blip r:embed="rId1"/>
          <a:stretch/>
        </p:blipFill>
        <p:spPr>
          <a:xfrm>
            <a:off x="684360" y="2060640"/>
            <a:ext cx="4038480" cy="3224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1"/>
          <p:cNvSpPr/>
          <p:nvPr/>
        </p:nvSpPr>
        <p:spPr>
          <a:xfrm>
            <a:off x="4788000" y="3429000"/>
            <a:ext cx="4103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28 0.07338 C -0.08732 0.05069 -0.09826 0.01204 -0.09236 -0.02662 C -0.08923 -0.04005 -0.08524 -0.05324 -0.07934 -0.06389 C -0.07534 -0.03334 -0.06128 -0.00533 -0.04028 0.01204 C -0.04028 -0.02523 -0.0243 -0.06134 0.00278 -0.07732 C 0.01181 -0.08403 0.0217 -0.08658 0.03177 -0.08796 C 0.01667 -0.06528 0.00868 -0.03334 0.01181 1.85185E-006 C 0.03368 -0.02384 0.06476 -0.0294 0.09167 -0.01204 C 0.1007 -0.00671 0.10972 0.00278 0.1158 0.01204 C 0.09271 0.00949 0.06875 0.02129 0.05174 0.04537 C 0.07865 0.05347 0.10174 0.08148 0.10868 0.12014 C 0.11077 0.13333 0.11077 0.14676 0.10868 0.15995 C 0.09566 0.13472 0.07379 0.11736 0.04966 0.11481 C 0.06181 0.14815 0.05868 0.18935 0.0408 0.22014 C 0.03368 0.23079 0.0257 0.24004 0.01667 0.24537 C 0.02379 0.21597 0.01979 0.18264 0.00677 0.15602 C -0.00521 0.18935 -0.03125 0.21204 -0.06128 0.21204 C -0.07222 0.21204 -0.08229 0.20949 -0.09132 0.20393 C -0.06927 0.19329 -0.05225 0.16805 -0.04427 0.13727 C -0.07222 0.14537 -0.10121 0.13333 -0.12031 0.10278 C -0.12725 0.09074 -0.13125 0.0787 -0.1342 0.06528 C -0.11423 0.08264 -0.08819 0.08541 -0.06528 0.07338 Z">
                                      <p:cBhvr>
                                        <p:cTn id="59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Поворот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тот знак сообщает нам о поворотах на дороге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55" name="Picture 8" descr="j0346343"/>
          <p:cNvPicPr/>
          <p:nvPr/>
        </p:nvPicPr>
        <p:blipFill>
          <a:blip r:embed="rId1"/>
          <a:stretch/>
        </p:blipFill>
        <p:spPr>
          <a:xfrm>
            <a:off x="5508720" y="1484280"/>
            <a:ext cx="2520720" cy="20210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j0346351"/>
          <p:cNvPicPr/>
          <p:nvPr/>
        </p:nvPicPr>
        <p:blipFill>
          <a:blip r:embed="rId2"/>
          <a:stretch/>
        </p:blipFill>
        <p:spPr>
          <a:xfrm>
            <a:off x="5435640" y="3860640"/>
            <a:ext cx="2663640" cy="213552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10"/>
          <p:cNvSpPr/>
          <p:nvPr/>
        </p:nvSpPr>
        <p:spPr>
          <a:xfrm>
            <a:off x="539640" y="364500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9259E-006 L -0.90972 -0.01065 E">
                                      <p:cBhvr>
                                        <p:cTn id="650" dur="1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1.48148E-006 L 0.43716 -0.00857 E">
                                      <p:cBhvr>
                                        <p:cTn id="652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Сообщающие знаки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359" name="Picture 9" descr="j0411312"/>
          <p:cNvPicPr/>
          <p:nvPr/>
        </p:nvPicPr>
        <p:blipFill>
          <a:blip r:embed="rId1"/>
          <a:stretch/>
        </p:blipFill>
        <p:spPr>
          <a:xfrm>
            <a:off x="1662120" y="1600200"/>
            <a:ext cx="1628640" cy="2185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j0411416"/>
          <p:cNvPicPr/>
          <p:nvPr/>
        </p:nvPicPr>
        <p:blipFill>
          <a:blip r:embed="rId2"/>
          <a:stretch/>
        </p:blipFill>
        <p:spPr>
          <a:xfrm>
            <a:off x="1644480" y="3938760"/>
            <a:ext cx="1662120" cy="2187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j0343615"/>
          <p:cNvPicPr/>
          <p:nvPr/>
        </p:nvPicPr>
        <p:blipFill>
          <a:blip r:embed="rId3"/>
          <a:stretch/>
        </p:blipFill>
        <p:spPr>
          <a:xfrm>
            <a:off x="5148360" y="2781360"/>
            <a:ext cx="246852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6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3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1" dur="3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0" y="2349360"/>
            <a:ext cx="424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Garamond"/>
              </a:rPr>
              <a:t>Этот знак сообщает нам, что  впереди находится автозаправка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63" name="Picture 9" descr="j0343615"/>
          <p:cNvPicPr/>
          <p:nvPr/>
        </p:nvPicPr>
        <p:blipFill>
          <a:blip r:embed="rId1"/>
          <a:stretch/>
        </p:blipFill>
        <p:spPr>
          <a:xfrm>
            <a:off x="826920" y="2205000"/>
            <a:ext cx="288000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Сообщающие знаки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365" name="Picture 4" descr="j0411312"/>
          <p:cNvPicPr/>
          <p:nvPr/>
        </p:nvPicPr>
        <p:blipFill>
          <a:blip r:embed="rId1"/>
          <a:stretch/>
        </p:blipFill>
        <p:spPr>
          <a:xfrm>
            <a:off x="1662120" y="1600200"/>
            <a:ext cx="1628640" cy="2185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j0411416"/>
          <p:cNvPicPr/>
          <p:nvPr/>
        </p:nvPicPr>
        <p:blipFill>
          <a:blip r:embed="rId2"/>
          <a:stretch/>
        </p:blipFill>
        <p:spPr>
          <a:xfrm>
            <a:off x="1644480" y="3938760"/>
            <a:ext cx="1662120" cy="2187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j0343615"/>
          <p:cNvPicPr/>
          <p:nvPr/>
        </p:nvPicPr>
        <p:blipFill>
          <a:blip r:embed="rId3"/>
          <a:stretch/>
        </p:blipFill>
        <p:spPr>
          <a:xfrm>
            <a:off x="5076720" y="2421000"/>
            <a:ext cx="2900520" cy="29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715" dur="123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716" dur="123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7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718" dur="123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7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40384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Garamond"/>
              </a:rPr>
              <a:t>Этот знак сообщает нам, что вблизи   находится стоянка такси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70" name="Picture 18" descr="j0411312"/>
          <p:cNvPicPr/>
          <p:nvPr/>
        </p:nvPicPr>
        <p:blipFill>
          <a:blip r:embed="rId1"/>
          <a:stretch/>
        </p:blipFill>
        <p:spPr>
          <a:xfrm>
            <a:off x="5383080" y="2139840"/>
            <a:ext cx="2567160" cy="34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7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70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Сообщающие знаки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372" name="Picture 4" descr="j0411312"/>
          <p:cNvPicPr/>
          <p:nvPr/>
        </p:nvPicPr>
        <p:blipFill>
          <a:blip r:embed="rId1"/>
          <a:stretch/>
        </p:blipFill>
        <p:spPr>
          <a:xfrm>
            <a:off x="1662120" y="1600200"/>
            <a:ext cx="1628640" cy="2185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j0411416"/>
          <p:cNvPicPr/>
          <p:nvPr/>
        </p:nvPicPr>
        <p:blipFill>
          <a:blip r:embed="rId2"/>
          <a:stretch/>
        </p:blipFill>
        <p:spPr>
          <a:xfrm>
            <a:off x="1644480" y="3938760"/>
            <a:ext cx="1662120" cy="2187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j0343615"/>
          <p:cNvPicPr/>
          <p:nvPr/>
        </p:nvPicPr>
        <p:blipFill>
          <a:blip r:embed="rId3"/>
          <a:stretch/>
        </p:blipFill>
        <p:spPr>
          <a:xfrm>
            <a:off x="5076720" y="2492280"/>
            <a:ext cx="2757600" cy="27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0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4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716000" y="1988640"/>
            <a:ext cx="424836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Garamond"/>
              </a:rPr>
              <a:t>Этот знак сообщает, что недалеко находится автосервис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77" name="Picture 7" descr="j0411416"/>
          <p:cNvPicPr/>
          <p:nvPr/>
        </p:nvPicPr>
        <p:blipFill>
          <a:blip r:embed="rId1"/>
          <a:stretch/>
        </p:blipFill>
        <p:spPr>
          <a:xfrm>
            <a:off x="1187280" y="1989000"/>
            <a:ext cx="2625840" cy="34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0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59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Oval 14"/>
          <p:cNvSpPr/>
          <p:nvPr/>
        </p:nvSpPr>
        <p:spPr>
          <a:xfrm>
            <a:off x="2843280" y="1989000"/>
            <a:ext cx="2952720" cy="2808360"/>
          </a:xfrm>
          <a:prstGeom prst="ellipse">
            <a:avLst/>
          </a:prstGeom>
          <a:solidFill>
            <a:srgbClr val="ffffff"/>
          </a:solidFill>
          <a:ln w="33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2987640" y="2924280"/>
            <a:ext cx="266544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ahoma"/>
              </a:rPr>
              <a:t>КОНЕЦ!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4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Чтобы изучать правила дорожного движения нужно знать  </a:t>
            </a:r>
            <a:r>
              <a:rPr b="1" lang="ru-RU" sz="3800" spc="-1" strike="noStrike">
                <a:solidFill>
                  <a:srgbClr val="ff3300"/>
                </a:solidFill>
                <a:latin typeface="Tahoma"/>
              </a:rPr>
              <a:t>ДОРОЖНЫЕ ЗНАКИ.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Моя презентация как раз и будет посвящена экскурсу по дорожным знака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bfbfa7"/>
                </a:solidFill>
                <a:latin typeface="Garamond"/>
              </a:rPr>
              <a:t>ЭКСКУРС ПО ДОРОЖНЫМ ЗНАКАМ.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Garamond"/>
              </a:rPr>
              <a:t>Все знаки делятся на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76" name="Oval 17"/>
          <p:cNvSpPr/>
          <p:nvPr/>
        </p:nvSpPr>
        <p:spPr>
          <a:xfrm>
            <a:off x="0" y="1557360"/>
            <a:ext cx="3168720" cy="2232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99"/>
                </a:solidFill>
                <a:latin typeface="Garamond"/>
              </a:rPr>
              <a:t>Предупреждающ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Oval 19"/>
          <p:cNvSpPr/>
          <p:nvPr/>
        </p:nvSpPr>
        <p:spPr>
          <a:xfrm>
            <a:off x="3059280" y="2565360"/>
            <a:ext cx="3168360" cy="2232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2802240" y="3429000"/>
            <a:ext cx="36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99"/>
                </a:solidFill>
                <a:latin typeface="Garamond"/>
              </a:rPr>
              <a:t>Запрещающ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Oval 21"/>
          <p:cNvSpPr/>
          <p:nvPr/>
        </p:nvSpPr>
        <p:spPr>
          <a:xfrm>
            <a:off x="5796000" y="3933720"/>
            <a:ext cx="3168720" cy="2232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99"/>
                </a:solidFill>
                <a:latin typeface="Garamond"/>
              </a:rPr>
              <a:t>Сообщающ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j0403587"/>
          <p:cNvPicPr/>
          <p:nvPr/>
        </p:nvPicPr>
        <p:blipFill>
          <a:blip r:embed="rId1"/>
          <a:stretch/>
        </p:blipFill>
        <p:spPr>
          <a:xfrm>
            <a:off x="-1981080" y="0"/>
            <a:ext cx="1219176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j0401489"/>
          <p:cNvPicPr/>
          <p:nvPr/>
        </p:nvPicPr>
        <p:blipFill>
          <a:blip r:embed="rId2"/>
          <a:stretch/>
        </p:blipFill>
        <p:spPr>
          <a:xfrm>
            <a:off x="-1260360" y="0"/>
            <a:ext cx="10945800" cy="7101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j0145603"/>
          <p:cNvPicPr/>
          <p:nvPr/>
        </p:nvPicPr>
        <p:blipFill>
          <a:blip r:embed="rId3"/>
          <a:stretch/>
        </p:blipFill>
        <p:spPr>
          <a:xfrm>
            <a:off x="1403280" y="0"/>
            <a:ext cx="5329440" cy="7029360"/>
          </a:xfrm>
          <a:prstGeom prst="rect">
            <a:avLst/>
          </a:prstGeom>
          <a:ln w="0">
            <a:noFill/>
          </a:ln>
        </p:spPr>
      </p:pic>
      <p:pic>
        <p:nvPicPr>
          <p:cNvPr id="283" name="Гулькина - Айвенго.mp3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7" descr="j0201786"/>
          <p:cNvPicPr/>
          <p:nvPr/>
        </p:nvPicPr>
        <p:blipFill>
          <a:blip r:embed="rId5"/>
          <a:stretch/>
        </p:blipFill>
        <p:spPr>
          <a:xfrm>
            <a:off x="-468360" y="0"/>
            <a:ext cx="10296720" cy="7101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j0401490"/>
          <p:cNvPicPr/>
          <p:nvPr/>
        </p:nvPicPr>
        <p:blipFill>
          <a:blip r:embed="rId6"/>
          <a:stretch/>
        </p:blipFill>
        <p:spPr>
          <a:xfrm>
            <a:off x="2484360" y="0"/>
            <a:ext cx="3311640" cy="7101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1" descr="j0402290"/>
          <p:cNvPicPr/>
          <p:nvPr/>
        </p:nvPicPr>
        <p:blipFill>
          <a:blip r:embed="rId7"/>
          <a:stretch/>
        </p:blipFill>
        <p:spPr>
          <a:xfrm>
            <a:off x="1692360" y="189000"/>
            <a:ext cx="6132600" cy="6669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2" descr="j0407571"/>
          <p:cNvPicPr/>
          <p:nvPr/>
        </p:nvPicPr>
        <p:blipFill>
          <a:blip r:embed="rId8"/>
          <a:stretch/>
        </p:blipFill>
        <p:spPr>
          <a:xfrm>
            <a:off x="-1981080" y="-747720"/>
            <a:ext cx="12169800" cy="784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2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TOP!!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289" name="Picture 8" descr="j0401289"/>
          <p:cNvPicPr/>
          <p:nvPr/>
        </p:nvPicPr>
        <p:blipFill>
          <a:blip r:embed="rId1"/>
          <a:stretch/>
        </p:blipFill>
        <p:spPr>
          <a:xfrm>
            <a:off x="250920" y="1557360"/>
            <a:ext cx="4321080" cy="4535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j0409564"/>
          <p:cNvPicPr/>
          <p:nvPr/>
        </p:nvPicPr>
        <p:blipFill>
          <a:blip r:embed="rId2"/>
          <a:stretch/>
        </p:blipFill>
        <p:spPr>
          <a:xfrm>
            <a:off x="5024520" y="1600200"/>
            <a:ext cx="3284280" cy="218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j0401489"/>
          <p:cNvPicPr/>
          <p:nvPr/>
        </p:nvPicPr>
        <p:blipFill>
          <a:blip r:embed="rId3"/>
          <a:stretch/>
        </p:blipFill>
        <p:spPr>
          <a:xfrm>
            <a:off x="5025960" y="3938760"/>
            <a:ext cx="3282840" cy="2187360"/>
          </a:xfrm>
          <a:prstGeom prst="rect">
            <a:avLst/>
          </a:prstGeom>
          <a:ln w="0">
            <a:noFill/>
          </a:ln>
        </p:spPr>
      </p:pic>
      <p:pic>
        <p:nvPicPr>
          <p:cNvPr id="292" name="12 Peter Gunn.wma" descr=""/>
          <p:cNvPicPr/>
          <p:nvPr/>
        </p:nvPicPr>
        <p:blipFill>
          <a:blip r:embed="rId4"/>
          <a:stretch/>
        </p:blipFill>
        <p:spPr>
          <a:xfrm>
            <a:off x="684360" y="76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TOP!!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Этот знак означает, что въезд ЗАПРЕЩЁН!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95" name="Picture 8" descr="j0078977"/>
          <p:cNvPicPr/>
          <p:nvPr/>
        </p:nvPicPr>
        <p:blipFill>
          <a:blip r:embed="rId1"/>
          <a:stretch/>
        </p:blipFill>
        <p:spPr>
          <a:xfrm>
            <a:off x="971640" y="206064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0"/>
          <p:cNvSpPr/>
          <p:nvPr/>
        </p:nvSpPr>
        <p:spPr>
          <a:xfrm>
            <a:off x="4643280" y="3284640"/>
            <a:ext cx="3961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3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Осторожно, ДЕТИ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Этот знак означает, что в близи данной местности находятся детские учреждения. И дети часто переходят дорогу!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300" name="Picture 9" descr="j0344203"/>
          <p:cNvPicPr/>
          <p:nvPr/>
        </p:nvPicPr>
        <p:blipFill>
          <a:blip r:embed="rId1"/>
          <a:stretch/>
        </p:blipFill>
        <p:spPr>
          <a:xfrm>
            <a:off x="1332000" y="3789360"/>
            <a:ext cx="2501640" cy="2182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bd06007_"/>
          <p:cNvPicPr/>
          <p:nvPr/>
        </p:nvPicPr>
        <p:blipFill>
          <a:blip r:embed="rId2"/>
          <a:stretch/>
        </p:blipFill>
        <p:spPr>
          <a:xfrm>
            <a:off x="1332000" y="1413000"/>
            <a:ext cx="2501640" cy="21859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2"/>
          <p:cNvSpPr/>
          <p:nvPr/>
        </p:nvSpPr>
        <p:spPr>
          <a:xfrm>
            <a:off x="4859280" y="4005360"/>
            <a:ext cx="381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Особенно важен для автолюб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09:17:56Z</dcterms:created>
  <dc:creator>Vladimir</dc:creator>
  <dc:description/>
  <dc:language>en-US</dc:language>
  <cp:lastModifiedBy>Алиночка</cp:lastModifiedBy>
  <dcterms:modified xsi:type="dcterms:W3CDTF">2014-09-14T10:43:07Z</dcterms:modified>
  <cp:revision>43</cp:revision>
  <dc:subject/>
  <dc:title>     </dc:title>
</cp:coreProperties>
</file>