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88F54-3D18-4A11-8208-63A7264E332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39BE6-A7C1-4C81-AB70-DB846CC6C59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7A0CC-9021-468C-B9EA-59EE4EEF0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3EF37-5178-4783-8E1A-B775D0A5834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D408D-1378-4FDF-AD27-BEEE28D45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B53C6-2F78-4AA9-A9C2-D1C5217EE60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98024-A236-40EF-9BAE-C55A33CA54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7B882-67EC-4371-9092-6988F4F7F88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A7606-8682-4F20-967F-1074CF831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80346-E5F9-49CF-BF99-37F8C7FF184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71067-B0CA-4CDB-95CF-E9288C815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FB56F-AD8B-40F9-9723-711F1E918BB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8D162-A274-41C6-98D4-88F4EB315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5F813-519F-4429-978B-AC7C47E0C24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EE1C2-C8D9-4986-B942-7F2872420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8CB05-3598-4428-BAF1-D5AA757D0E0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A98B2-6AD2-4F5A-8059-B042B648A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26721-56A6-4B99-92E4-D3DB474F3E7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80529-C7E1-4199-BEF7-49D32BB2E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14A8C-02B9-40EC-B52B-9B9AE034829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91CDB-83FE-4497-BB90-3B3047A21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7E08A-66FD-4685-A9B0-F462B7A03E1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A3E01-6BFD-472F-BB02-9A2617F62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26A9-578B-4344-A37D-DED14D77E1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BD5D-1865-4B6F-81C0-AF91CA01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2F82-1BFC-4BBE-9177-0CFD51AD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5938-6420-46B2-AFC9-4C60233EB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C0428-CB99-4DF5-95A9-4AC15EE7C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6FBA0-977B-4CB8-8BD9-1B03017D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141A8-F80F-40BB-B9DE-AAE63FC9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44054-9B45-476F-943C-02A24975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A483E-3A0C-443D-8C3D-5AB68BDE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2861D-CCC7-468F-8D4C-323B0EB9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B2F92-44B2-4A63-9078-65B4CF1A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BE86-C1DA-48F4-9C0E-6AA6A0AD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985AF-3C6E-45C1-AB20-F219FC8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8EEDB-121C-4B04-BB94-6A5A6871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2959B-F7EE-4717-857E-43C9E329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E4C8F-9220-49C2-A62E-8B0C579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21E90-AA9A-450A-BB25-7ED584E7D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E3CA-E27A-4610-81E3-0D5D45D194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E731-608C-4409-8AC4-AAAF8C90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2A39-6889-4D17-8D78-2E6FA3B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1415-1572-4D73-A390-F4455493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58DF-91D6-4121-8EDD-655CF7BA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EC6E-A6BB-406C-96FA-F0C49652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E71E-438D-465E-8872-C04B6865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4A79-587C-4282-BC39-E54F068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194F-08BB-4804-8551-ABEB7388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51F9-ED5C-4F0C-B994-5F0D3606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6131-CD7A-4FD3-8B75-C5864ABC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592F-6E7C-4D81-9FB6-D41E0DA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F66B-05B7-4FF5-B2A5-FF79E0B2B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CCF6E-B624-43C6-A47D-82D368E4EE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A0F43-0783-4DDF-ABBC-C710DE29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5A812-3051-4FD3-856B-27134C39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E45D-1744-4771-B83C-FEBD9F5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2F3B6-7D7C-43F2-A702-90E47E66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A2519-DE6D-4B2E-8E84-A0537FE1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62FC7-1627-4A1D-96E7-F70D48F0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4D6AF-F3FC-4962-BDD3-B551953C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EEA62-F9D7-43A7-9D18-805E7D1B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427D1-7450-4E39-B6F1-3DFA14F5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A131F-0714-4897-A567-107831C6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A9D76-E188-4343-8156-7643C5F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9F4EF-1B6A-492A-ACBA-0087BB8818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5DF09-B9FF-41B7-8E19-92EE56B35F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FB9B-2483-45B7-A41E-7E4D0ACC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D4078-36FC-4A67-A420-3FAA9B94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DB744-218D-42DD-A464-C8B85D6D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AAA3E-B46A-4F4B-AD74-1BEF8F79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4E180-006A-4AF0-9412-5A0D1CF7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A7E02-958A-435C-96BD-552C9A63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DC125-618A-47EA-B4B0-CEEF6A82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2C138-733A-4D31-BDC9-2694508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470F3-4DE9-4507-B6C7-ED1004B3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F1669-B746-43F0-94AD-3A6B4935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F1E83-150A-4AD6-B5B1-E77C596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9CC2-606F-41CD-8A0D-9BC7183C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3033F-8803-4461-89FD-117E76748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58E54-AA2E-4EA1-8C07-C8F8708AAF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BC8DC-BE1B-4F8B-A37F-15E8EFEE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E740-F8AE-4636-A734-9596256C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7217-5AFA-44BF-8733-49D037E1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16DF-9AE7-44B8-A645-9210DA86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2BE0-9547-45A6-9185-833F6AD5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6029-DFC7-4E93-B102-48C2DD7D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2028-E623-45B5-B2C7-D2B30B8A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984D-6F06-4E17-BC27-0B4FC056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3E28-44C6-4599-8120-CD2EA389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C07B-292D-4C65-856C-290C86D6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13722-F029-4B96-BEC0-3AD5B356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F65C8-98C1-435B-A20B-E47AC15187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80AA7-2BFE-4FB3-9F45-50DA13156C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DAB76-CFF3-474C-98C3-6A5633E5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64E24-4EDF-4BAA-9A59-D59066F0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CA266-F5C1-4238-81C9-0FD580F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77406-DDE1-4057-90DE-26F5288E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28258-B67B-45B6-8F80-5C0885F5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AB196-455B-4CAE-A5BF-FD70D560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17C7-AB74-4A8A-8B49-BD26A2A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0F520-A443-4A8C-8FAA-2F8BE307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84B56-447A-4A73-9A72-875EEF7C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1A004-CA2D-46C2-A23F-26BDE9B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C4756-C1CD-44CC-B746-11D90E15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23356-57B2-4994-B0D2-85F6ADC99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A06B-F2BC-4C9D-A257-9F8DDF2F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D303E-B984-44E8-AB61-D7C5F0B7B0A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E4DFC5-3BA0-40FB-83E1-9341C47883F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EF6DDD-60E6-4C79-B523-C4A0D7A7C7A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E14CA2-3185-4F56-9E29-27D5CF1FDA8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F54567-21E7-424F-A87E-11F7BFE1074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31DDAB-1668-466F-89C4-E00C0827B58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3FC9B0-C7C2-4685-A428-4B0E2F35D35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Schoolbook"/>
              </a:rPr>
              <a:t>Составила: Бочкарёва Галина Александровна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1</cp:lastModifiedBy>
  <dcterms:modified xsi:type="dcterms:W3CDTF">2020-12-05T09:07:00Z</dcterms:modified>
  <cp:revision>27</cp:revision>
  <dc:subject/>
  <dc:title>Слайд 1</dc:title>
</cp:coreProperties>
</file>