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wmf" ContentType="image/x-wmf"/>
  <Override PartName="/ppt/media/image12.jpeg" ContentType="image/jpeg"/>
  <Override PartName="/ppt/media/image21.gif" ContentType="image/gif"/>
  <Override PartName="/ppt/media/image20.jpeg" ContentType="image/jpeg"/>
  <Override PartName="/ppt/media/image15.jpeg" ContentType="image/jpeg"/>
  <Override PartName="/ppt/media/image19.wmf" ContentType="image/x-wmf"/>
  <Override PartName="/ppt/media/image14.jpeg" ContentType="image/jpeg"/>
  <Override PartName="/ppt/media/image2.png" ContentType="image/png"/>
  <Override PartName="/ppt/media/image17.jpeg" ContentType="image/jpeg"/>
  <Override PartName="/ppt/media/image16.jpeg" ContentType="image/jpeg"/>
  <Override PartName="/ppt/media/image1.jpeg" ContentType="image/jpeg"/>
  <Override PartName="/ppt/media/image4.wmf" ContentType="image/x-wmf"/>
  <Override PartName="/ppt/media/image3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 Box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dt" idx="15"/>
          </p:nvPr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9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sldNum" idx="16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A1211F-E0BD-4E04-8149-D0A656AC130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516BD9-E214-4FE6-B307-0E2D501F627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47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BB1028-1A82-405C-B35A-684BEB9EB0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5447E3-BBE4-4CE3-AB1B-AB5D35CE821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51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24ED51-7BE5-4577-B3D3-8B708E6E23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D37A77-3C3B-4023-A41C-07D37CD9936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51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864BB4-5031-4465-B64F-1AF78D4422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CE8B6E-AC47-4093-BB99-6FCE33BB5E7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F26B4C-A5C2-4A9E-B16A-45AF64B152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roid Sans"/>
              </a:rPr>
              <a:t>Я говорю «Добро пожаловать!» в дорожную академию. Туда мы отправимся со школьником. А уроки нам будет преподава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roid Sans"/>
              </a:rPr>
              <a:t>Постовой Светофоркин. Девиз с которым мы с вами отправимся в занимательное путешеств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FBFBF5-75BB-493E-817F-13BA949BD85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48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6203D7-D71E-47CD-8FB4-55048CF23E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9DB870-0997-4D0D-B60F-A3949D4712F1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C741E8-E1A1-41EA-A76A-42993B98A6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7E5DDE-AF8B-4B2B-9AC0-CC750DFFDFE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49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485DC7-0166-409A-94CB-4357DA13F0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4C1ED2-33C0-4AC5-AB61-4A5B3F7D569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49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D5B839-2607-4549-9894-FFDA759A9C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A75656-06A3-40DC-A9F5-4B4A3A1B50A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49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193B24-9E20-473A-9647-B2078451F2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4723EF-E827-46CA-8E65-051720A2E63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50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B4877F-5B5F-4E61-96F1-88A83A2B47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33801B-CE0D-4D7D-814C-90C637D1D2D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50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8F92AC-AEA8-47DB-8DF6-887A249CBE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DF017-05AB-4EAB-92CF-3E99F400DF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C8D44-EF0E-4744-AB32-CBFB7D9E1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88A98-C84B-4429-9035-FAD69E27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008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26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008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26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B63B2-43BD-49B2-995E-D217CB0B78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56BAF1-E40F-4AE9-958E-1F766E684B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10E433-C7C6-4423-B1E1-828297F54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CE6938-C065-454C-9A48-A054E377B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2408B1-F229-450A-B47F-A098FEC81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7FA7C3-959F-42A8-8C10-4F13AF700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4613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1313C1-E637-4BC9-A205-0F9EE5DC2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DD1E40-9B66-4EB8-8A2D-FA757878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F37E4-253D-4D25-B084-3888E2F11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CC4990-74EC-429B-A8A7-A75E4E3AB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69DBC1-DED8-42A9-98C2-A68EC1715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938FCE-DD8F-4FCE-8535-D29215E3F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CF4DA5-25A1-4A92-AF53-C14E610E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008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26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008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26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0C8F4C-1638-4365-B6A4-E0DB946C5D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FD657-16E7-4228-82BA-A3804964B6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55708-7BC0-46BE-ACEC-78475F55B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740AD-20A2-4914-ADF9-3A2E82D87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1F383-CD1A-4B80-8BF0-285C9EEBC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867D1-84CC-4E70-BA45-B9CE01207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F1778-6085-4615-9D81-E45E95A77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4613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FCE02-4A53-4192-8E78-5B2E42438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3F16C-4C3D-4E3E-83F1-566C0443B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3C7D4-8B7F-4459-8843-4E91A9453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9533C-0369-4418-A0EC-C0A8BEFCF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C31E3-FAFE-4EFB-AF1F-9B39C0BDC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38CB0-C479-479D-8375-5B4BC22A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008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26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008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26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1494C-EB97-4A42-8F7B-B7D99493BD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A79493-AE5E-40F8-BDCA-CDD035D917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79226D-221B-4A7F-8710-2CF630694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CABFFF-40D0-4529-99F8-2BB46169F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DD66A-BD6D-4636-9EFF-BD850C122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420397-0454-4A09-AF31-4340A3BCC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E623D3-91F4-4762-9AA1-C4981F9BA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4613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682ED4-B1B8-49AB-8616-7E187DFD1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3F4AC6-E4AD-47E7-A973-E77A72ADC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5880DF-FE76-4513-A556-E5DDCA356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BC5080-291B-4A11-9D5F-8C55A196F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FAE6C4-88AE-4B12-BA31-F27EEDB30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B2F7AE-DC4C-4DE7-93D8-89BA856F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008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26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008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26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604432-06EE-451D-B0E8-7AE4DC7274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F3730C-0837-4857-9BF2-3ACB5EAD41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AA4F2-2E16-4A17-B2EE-271871EE8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16E111-9E26-4EAA-95CD-51F218B26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6A28A3-5EE0-4DAC-998B-9212F584E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D64D4C-8038-42F8-93AC-5B4AE696B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A90B4D-A1A8-4B9F-B578-12A381AF0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4613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6D801F-9A6D-4F44-A32D-F5B1DA182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965FA2-4070-4822-B9CB-CFA5D0835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EC282C-A6EA-44CF-B056-46C86C3C8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7AB9B5-219B-43E9-8F42-777C3710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27835E-B488-4F35-A0A6-F57D29C43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4E6749-EC17-47A5-9F5A-1CBBDA65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4613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431C9-A19C-4DBB-AA79-83ED775BE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008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26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008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26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4E184E-CCF4-441F-8F1D-B46049A52F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75828-25B6-447F-AFCF-DCC49324C9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AEAD3-44C4-4123-B082-9BE931BD1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7439A-9014-4531-AA3B-9149C6BE8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C5A69-2E50-4277-8783-560BA50A3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8B7C5-2135-4224-899D-861A521E5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4613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69F00-97D9-4AA4-9782-04C0CE75E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67153-F5C4-4C61-A1AD-6A4212967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6E930-AC9D-4AD5-92A9-DC7BBD443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4DEBD-DB07-4979-938A-FEE323A61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969B3-C60D-44BA-89B9-6BBE14A7D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D02CA-FAC4-479D-A594-A69DEF670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5CC05-A281-4B7B-B129-8CF35DEA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008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26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008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26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A82FA-4B8F-4EB8-B303-358D1204AC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8B54EC-2028-4E11-A77B-D787A8657A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525874-B62E-47F6-BC7A-254E36594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3684D9-545B-439F-AF98-016F73B94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A923CA-18B3-46B0-B04E-9237F9E38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1F4EED-1015-4B22-B7D6-C1AABFFFD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4613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771BD4-2EFF-4FED-A057-AEB76C4F3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F62373-2895-423D-8DF8-0EC99B2A5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409A3-B43E-4959-A853-0A94B16B3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780654-06C8-4C13-8F1A-7EF511CDC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196A34-0505-4C10-8043-CF4D0D1DD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4F0772-F36A-452A-A6B9-65D407332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4306B4-D208-4CF8-8C1E-E7EAAE21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008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26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008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26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DEFD3C-3F92-47CF-B283-7FDDBECDD3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5423D-0B99-4BBE-AB70-0D64CBBDD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786520" y="268200"/>
            <a:ext cx="2004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 rot="5400000">
            <a:off x="6995520" y="373536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6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7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Line 9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Oval 1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129520" y="5733720"/>
            <a:ext cx="60336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100167-75BF-45F0-A8F6-B3DE15DF8315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10"/>
          <p:cNvSpPr/>
          <p:nvPr/>
        </p:nvSpPr>
        <p:spPr>
          <a:xfrm>
            <a:off x="911376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12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Oval 13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Oval 14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Oval 1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Oval 16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3"/>
          </p:nvPr>
        </p:nvSpPr>
        <p:spPr>
          <a:xfrm>
            <a:off x="9097920" y="221760"/>
            <a:ext cx="227952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20"/>
          <p:cNvSpPr/>
          <p:nvPr/>
        </p:nvSpPr>
        <p:spPr>
          <a:xfrm rot="5400000">
            <a:off x="708300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4"/>
          </p:nvPr>
        </p:nvSpPr>
        <p:spPr>
          <a:xfrm>
            <a:off x="1325520" y="4929120"/>
            <a:ext cx="6033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E42BBC2-0C1D-410A-9650-5A27FFD95425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Oval 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5"/>
          </p:nvPr>
        </p:nvSpPr>
        <p:spPr>
          <a:xfrm>
            <a:off x="8786520" y="268200"/>
            <a:ext cx="2004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6"/>
          </p:nvPr>
        </p:nvSpPr>
        <p:spPr>
          <a:xfrm>
            <a:off x="8129520" y="5733720"/>
            <a:ext cx="60336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2878F19-6F93-436A-A604-86E101588AB5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1"/>
          <p:cNvSpPr/>
          <p:nvPr/>
        </p:nvSpPr>
        <p:spPr>
          <a:xfrm rot="5400000">
            <a:off x="699624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5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6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7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8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11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12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1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Oval 14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Oval 15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16"/>
          <p:cNvSpPr/>
          <p:nvPr/>
        </p:nvSpPr>
        <p:spPr>
          <a:xfrm>
            <a:off x="9097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9096480" y="217080"/>
            <a:ext cx="227952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20"/>
          <p:cNvSpPr/>
          <p:nvPr/>
        </p:nvSpPr>
        <p:spPr>
          <a:xfrm rot="5400000">
            <a:off x="708300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8"/>
          </p:nvPr>
        </p:nvSpPr>
        <p:spPr>
          <a:xfrm>
            <a:off x="1339920" y="4929120"/>
            <a:ext cx="6033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2D26BA4-2B33-4277-8C38-A536DDE7DC93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Oval 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9"/>
          </p:nvPr>
        </p:nvSpPr>
        <p:spPr>
          <a:xfrm>
            <a:off x="8786520" y="268200"/>
            <a:ext cx="2004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0"/>
          </p:nvPr>
        </p:nvSpPr>
        <p:spPr>
          <a:xfrm>
            <a:off x="8129520" y="5733720"/>
            <a:ext cx="60336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A98F5E8-E559-4EEE-A84B-3A0B9A7B01D8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1"/>
          <p:cNvSpPr/>
          <p:nvPr/>
        </p:nvSpPr>
        <p:spPr>
          <a:xfrm rot="5400000">
            <a:off x="699624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2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3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6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Oval 7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1"/>
          </p:nvPr>
        </p:nvSpPr>
        <p:spPr>
          <a:xfrm>
            <a:off x="8786520" y="268200"/>
            <a:ext cx="2004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2"/>
          </p:nvPr>
        </p:nvSpPr>
        <p:spPr>
          <a:xfrm>
            <a:off x="8129520" y="5733720"/>
            <a:ext cx="60336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F14C3D4-F9D0-4781-BBD1-ED9AE4E47641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2"/>
          <p:cNvSpPr/>
          <p:nvPr/>
        </p:nvSpPr>
        <p:spPr>
          <a:xfrm rot="5400000">
            <a:off x="699624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Oval 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6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Line 7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3"/>
          </p:nvPr>
        </p:nvSpPr>
        <p:spPr>
          <a:xfrm>
            <a:off x="8786520" y="268200"/>
            <a:ext cx="2004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3720"/>
            <a:ext cx="60336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103D9A8-6F77-450F-80E3-6E660D40E977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12"/>
          <p:cNvSpPr/>
          <p:nvPr/>
        </p:nvSpPr>
        <p:spPr>
          <a:xfrm rot="5400000">
            <a:off x="699624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37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1"/>
          <p:cNvSpPr/>
          <p:nvPr/>
        </p:nvSpPr>
        <p:spPr>
          <a:xfrm>
            <a:off x="2571840" y="3429000"/>
            <a:ext cx="6172200" cy="1785960"/>
          </a:xfrm>
          <a:prstGeom prst="rect">
            <a:avLst/>
          </a:prstGeom>
          <a:solidFill>
            <a:srgbClr val="fe863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entury Schoolbook"/>
              </a:rPr>
              <a:t>ОСТОРОЖНО, УЛИЦА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3924360" y="276120"/>
            <a:ext cx="2928960" cy="2928960"/>
          </a:xfrm>
          <a:prstGeom prst="rect">
            <a:avLst/>
          </a:prstGeom>
          <a:ln w="9360">
            <a:solidFill>
              <a:srgbClr val="fe8637"/>
            </a:solidFill>
            <a:miter/>
          </a:ln>
        </p:spPr>
      </p:pic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5111640" y="5616720"/>
            <a:ext cx="3384720" cy="85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39840" algn="ctr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Schoolbook"/>
              </a:rPr>
              <a:t>Составила: Бочкарёва Галина Александровна</a:t>
            </a:r>
            <a:endParaRPr b="0" lang="en-US" sz="15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1"/>
          <p:cNvSpPr/>
          <p:nvPr/>
        </p:nvSpPr>
        <p:spPr>
          <a:xfrm>
            <a:off x="2357280" y="4286160"/>
            <a:ext cx="6172200" cy="1859040"/>
          </a:xfrm>
          <a:prstGeom prst="rect">
            <a:avLst/>
          </a:prstGeom>
          <a:noFill/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700" spc="-1" strike="noStrike">
                <a:solidFill>
                  <a:srgbClr val="fff39d"/>
                </a:solidFill>
                <a:latin typeface="Century Schoolbook"/>
              </a:rPr>
              <a:t>И у светофора можно встретить опасность!!!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0" name="Picture 2" descr=""/>
          <p:cNvPicPr/>
          <p:nvPr/>
        </p:nvPicPr>
        <p:blipFill>
          <a:blip r:embed="rId1"/>
          <a:stretch/>
        </p:blipFill>
        <p:spPr>
          <a:xfrm>
            <a:off x="2357280" y="285840"/>
            <a:ext cx="6000840" cy="3840120"/>
          </a:xfrm>
          <a:prstGeom prst="rect">
            <a:avLst/>
          </a:prstGeom>
          <a:ln w="9360">
            <a:solidFill>
              <a:srgbClr val="fe8637"/>
            </a:solidFill>
            <a:miter/>
          </a:ln>
        </p:spPr>
      </p:pic>
      <p:sp>
        <p:nvSpPr>
          <p:cNvPr id="461" name="Rectangle 3"/>
          <p:cNvSpPr/>
          <p:nvPr/>
        </p:nvSpPr>
        <p:spPr>
          <a:xfrm>
            <a:off x="357120" y="5786280"/>
            <a:ext cx="6000840" cy="76464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Если погас зеленый сигнал для пешехода – нужно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остановиться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WordArt 1"/>
          <p:cNvSpPr txBox="1"/>
          <p:nvPr/>
        </p:nvSpPr>
        <p:spPr>
          <a:xfrm>
            <a:off x="2556000" y="1989000"/>
            <a:ext cx="4440240" cy="185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44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7598d9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Детям знать положено</a:t>
            </a:r>
            <a:endParaRPr b="0" lang="en-US" sz="1800" spc="1" strike="noStrike">
              <a:ln w="9360">
                <a:solidFill>
                  <a:srgbClr val="7598d9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7598d9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Правила дорожные!</a:t>
            </a:r>
            <a:endParaRPr b="0" lang="en-US" sz="1800" spc="1" strike="noStrike">
              <a:ln w="9360">
                <a:solidFill>
                  <a:srgbClr val="7598d9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7598d9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Ты, дружок, доверься им:</a:t>
            </a:r>
            <a:endParaRPr b="0" lang="en-US" sz="1800" spc="1" strike="noStrike">
              <a:ln w="9360">
                <a:solidFill>
                  <a:srgbClr val="7598d9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7598d9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Будешь цел и невредим!</a:t>
            </a:r>
            <a:endParaRPr b="0" lang="en-US" sz="1800" spc="1" strike="noStrike">
              <a:ln w="9360">
                <a:solidFill>
                  <a:srgbClr val="7598d9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</p:txBody>
      </p:sp>
      <p:sp>
        <p:nvSpPr>
          <p:cNvPr id="463" name="AutoShape 2"/>
          <p:cNvSpPr/>
          <p:nvPr/>
        </p:nvSpPr>
        <p:spPr>
          <a:xfrm>
            <a:off x="228600" y="4876920"/>
            <a:ext cx="8705880" cy="914400"/>
          </a:xfrm>
          <a:custGeom>
            <a:avLst/>
            <a:gdLst>
              <a:gd name="textAreaLeft" fmla="*/ 0 w 8705880"/>
              <a:gd name="textAreaRight" fmla="*/ 8706240 w 87058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5484" h="576">
                <a:moveTo>
                  <a:pt x="5484" y="501"/>
                </a:moveTo>
                <a:lnTo>
                  <a:pt x="5277" y="280"/>
                </a:lnTo>
                <a:lnTo>
                  <a:pt x="5146" y="247"/>
                </a:lnTo>
                <a:lnTo>
                  <a:pt x="5000" y="209"/>
                </a:lnTo>
                <a:lnTo>
                  <a:pt x="4837" y="170"/>
                </a:lnTo>
                <a:lnTo>
                  <a:pt x="4664" y="128"/>
                </a:lnTo>
                <a:lnTo>
                  <a:pt x="4484" y="89"/>
                </a:lnTo>
                <a:lnTo>
                  <a:pt x="4295" y="55"/>
                </a:lnTo>
                <a:lnTo>
                  <a:pt x="4105" y="28"/>
                </a:lnTo>
                <a:lnTo>
                  <a:pt x="3914" y="8"/>
                </a:lnTo>
                <a:lnTo>
                  <a:pt x="3731" y="0"/>
                </a:lnTo>
                <a:lnTo>
                  <a:pt x="3549" y="8"/>
                </a:lnTo>
                <a:lnTo>
                  <a:pt x="3376" y="28"/>
                </a:lnTo>
                <a:lnTo>
                  <a:pt x="3214" y="69"/>
                </a:lnTo>
                <a:lnTo>
                  <a:pt x="3070" y="128"/>
                </a:lnTo>
                <a:lnTo>
                  <a:pt x="2938" y="211"/>
                </a:lnTo>
                <a:lnTo>
                  <a:pt x="2829" y="322"/>
                </a:lnTo>
                <a:lnTo>
                  <a:pt x="2743" y="460"/>
                </a:lnTo>
                <a:lnTo>
                  <a:pt x="2665" y="322"/>
                </a:lnTo>
                <a:lnTo>
                  <a:pt x="2558" y="217"/>
                </a:lnTo>
                <a:lnTo>
                  <a:pt x="2430" y="132"/>
                </a:lnTo>
                <a:lnTo>
                  <a:pt x="2287" y="73"/>
                </a:lnTo>
                <a:lnTo>
                  <a:pt x="2127" y="36"/>
                </a:lnTo>
                <a:lnTo>
                  <a:pt x="1954" y="12"/>
                </a:lnTo>
                <a:lnTo>
                  <a:pt x="1770" y="8"/>
                </a:lnTo>
                <a:lnTo>
                  <a:pt x="1583" y="12"/>
                </a:lnTo>
                <a:lnTo>
                  <a:pt x="1390" y="34"/>
                </a:lnTo>
                <a:lnTo>
                  <a:pt x="1203" y="59"/>
                </a:lnTo>
                <a:lnTo>
                  <a:pt x="1010" y="93"/>
                </a:lnTo>
                <a:lnTo>
                  <a:pt x="828" y="132"/>
                </a:lnTo>
                <a:lnTo>
                  <a:pt x="651" y="170"/>
                </a:lnTo>
                <a:lnTo>
                  <a:pt x="488" y="211"/>
                </a:lnTo>
                <a:lnTo>
                  <a:pt x="339" y="247"/>
                </a:lnTo>
                <a:lnTo>
                  <a:pt x="208" y="280"/>
                </a:lnTo>
                <a:lnTo>
                  <a:pt x="0" y="501"/>
                </a:lnTo>
                <a:lnTo>
                  <a:pt x="26" y="501"/>
                </a:lnTo>
                <a:lnTo>
                  <a:pt x="102" y="499"/>
                </a:lnTo>
                <a:lnTo>
                  <a:pt x="217" y="497"/>
                </a:lnTo>
                <a:lnTo>
                  <a:pt x="364" y="491"/>
                </a:lnTo>
                <a:lnTo>
                  <a:pt x="544" y="487"/>
                </a:lnTo>
                <a:lnTo>
                  <a:pt x="742" y="482"/>
                </a:lnTo>
                <a:lnTo>
                  <a:pt x="955" y="478"/>
                </a:lnTo>
                <a:lnTo>
                  <a:pt x="1173" y="470"/>
                </a:lnTo>
                <a:lnTo>
                  <a:pt x="1394" y="464"/>
                </a:lnTo>
                <a:lnTo>
                  <a:pt x="1608" y="460"/>
                </a:lnTo>
                <a:lnTo>
                  <a:pt x="1812" y="450"/>
                </a:lnTo>
                <a:lnTo>
                  <a:pt x="1994" y="446"/>
                </a:lnTo>
                <a:lnTo>
                  <a:pt x="2147" y="440"/>
                </a:lnTo>
                <a:lnTo>
                  <a:pt x="2270" y="436"/>
                </a:lnTo>
                <a:lnTo>
                  <a:pt x="2356" y="432"/>
                </a:lnTo>
                <a:lnTo>
                  <a:pt x="2392" y="428"/>
                </a:lnTo>
                <a:lnTo>
                  <a:pt x="2428" y="430"/>
                </a:lnTo>
                <a:lnTo>
                  <a:pt x="2456" y="448"/>
                </a:lnTo>
                <a:lnTo>
                  <a:pt x="2461" y="468"/>
                </a:lnTo>
                <a:lnTo>
                  <a:pt x="2441" y="478"/>
                </a:lnTo>
                <a:lnTo>
                  <a:pt x="2412" y="491"/>
                </a:lnTo>
                <a:lnTo>
                  <a:pt x="2401" y="525"/>
                </a:lnTo>
                <a:lnTo>
                  <a:pt x="2410" y="560"/>
                </a:lnTo>
                <a:lnTo>
                  <a:pt x="2441" y="576"/>
                </a:lnTo>
                <a:lnTo>
                  <a:pt x="2743" y="576"/>
                </a:lnTo>
                <a:lnTo>
                  <a:pt x="3045" y="576"/>
                </a:lnTo>
                <a:lnTo>
                  <a:pt x="3078" y="560"/>
                </a:lnTo>
                <a:lnTo>
                  <a:pt x="3085" y="525"/>
                </a:lnTo>
                <a:lnTo>
                  <a:pt x="3072" y="491"/>
                </a:lnTo>
                <a:lnTo>
                  <a:pt x="3045" y="478"/>
                </a:lnTo>
                <a:lnTo>
                  <a:pt x="3023" y="468"/>
                </a:lnTo>
                <a:lnTo>
                  <a:pt x="3029" y="448"/>
                </a:lnTo>
                <a:lnTo>
                  <a:pt x="3056" y="430"/>
                </a:lnTo>
                <a:lnTo>
                  <a:pt x="3094" y="428"/>
                </a:lnTo>
                <a:lnTo>
                  <a:pt x="3132" y="432"/>
                </a:lnTo>
                <a:lnTo>
                  <a:pt x="3214" y="436"/>
                </a:lnTo>
                <a:lnTo>
                  <a:pt x="3336" y="440"/>
                </a:lnTo>
                <a:lnTo>
                  <a:pt x="3492" y="446"/>
                </a:lnTo>
                <a:lnTo>
                  <a:pt x="3678" y="450"/>
                </a:lnTo>
                <a:lnTo>
                  <a:pt x="3878" y="460"/>
                </a:lnTo>
                <a:lnTo>
                  <a:pt x="4089" y="464"/>
                </a:lnTo>
                <a:lnTo>
                  <a:pt x="4313" y="470"/>
                </a:lnTo>
                <a:lnTo>
                  <a:pt x="4533" y="478"/>
                </a:lnTo>
                <a:lnTo>
                  <a:pt x="4746" y="482"/>
                </a:lnTo>
                <a:lnTo>
                  <a:pt x="4944" y="487"/>
                </a:lnTo>
                <a:lnTo>
                  <a:pt x="5120" y="491"/>
                </a:lnTo>
                <a:lnTo>
                  <a:pt x="5269" y="497"/>
                </a:lnTo>
                <a:lnTo>
                  <a:pt x="5384" y="499"/>
                </a:lnTo>
                <a:lnTo>
                  <a:pt x="5459" y="501"/>
                </a:lnTo>
                <a:lnTo>
                  <a:pt x="5484" y="501"/>
                </a:lnTo>
                <a:close/>
              </a:path>
            </a:pathLst>
          </a:custGeom>
          <a:solidFill>
            <a:srgbClr val="ffffe1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AutoShape 3"/>
          <p:cNvSpPr/>
          <p:nvPr/>
        </p:nvSpPr>
        <p:spPr>
          <a:xfrm>
            <a:off x="4648320" y="838080"/>
            <a:ext cx="4022640" cy="4745160"/>
          </a:xfrm>
          <a:custGeom>
            <a:avLst/>
            <a:gdLst>
              <a:gd name="textAreaLeft" fmla="*/ 0 w 4022640"/>
              <a:gd name="textAreaRight" fmla="*/ 4023000 w 4022640"/>
              <a:gd name="textAreaTop" fmla="*/ 0 h 4745160"/>
              <a:gd name="textAreaBottom" fmla="*/ 4745520 h 4745160"/>
            </a:gdLst>
            <a:ahLst/>
            <a:rect l="textAreaLeft" t="textAreaTop" r="textAreaRight" b="textAreaBottom"/>
            <a:pathLst>
              <a:path w="2534" h="2989">
                <a:moveTo>
                  <a:pt x="0" y="280"/>
                </a:moveTo>
                <a:lnTo>
                  <a:pt x="0" y="2989"/>
                </a:lnTo>
                <a:lnTo>
                  <a:pt x="86" y="2851"/>
                </a:lnTo>
                <a:lnTo>
                  <a:pt x="195" y="2740"/>
                </a:lnTo>
                <a:lnTo>
                  <a:pt x="327" y="2657"/>
                </a:lnTo>
                <a:lnTo>
                  <a:pt x="471" y="2598"/>
                </a:lnTo>
                <a:lnTo>
                  <a:pt x="633" y="2557"/>
                </a:lnTo>
                <a:lnTo>
                  <a:pt x="806" y="2537"/>
                </a:lnTo>
                <a:lnTo>
                  <a:pt x="988" y="2529"/>
                </a:lnTo>
                <a:lnTo>
                  <a:pt x="1171" y="2537"/>
                </a:lnTo>
                <a:lnTo>
                  <a:pt x="1362" y="2557"/>
                </a:lnTo>
                <a:lnTo>
                  <a:pt x="1552" y="2584"/>
                </a:lnTo>
                <a:lnTo>
                  <a:pt x="1741" y="2618"/>
                </a:lnTo>
                <a:lnTo>
                  <a:pt x="1921" y="2657"/>
                </a:lnTo>
                <a:lnTo>
                  <a:pt x="2094" y="2699"/>
                </a:lnTo>
                <a:lnTo>
                  <a:pt x="2257" y="2738"/>
                </a:lnTo>
                <a:lnTo>
                  <a:pt x="2403" y="2776"/>
                </a:lnTo>
                <a:lnTo>
                  <a:pt x="2534" y="2809"/>
                </a:lnTo>
                <a:lnTo>
                  <a:pt x="1426" y="132"/>
                </a:lnTo>
                <a:lnTo>
                  <a:pt x="1337" y="110"/>
                </a:lnTo>
                <a:lnTo>
                  <a:pt x="1244" y="88"/>
                </a:lnTo>
                <a:lnTo>
                  <a:pt x="1153" y="67"/>
                </a:lnTo>
                <a:lnTo>
                  <a:pt x="1060" y="49"/>
                </a:lnTo>
                <a:lnTo>
                  <a:pt x="966" y="27"/>
                </a:lnTo>
                <a:lnTo>
                  <a:pt x="873" y="15"/>
                </a:lnTo>
                <a:lnTo>
                  <a:pt x="779" y="4"/>
                </a:lnTo>
                <a:lnTo>
                  <a:pt x="688" y="0"/>
                </a:lnTo>
                <a:lnTo>
                  <a:pt x="597" y="2"/>
                </a:lnTo>
                <a:lnTo>
                  <a:pt x="506" y="12"/>
                </a:lnTo>
                <a:lnTo>
                  <a:pt x="417" y="27"/>
                </a:lnTo>
                <a:lnTo>
                  <a:pt x="329" y="59"/>
                </a:lnTo>
                <a:lnTo>
                  <a:pt x="242" y="94"/>
                </a:lnTo>
                <a:lnTo>
                  <a:pt x="160" y="142"/>
                </a:lnTo>
                <a:lnTo>
                  <a:pt x="76" y="203"/>
                </a:lnTo>
                <a:lnTo>
                  <a:pt x="0" y="28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AutoShape 4"/>
          <p:cNvSpPr/>
          <p:nvPr/>
        </p:nvSpPr>
        <p:spPr>
          <a:xfrm>
            <a:off x="609480" y="838080"/>
            <a:ext cx="4024440" cy="5104080"/>
          </a:xfrm>
          <a:custGeom>
            <a:avLst/>
            <a:gdLst>
              <a:gd name="textAreaLeft" fmla="*/ 0 w 4024440"/>
              <a:gd name="textAreaRight" fmla="*/ 4024800 w 4024440"/>
              <a:gd name="textAreaTop" fmla="*/ 0 h 5104080"/>
              <a:gd name="textAreaBottom" fmla="*/ 5104440 h 5104080"/>
            </a:gdLst>
            <a:ahLst/>
            <a:rect l="textAreaLeft" t="textAreaTop" r="textAreaRight" b="textAreaBottom"/>
            <a:pathLst>
              <a:path w="2535" h="2989">
                <a:moveTo>
                  <a:pt x="2535" y="280"/>
                </a:moveTo>
                <a:lnTo>
                  <a:pt x="2453" y="203"/>
                </a:lnTo>
                <a:lnTo>
                  <a:pt x="2371" y="142"/>
                </a:lnTo>
                <a:lnTo>
                  <a:pt x="2288" y="96"/>
                </a:lnTo>
                <a:lnTo>
                  <a:pt x="2202" y="59"/>
                </a:lnTo>
                <a:lnTo>
                  <a:pt x="2115" y="27"/>
                </a:lnTo>
                <a:lnTo>
                  <a:pt x="2028" y="12"/>
                </a:lnTo>
                <a:lnTo>
                  <a:pt x="1937" y="2"/>
                </a:lnTo>
                <a:lnTo>
                  <a:pt x="1846" y="0"/>
                </a:lnTo>
                <a:lnTo>
                  <a:pt x="1753" y="4"/>
                </a:lnTo>
                <a:lnTo>
                  <a:pt x="1662" y="15"/>
                </a:lnTo>
                <a:lnTo>
                  <a:pt x="1569" y="29"/>
                </a:lnTo>
                <a:lnTo>
                  <a:pt x="1477" y="49"/>
                </a:lnTo>
                <a:lnTo>
                  <a:pt x="1384" y="67"/>
                </a:lnTo>
                <a:lnTo>
                  <a:pt x="1291" y="88"/>
                </a:lnTo>
                <a:lnTo>
                  <a:pt x="1202" y="114"/>
                </a:lnTo>
                <a:lnTo>
                  <a:pt x="1111" y="134"/>
                </a:lnTo>
                <a:lnTo>
                  <a:pt x="0" y="2809"/>
                </a:lnTo>
                <a:lnTo>
                  <a:pt x="131" y="2776"/>
                </a:lnTo>
                <a:lnTo>
                  <a:pt x="280" y="2740"/>
                </a:lnTo>
                <a:lnTo>
                  <a:pt x="443" y="2699"/>
                </a:lnTo>
                <a:lnTo>
                  <a:pt x="620" y="2661"/>
                </a:lnTo>
                <a:lnTo>
                  <a:pt x="802" y="2622"/>
                </a:lnTo>
                <a:lnTo>
                  <a:pt x="995" y="2588"/>
                </a:lnTo>
                <a:lnTo>
                  <a:pt x="1182" y="2563"/>
                </a:lnTo>
                <a:lnTo>
                  <a:pt x="1375" y="2541"/>
                </a:lnTo>
                <a:lnTo>
                  <a:pt x="1562" y="2537"/>
                </a:lnTo>
                <a:lnTo>
                  <a:pt x="1746" y="2541"/>
                </a:lnTo>
                <a:lnTo>
                  <a:pt x="1919" y="2565"/>
                </a:lnTo>
                <a:lnTo>
                  <a:pt x="2079" y="2602"/>
                </a:lnTo>
                <a:lnTo>
                  <a:pt x="2222" y="2661"/>
                </a:lnTo>
                <a:lnTo>
                  <a:pt x="2350" y="2746"/>
                </a:lnTo>
                <a:lnTo>
                  <a:pt x="2457" y="2851"/>
                </a:lnTo>
                <a:lnTo>
                  <a:pt x="2535" y="2989"/>
                </a:lnTo>
                <a:lnTo>
                  <a:pt x="2535" y="28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AutoShape 5"/>
          <p:cNvSpPr/>
          <p:nvPr/>
        </p:nvSpPr>
        <p:spPr>
          <a:xfrm>
            <a:off x="6872400" y="1039680"/>
            <a:ext cx="2087280" cy="4600800"/>
          </a:xfrm>
          <a:custGeom>
            <a:avLst/>
            <a:gdLst>
              <a:gd name="textAreaLeft" fmla="*/ 0 w 2087280"/>
              <a:gd name="textAreaRight" fmla="*/ 2087280 w 2087280"/>
              <a:gd name="textAreaTop" fmla="*/ 0 h 4600800"/>
              <a:gd name="textAreaBottom" fmla="*/ 4601160 h 4600800"/>
            </a:gdLst>
            <a:ahLst/>
            <a:rect l="textAreaLeft" t="textAreaTop" r="textAreaRight" b="textAreaBottom"/>
            <a:pathLst>
              <a:path w="1315" h="2898">
                <a:moveTo>
                  <a:pt x="0" y="0"/>
                </a:moveTo>
                <a:lnTo>
                  <a:pt x="1108" y="2677"/>
                </a:lnTo>
                <a:lnTo>
                  <a:pt x="1315" y="2898"/>
                </a:lnTo>
                <a:lnTo>
                  <a:pt x="115" y="132"/>
                </a:lnTo>
                <a:lnTo>
                  <a:pt x="85" y="132"/>
                </a:lnTo>
                <a:lnTo>
                  <a:pt x="0" y="0"/>
                </a:lnTo>
                <a:close/>
              </a:path>
            </a:pathLst>
          </a:custGeom>
          <a:solidFill>
            <a:srgbClr val="ffffe1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AutoShape 6"/>
          <p:cNvSpPr/>
          <p:nvPr/>
        </p:nvSpPr>
        <p:spPr>
          <a:xfrm>
            <a:off x="254160" y="1042920"/>
            <a:ext cx="2093760" cy="4597560"/>
          </a:xfrm>
          <a:custGeom>
            <a:avLst/>
            <a:gdLst>
              <a:gd name="textAreaLeft" fmla="*/ 0 w 2093760"/>
              <a:gd name="textAreaRight" fmla="*/ 2094120 w 2093760"/>
              <a:gd name="textAreaTop" fmla="*/ 0 h 4597560"/>
              <a:gd name="textAreaBottom" fmla="*/ 4597920 h 4597560"/>
            </a:gdLst>
            <a:ahLst/>
            <a:rect l="textAreaLeft" t="textAreaTop" r="textAreaRight" b="textAreaBottom"/>
            <a:pathLst>
              <a:path w="1319" h="2896">
                <a:moveTo>
                  <a:pt x="0" y="2896"/>
                </a:moveTo>
                <a:lnTo>
                  <a:pt x="208" y="2675"/>
                </a:lnTo>
                <a:lnTo>
                  <a:pt x="1319" y="0"/>
                </a:lnTo>
                <a:lnTo>
                  <a:pt x="1232" y="130"/>
                </a:lnTo>
                <a:lnTo>
                  <a:pt x="1204" y="130"/>
                </a:lnTo>
                <a:lnTo>
                  <a:pt x="0" y="2896"/>
                </a:lnTo>
                <a:close/>
              </a:path>
            </a:pathLst>
          </a:custGeom>
          <a:solidFill>
            <a:srgbClr val="ffffe1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AutoShape 7"/>
          <p:cNvSpPr/>
          <p:nvPr/>
        </p:nvSpPr>
        <p:spPr>
          <a:xfrm>
            <a:off x="225360" y="795240"/>
            <a:ext cx="8763120" cy="4996080"/>
          </a:xfrm>
          <a:custGeom>
            <a:avLst/>
            <a:gdLst>
              <a:gd name="textAreaLeft" fmla="*/ 0 w 8763120"/>
              <a:gd name="textAreaRight" fmla="*/ 8763480 w 8763120"/>
              <a:gd name="textAreaTop" fmla="*/ 0 h 4996080"/>
              <a:gd name="textAreaBottom" fmla="*/ 4996440 h 4996080"/>
            </a:gdLst>
            <a:ahLst/>
            <a:rect l="textAreaLeft" t="textAreaTop" r="textAreaRight" b="textAreaBottom"/>
            <a:pathLst>
              <a:path w="5520" h="3147">
                <a:moveTo>
                  <a:pt x="2761" y="326"/>
                </a:moveTo>
                <a:lnTo>
                  <a:pt x="2770" y="318"/>
                </a:lnTo>
                <a:lnTo>
                  <a:pt x="2848" y="241"/>
                </a:lnTo>
                <a:lnTo>
                  <a:pt x="2932" y="183"/>
                </a:lnTo>
                <a:lnTo>
                  <a:pt x="3010" y="136"/>
                </a:lnTo>
                <a:lnTo>
                  <a:pt x="3098" y="99"/>
                </a:lnTo>
                <a:lnTo>
                  <a:pt x="3179" y="71"/>
                </a:lnTo>
                <a:lnTo>
                  <a:pt x="3267" y="51"/>
                </a:lnTo>
                <a:lnTo>
                  <a:pt x="3358" y="45"/>
                </a:lnTo>
                <a:lnTo>
                  <a:pt x="3449" y="41"/>
                </a:lnTo>
                <a:lnTo>
                  <a:pt x="3540" y="49"/>
                </a:lnTo>
                <a:lnTo>
                  <a:pt x="3632" y="59"/>
                </a:lnTo>
                <a:lnTo>
                  <a:pt x="3725" y="71"/>
                </a:lnTo>
                <a:lnTo>
                  <a:pt x="3818" y="89"/>
                </a:lnTo>
                <a:lnTo>
                  <a:pt x="3909" y="109"/>
                </a:lnTo>
                <a:lnTo>
                  <a:pt x="4001" y="130"/>
                </a:lnTo>
                <a:lnTo>
                  <a:pt x="4094" y="154"/>
                </a:lnTo>
                <a:lnTo>
                  <a:pt x="4180" y="172"/>
                </a:lnTo>
                <a:lnTo>
                  <a:pt x="4256" y="296"/>
                </a:lnTo>
                <a:lnTo>
                  <a:pt x="4272" y="306"/>
                </a:lnTo>
                <a:lnTo>
                  <a:pt x="4293" y="306"/>
                </a:lnTo>
                <a:lnTo>
                  <a:pt x="5473" y="3033"/>
                </a:lnTo>
                <a:lnTo>
                  <a:pt x="5402" y="3031"/>
                </a:lnTo>
                <a:lnTo>
                  <a:pt x="5287" y="3029"/>
                </a:lnTo>
                <a:lnTo>
                  <a:pt x="5138" y="3023"/>
                </a:lnTo>
                <a:lnTo>
                  <a:pt x="4962" y="3019"/>
                </a:lnTo>
                <a:lnTo>
                  <a:pt x="4764" y="3015"/>
                </a:lnTo>
                <a:lnTo>
                  <a:pt x="4551" y="3007"/>
                </a:lnTo>
                <a:lnTo>
                  <a:pt x="4331" y="3001"/>
                </a:lnTo>
                <a:lnTo>
                  <a:pt x="4107" y="2995"/>
                </a:lnTo>
                <a:lnTo>
                  <a:pt x="3896" y="2987"/>
                </a:lnTo>
                <a:lnTo>
                  <a:pt x="3696" y="2981"/>
                </a:lnTo>
                <a:lnTo>
                  <a:pt x="3510" y="2975"/>
                </a:lnTo>
                <a:lnTo>
                  <a:pt x="3354" y="2969"/>
                </a:lnTo>
                <a:lnTo>
                  <a:pt x="3232" y="2964"/>
                </a:lnTo>
                <a:lnTo>
                  <a:pt x="3150" y="2960"/>
                </a:lnTo>
                <a:lnTo>
                  <a:pt x="3116" y="2958"/>
                </a:lnTo>
                <a:lnTo>
                  <a:pt x="3070" y="2960"/>
                </a:lnTo>
                <a:lnTo>
                  <a:pt x="3034" y="2983"/>
                </a:lnTo>
                <a:lnTo>
                  <a:pt x="3025" y="3031"/>
                </a:lnTo>
                <a:lnTo>
                  <a:pt x="3063" y="3048"/>
                </a:lnTo>
                <a:lnTo>
                  <a:pt x="3079" y="3058"/>
                </a:lnTo>
                <a:lnTo>
                  <a:pt x="3085" y="3076"/>
                </a:lnTo>
                <a:lnTo>
                  <a:pt x="3081" y="3098"/>
                </a:lnTo>
                <a:lnTo>
                  <a:pt x="3063" y="3106"/>
                </a:lnTo>
                <a:lnTo>
                  <a:pt x="2761" y="3106"/>
                </a:lnTo>
                <a:lnTo>
                  <a:pt x="2459" y="3106"/>
                </a:lnTo>
                <a:lnTo>
                  <a:pt x="2441" y="3098"/>
                </a:lnTo>
                <a:lnTo>
                  <a:pt x="2441" y="3076"/>
                </a:lnTo>
                <a:lnTo>
                  <a:pt x="2445" y="3058"/>
                </a:lnTo>
                <a:lnTo>
                  <a:pt x="2459" y="3048"/>
                </a:lnTo>
                <a:lnTo>
                  <a:pt x="2499" y="3031"/>
                </a:lnTo>
                <a:lnTo>
                  <a:pt x="2490" y="2983"/>
                </a:lnTo>
                <a:lnTo>
                  <a:pt x="2452" y="2960"/>
                </a:lnTo>
                <a:lnTo>
                  <a:pt x="2405" y="2958"/>
                </a:lnTo>
                <a:lnTo>
                  <a:pt x="2374" y="2960"/>
                </a:lnTo>
                <a:lnTo>
                  <a:pt x="2288" y="2964"/>
                </a:lnTo>
                <a:lnTo>
                  <a:pt x="2165" y="2969"/>
                </a:lnTo>
                <a:lnTo>
                  <a:pt x="2012" y="2975"/>
                </a:lnTo>
                <a:lnTo>
                  <a:pt x="1830" y="2981"/>
                </a:lnTo>
                <a:lnTo>
                  <a:pt x="1626" y="2987"/>
                </a:lnTo>
                <a:lnTo>
                  <a:pt x="1412" y="2995"/>
                </a:lnTo>
                <a:lnTo>
                  <a:pt x="1191" y="3001"/>
                </a:lnTo>
                <a:lnTo>
                  <a:pt x="973" y="3007"/>
                </a:lnTo>
                <a:lnTo>
                  <a:pt x="760" y="3015"/>
                </a:lnTo>
                <a:lnTo>
                  <a:pt x="562" y="3019"/>
                </a:lnTo>
                <a:lnTo>
                  <a:pt x="382" y="3023"/>
                </a:lnTo>
                <a:lnTo>
                  <a:pt x="235" y="3029"/>
                </a:lnTo>
                <a:lnTo>
                  <a:pt x="120" y="3031"/>
                </a:lnTo>
                <a:lnTo>
                  <a:pt x="47" y="3033"/>
                </a:lnTo>
                <a:lnTo>
                  <a:pt x="1231" y="306"/>
                </a:lnTo>
                <a:lnTo>
                  <a:pt x="1250" y="306"/>
                </a:lnTo>
                <a:lnTo>
                  <a:pt x="1268" y="296"/>
                </a:lnTo>
                <a:lnTo>
                  <a:pt x="1348" y="172"/>
                </a:lnTo>
                <a:lnTo>
                  <a:pt x="1432" y="154"/>
                </a:lnTo>
                <a:lnTo>
                  <a:pt x="1521" y="132"/>
                </a:lnTo>
                <a:lnTo>
                  <a:pt x="1615" y="110"/>
                </a:lnTo>
                <a:lnTo>
                  <a:pt x="1706" y="89"/>
                </a:lnTo>
                <a:lnTo>
                  <a:pt x="1797" y="71"/>
                </a:lnTo>
                <a:lnTo>
                  <a:pt x="1892" y="61"/>
                </a:lnTo>
                <a:lnTo>
                  <a:pt x="1979" y="49"/>
                </a:lnTo>
                <a:lnTo>
                  <a:pt x="2072" y="45"/>
                </a:lnTo>
                <a:lnTo>
                  <a:pt x="2163" y="45"/>
                </a:lnTo>
                <a:lnTo>
                  <a:pt x="2252" y="53"/>
                </a:lnTo>
                <a:lnTo>
                  <a:pt x="2339" y="71"/>
                </a:lnTo>
                <a:lnTo>
                  <a:pt x="2423" y="99"/>
                </a:lnTo>
                <a:lnTo>
                  <a:pt x="2508" y="136"/>
                </a:lnTo>
                <a:lnTo>
                  <a:pt x="2590" y="183"/>
                </a:lnTo>
                <a:lnTo>
                  <a:pt x="2667" y="241"/>
                </a:lnTo>
                <a:lnTo>
                  <a:pt x="2748" y="316"/>
                </a:lnTo>
                <a:lnTo>
                  <a:pt x="2761" y="328"/>
                </a:lnTo>
                <a:lnTo>
                  <a:pt x="2759" y="326"/>
                </a:lnTo>
                <a:lnTo>
                  <a:pt x="2759" y="274"/>
                </a:lnTo>
                <a:lnTo>
                  <a:pt x="2692" y="211"/>
                </a:lnTo>
                <a:lnTo>
                  <a:pt x="2612" y="146"/>
                </a:lnTo>
                <a:lnTo>
                  <a:pt x="2525" y="97"/>
                </a:lnTo>
                <a:lnTo>
                  <a:pt x="2437" y="59"/>
                </a:lnTo>
                <a:lnTo>
                  <a:pt x="2346" y="32"/>
                </a:lnTo>
                <a:lnTo>
                  <a:pt x="2255" y="14"/>
                </a:lnTo>
                <a:lnTo>
                  <a:pt x="2163" y="4"/>
                </a:lnTo>
                <a:lnTo>
                  <a:pt x="2072" y="2"/>
                </a:lnTo>
                <a:lnTo>
                  <a:pt x="1979" y="6"/>
                </a:lnTo>
                <a:lnTo>
                  <a:pt x="1886" y="18"/>
                </a:lnTo>
                <a:lnTo>
                  <a:pt x="1793" y="32"/>
                </a:lnTo>
                <a:lnTo>
                  <a:pt x="1699" y="49"/>
                </a:lnTo>
                <a:lnTo>
                  <a:pt x="1606" y="71"/>
                </a:lnTo>
                <a:lnTo>
                  <a:pt x="1515" y="91"/>
                </a:lnTo>
                <a:lnTo>
                  <a:pt x="1424" y="116"/>
                </a:lnTo>
                <a:lnTo>
                  <a:pt x="1333" y="136"/>
                </a:lnTo>
                <a:lnTo>
                  <a:pt x="1321" y="146"/>
                </a:lnTo>
                <a:lnTo>
                  <a:pt x="1242" y="266"/>
                </a:lnTo>
                <a:lnTo>
                  <a:pt x="1222" y="264"/>
                </a:lnTo>
                <a:lnTo>
                  <a:pt x="1206" y="276"/>
                </a:lnTo>
                <a:lnTo>
                  <a:pt x="0" y="3046"/>
                </a:lnTo>
                <a:lnTo>
                  <a:pt x="18" y="3076"/>
                </a:lnTo>
                <a:lnTo>
                  <a:pt x="44" y="3074"/>
                </a:lnTo>
                <a:lnTo>
                  <a:pt x="120" y="3070"/>
                </a:lnTo>
                <a:lnTo>
                  <a:pt x="235" y="3068"/>
                </a:lnTo>
                <a:lnTo>
                  <a:pt x="382" y="3064"/>
                </a:lnTo>
                <a:lnTo>
                  <a:pt x="562" y="3058"/>
                </a:lnTo>
                <a:lnTo>
                  <a:pt x="760" y="3056"/>
                </a:lnTo>
                <a:lnTo>
                  <a:pt x="973" y="3048"/>
                </a:lnTo>
                <a:lnTo>
                  <a:pt x="1191" y="3042"/>
                </a:lnTo>
                <a:lnTo>
                  <a:pt x="1412" y="3037"/>
                </a:lnTo>
                <a:lnTo>
                  <a:pt x="1626" y="3031"/>
                </a:lnTo>
                <a:lnTo>
                  <a:pt x="1830" y="3023"/>
                </a:lnTo>
                <a:lnTo>
                  <a:pt x="2012" y="3019"/>
                </a:lnTo>
                <a:lnTo>
                  <a:pt x="2165" y="3011"/>
                </a:lnTo>
                <a:lnTo>
                  <a:pt x="2288" y="3007"/>
                </a:lnTo>
                <a:lnTo>
                  <a:pt x="2374" y="3003"/>
                </a:lnTo>
                <a:lnTo>
                  <a:pt x="2412" y="2999"/>
                </a:lnTo>
                <a:lnTo>
                  <a:pt x="2445" y="3001"/>
                </a:lnTo>
                <a:lnTo>
                  <a:pt x="2459" y="3007"/>
                </a:lnTo>
                <a:lnTo>
                  <a:pt x="2417" y="3031"/>
                </a:lnTo>
                <a:lnTo>
                  <a:pt x="2399" y="3076"/>
                </a:lnTo>
                <a:lnTo>
                  <a:pt x="2414" y="3127"/>
                </a:lnTo>
                <a:lnTo>
                  <a:pt x="2459" y="3147"/>
                </a:lnTo>
                <a:lnTo>
                  <a:pt x="2761" y="3147"/>
                </a:lnTo>
                <a:lnTo>
                  <a:pt x="3063" y="3147"/>
                </a:lnTo>
                <a:lnTo>
                  <a:pt x="3110" y="3127"/>
                </a:lnTo>
                <a:lnTo>
                  <a:pt x="3125" y="3076"/>
                </a:lnTo>
                <a:lnTo>
                  <a:pt x="3107" y="3031"/>
                </a:lnTo>
                <a:lnTo>
                  <a:pt x="3063" y="3007"/>
                </a:lnTo>
                <a:lnTo>
                  <a:pt x="3076" y="3001"/>
                </a:lnTo>
                <a:lnTo>
                  <a:pt x="3110" y="2999"/>
                </a:lnTo>
                <a:lnTo>
                  <a:pt x="3148" y="3003"/>
                </a:lnTo>
                <a:lnTo>
                  <a:pt x="3232" y="3007"/>
                </a:lnTo>
                <a:lnTo>
                  <a:pt x="3354" y="3011"/>
                </a:lnTo>
                <a:lnTo>
                  <a:pt x="3510" y="3019"/>
                </a:lnTo>
                <a:lnTo>
                  <a:pt x="3696" y="3023"/>
                </a:lnTo>
                <a:lnTo>
                  <a:pt x="3896" y="3031"/>
                </a:lnTo>
                <a:lnTo>
                  <a:pt x="4107" y="3037"/>
                </a:lnTo>
                <a:lnTo>
                  <a:pt x="4331" y="3042"/>
                </a:lnTo>
                <a:lnTo>
                  <a:pt x="4551" y="3048"/>
                </a:lnTo>
                <a:lnTo>
                  <a:pt x="4764" y="3056"/>
                </a:lnTo>
                <a:lnTo>
                  <a:pt x="4962" y="3058"/>
                </a:lnTo>
                <a:lnTo>
                  <a:pt x="5138" y="3064"/>
                </a:lnTo>
                <a:lnTo>
                  <a:pt x="5287" y="3068"/>
                </a:lnTo>
                <a:lnTo>
                  <a:pt x="5402" y="3070"/>
                </a:lnTo>
                <a:lnTo>
                  <a:pt x="5477" y="3074"/>
                </a:lnTo>
                <a:lnTo>
                  <a:pt x="5502" y="3076"/>
                </a:lnTo>
                <a:lnTo>
                  <a:pt x="5520" y="3046"/>
                </a:lnTo>
                <a:lnTo>
                  <a:pt x="4322" y="276"/>
                </a:lnTo>
                <a:lnTo>
                  <a:pt x="4302" y="264"/>
                </a:lnTo>
                <a:lnTo>
                  <a:pt x="4283" y="264"/>
                </a:lnTo>
                <a:lnTo>
                  <a:pt x="4200" y="142"/>
                </a:lnTo>
                <a:lnTo>
                  <a:pt x="4192" y="136"/>
                </a:lnTo>
                <a:lnTo>
                  <a:pt x="4102" y="112"/>
                </a:lnTo>
                <a:lnTo>
                  <a:pt x="4009" y="89"/>
                </a:lnTo>
                <a:lnTo>
                  <a:pt x="3918" y="71"/>
                </a:lnTo>
                <a:lnTo>
                  <a:pt x="3823" y="49"/>
                </a:lnTo>
                <a:lnTo>
                  <a:pt x="3729" y="30"/>
                </a:lnTo>
                <a:lnTo>
                  <a:pt x="3636" y="18"/>
                </a:lnTo>
                <a:lnTo>
                  <a:pt x="3540" y="6"/>
                </a:lnTo>
                <a:lnTo>
                  <a:pt x="3449" y="0"/>
                </a:lnTo>
                <a:lnTo>
                  <a:pt x="3358" y="2"/>
                </a:lnTo>
                <a:lnTo>
                  <a:pt x="3263" y="12"/>
                </a:lnTo>
                <a:lnTo>
                  <a:pt x="3176" y="30"/>
                </a:lnTo>
                <a:lnTo>
                  <a:pt x="3083" y="59"/>
                </a:lnTo>
                <a:lnTo>
                  <a:pt x="2994" y="95"/>
                </a:lnTo>
                <a:lnTo>
                  <a:pt x="2910" y="146"/>
                </a:lnTo>
                <a:lnTo>
                  <a:pt x="2825" y="211"/>
                </a:lnTo>
                <a:lnTo>
                  <a:pt x="2759" y="274"/>
                </a:lnTo>
                <a:lnTo>
                  <a:pt x="2761" y="326"/>
                </a:lnTo>
                <a:close/>
              </a:path>
            </a:pathLst>
          </a:custGeom>
          <a:solidFill>
            <a:srgbClr val="ff0000"/>
          </a:solidFill>
          <a:ln w="3240">
            <a:solidFill>
              <a:srgbClr val="8001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AutoShape 8"/>
          <p:cNvSpPr/>
          <p:nvPr/>
        </p:nvSpPr>
        <p:spPr>
          <a:xfrm>
            <a:off x="228600" y="762120"/>
            <a:ext cx="8763120" cy="4995720"/>
          </a:xfrm>
          <a:custGeom>
            <a:avLst/>
            <a:gdLst>
              <a:gd name="textAreaLeft" fmla="*/ 0 w 8763120"/>
              <a:gd name="textAreaRight" fmla="*/ 8763480 w 8763120"/>
              <a:gd name="textAreaTop" fmla="*/ 0 h 4995720"/>
              <a:gd name="textAreaBottom" fmla="*/ 4996080 h 4995720"/>
            </a:gdLst>
            <a:ahLst/>
            <a:rect l="textAreaLeft" t="textAreaTop" r="textAreaRight" b="textAreaBottom"/>
            <a:pathLst>
              <a:path w="5520" h="3147">
                <a:moveTo>
                  <a:pt x="2761" y="326"/>
                </a:moveTo>
                <a:lnTo>
                  <a:pt x="2770" y="318"/>
                </a:lnTo>
                <a:lnTo>
                  <a:pt x="2848" y="241"/>
                </a:lnTo>
                <a:lnTo>
                  <a:pt x="2932" y="183"/>
                </a:lnTo>
                <a:lnTo>
                  <a:pt x="3010" y="136"/>
                </a:lnTo>
                <a:lnTo>
                  <a:pt x="3098" y="99"/>
                </a:lnTo>
                <a:lnTo>
                  <a:pt x="3179" y="71"/>
                </a:lnTo>
                <a:lnTo>
                  <a:pt x="3267" y="51"/>
                </a:lnTo>
                <a:lnTo>
                  <a:pt x="3358" y="45"/>
                </a:lnTo>
                <a:lnTo>
                  <a:pt x="3449" y="41"/>
                </a:lnTo>
                <a:lnTo>
                  <a:pt x="3540" y="49"/>
                </a:lnTo>
                <a:lnTo>
                  <a:pt x="3632" y="59"/>
                </a:lnTo>
                <a:lnTo>
                  <a:pt x="3725" y="71"/>
                </a:lnTo>
                <a:lnTo>
                  <a:pt x="3818" y="89"/>
                </a:lnTo>
                <a:lnTo>
                  <a:pt x="3909" y="109"/>
                </a:lnTo>
                <a:lnTo>
                  <a:pt x="4001" y="130"/>
                </a:lnTo>
                <a:lnTo>
                  <a:pt x="4094" y="154"/>
                </a:lnTo>
                <a:lnTo>
                  <a:pt x="4180" y="172"/>
                </a:lnTo>
                <a:lnTo>
                  <a:pt x="4256" y="296"/>
                </a:lnTo>
                <a:lnTo>
                  <a:pt x="4272" y="306"/>
                </a:lnTo>
                <a:lnTo>
                  <a:pt x="4293" y="306"/>
                </a:lnTo>
                <a:lnTo>
                  <a:pt x="5473" y="3033"/>
                </a:lnTo>
                <a:lnTo>
                  <a:pt x="5402" y="3031"/>
                </a:lnTo>
                <a:lnTo>
                  <a:pt x="5287" y="3029"/>
                </a:lnTo>
                <a:lnTo>
                  <a:pt x="5138" y="3023"/>
                </a:lnTo>
                <a:lnTo>
                  <a:pt x="4962" y="3019"/>
                </a:lnTo>
                <a:lnTo>
                  <a:pt x="4764" y="3015"/>
                </a:lnTo>
                <a:lnTo>
                  <a:pt x="4551" y="3007"/>
                </a:lnTo>
                <a:lnTo>
                  <a:pt x="4331" y="3001"/>
                </a:lnTo>
                <a:lnTo>
                  <a:pt x="4107" y="2995"/>
                </a:lnTo>
                <a:lnTo>
                  <a:pt x="3896" y="2987"/>
                </a:lnTo>
                <a:lnTo>
                  <a:pt x="3696" y="2981"/>
                </a:lnTo>
                <a:lnTo>
                  <a:pt x="3510" y="2975"/>
                </a:lnTo>
                <a:lnTo>
                  <a:pt x="3354" y="2969"/>
                </a:lnTo>
                <a:lnTo>
                  <a:pt x="3232" y="2964"/>
                </a:lnTo>
                <a:lnTo>
                  <a:pt x="3150" y="2960"/>
                </a:lnTo>
                <a:lnTo>
                  <a:pt x="3116" y="2958"/>
                </a:lnTo>
                <a:lnTo>
                  <a:pt x="3070" y="2960"/>
                </a:lnTo>
                <a:lnTo>
                  <a:pt x="3034" y="2983"/>
                </a:lnTo>
                <a:lnTo>
                  <a:pt x="3025" y="3031"/>
                </a:lnTo>
                <a:lnTo>
                  <a:pt x="3063" y="3048"/>
                </a:lnTo>
                <a:lnTo>
                  <a:pt x="3079" y="3058"/>
                </a:lnTo>
                <a:lnTo>
                  <a:pt x="3085" y="3076"/>
                </a:lnTo>
                <a:lnTo>
                  <a:pt x="3081" y="3098"/>
                </a:lnTo>
                <a:lnTo>
                  <a:pt x="3063" y="3106"/>
                </a:lnTo>
                <a:lnTo>
                  <a:pt x="2761" y="3106"/>
                </a:lnTo>
                <a:lnTo>
                  <a:pt x="2459" y="3106"/>
                </a:lnTo>
                <a:lnTo>
                  <a:pt x="2441" y="3098"/>
                </a:lnTo>
                <a:lnTo>
                  <a:pt x="2441" y="3076"/>
                </a:lnTo>
                <a:lnTo>
                  <a:pt x="2445" y="3058"/>
                </a:lnTo>
                <a:lnTo>
                  <a:pt x="2459" y="3048"/>
                </a:lnTo>
                <a:lnTo>
                  <a:pt x="2499" y="3031"/>
                </a:lnTo>
                <a:lnTo>
                  <a:pt x="2490" y="2983"/>
                </a:lnTo>
                <a:lnTo>
                  <a:pt x="2452" y="2960"/>
                </a:lnTo>
                <a:lnTo>
                  <a:pt x="2405" y="2958"/>
                </a:lnTo>
                <a:lnTo>
                  <a:pt x="2374" y="2960"/>
                </a:lnTo>
                <a:lnTo>
                  <a:pt x="2288" y="2964"/>
                </a:lnTo>
                <a:lnTo>
                  <a:pt x="2165" y="2969"/>
                </a:lnTo>
                <a:lnTo>
                  <a:pt x="2012" y="2975"/>
                </a:lnTo>
                <a:lnTo>
                  <a:pt x="1830" y="2981"/>
                </a:lnTo>
                <a:lnTo>
                  <a:pt x="1626" y="2987"/>
                </a:lnTo>
                <a:lnTo>
                  <a:pt x="1412" y="2995"/>
                </a:lnTo>
                <a:lnTo>
                  <a:pt x="1191" y="3001"/>
                </a:lnTo>
                <a:lnTo>
                  <a:pt x="973" y="3007"/>
                </a:lnTo>
                <a:lnTo>
                  <a:pt x="760" y="3015"/>
                </a:lnTo>
                <a:lnTo>
                  <a:pt x="562" y="3019"/>
                </a:lnTo>
                <a:lnTo>
                  <a:pt x="382" y="3023"/>
                </a:lnTo>
                <a:lnTo>
                  <a:pt x="235" y="3029"/>
                </a:lnTo>
                <a:lnTo>
                  <a:pt x="120" y="3031"/>
                </a:lnTo>
                <a:lnTo>
                  <a:pt x="47" y="3033"/>
                </a:lnTo>
                <a:lnTo>
                  <a:pt x="1231" y="306"/>
                </a:lnTo>
                <a:lnTo>
                  <a:pt x="1250" y="306"/>
                </a:lnTo>
                <a:lnTo>
                  <a:pt x="1268" y="296"/>
                </a:lnTo>
                <a:lnTo>
                  <a:pt x="1348" y="172"/>
                </a:lnTo>
                <a:lnTo>
                  <a:pt x="1432" y="154"/>
                </a:lnTo>
                <a:lnTo>
                  <a:pt x="1521" y="132"/>
                </a:lnTo>
                <a:lnTo>
                  <a:pt x="1615" y="110"/>
                </a:lnTo>
                <a:lnTo>
                  <a:pt x="1706" y="89"/>
                </a:lnTo>
                <a:lnTo>
                  <a:pt x="1797" y="71"/>
                </a:lnTo>
                <a:lnTo>
                  <a:pt x="1892" y="61"/>
                </a:lnTo>
                <a:lnTo>
                  <a:pt x="1979" y="49"/>
                </a:lnTo>
                <a:lnTo>
                  <a:pt x="2072" y="45"/>
                </a:lnTo>
                <a:lnTo>
                  <a:pt x="2163" y="45"/>
                </a:lnTo>
                <a:lnTo>
                  <a:pt x="2252" y="53"/>
                </a:lnTo>
                <a:lnTo>
                  <a:pt x="2339" y="71"/>
                </a:lnTo>
                <a:lnTo>
                  <a:pt x="2423" y="99"/>
                </a:lnTo>
                <a:lnTo>
                  <a:pt x="2508" y="136"/>
                </a:lnTo>
                <a:lnTo>
                  <a:pt x="2590" y="183"/>
                </a:lnTo>
                <a:lnTo>
                  <a:pt x="2667" y="241"/>
                </a:lnTo>
                <a:lnTo>
                  <a:pt x="2748" y="316"/>
                </a:lnTo>
                <a:lnTo>
                  <a:pt x="2761" y="328"/>
                </a:lnTo>
                <a:lnTo>
                  <a:pt x="2759" y="326"/>
                </a:lnTo>
                <a:lnTo>
                  <a:pt x="2759" y="274"/>
                </a:lnTo>
                <a:lnTo>
                  <a:pt x="2692" y="211"/>
                </a:lnTo>
                <a:lnTo>
                  <a:pt x="2612" y="146"/>
                </a:lnTo>
                <a:lnTo>
                  <a:pt x="2525" y="97"/>
                </a:lnTo>
                <a:lnTo>
                  <a:pt x="2437" y="59"/>
                </a:lnTo>
                <a:lnTo>
                  <a:pt x="2346" y="32"/>
                </a:lnTo>
                <a:lnTo>
                  <a:pt x="2255" y="14"/>
                </a:lnTo>
                <a:lnTo>
                  <a:pt x="2163" y="4"/>
                </a:lnTo>
                <a:lnTo>
                  <a:pt x="2072" y="2"/>
                </a:lnTo>
                <a:lnTo>
                  <a:pt x="1979" y="6"/>
                </a:lnTo>
                <a:lnTo>
                  <a:pt x="1886" y="18"/>
                </a:lnTo>
                <a:lnTo>
                  <a:pt x="1793" y="32"/>
                </a:lnTo>
                <a:lnTo>
                  <a:pt x="1699" y="49"/>
                </a:lnTo>
                <a:lnTo>
                  <a:pt x="1606" y="71"/>
                </a:lnTo>
                <a:lnTo>
                  <a:pt x="1515" y="91"/>
                </a:lnTo>
                <a:lnTo>
                  <a:pt x="1424" y="116"/>
                </a:lnTo>
                <a:lnTo>
                  <a:pt x="1333" y="136"/>
                </a:lnTo>
                <a:lnTo>
                  <a:pt x="1321" y="146"/>
                </a:lnTo>
                <a:lnTo>
                  <a:pt x="1242" y="266"/>
                </a:lnTo>
                <a:lnTo>
                  <a:pt x="1222" y="264"/>
                </a:lnTo>
                <a:lnTo>
                  <a:pt x="1206" y="276"/>
                </a:lnTo>
                <a:lnTo>
                  <a:pt x="0" y="3046"/>
                </a:lnTo>
                <a:lnTo>
                  <a:pt x="18" y="3076"/>
                </a:lnTo>
                <a:lnTo>
                  <a:pt x="44" y="3074"/>
                </a:lnTo>
                <a:lnTo>
                  <a:pt x="120" y="3070"/>
                </a:lnTo>
                <a:lnTo>
                  <a:pt x="235" y="3068"/>
                </a:lnTo>
                <a:lnTo>
                  <a:pt x="382" y="3064"/>
                </a:lnTo>
                <a:lnTo>
                  <a:pt x="562" y="3058"/>
                </a:lnTo>
                <a:lnTo>
                  <a:pt x="760" y="3056"/>
                </a:lnTo>
                <a:lnTo>
                  <a:pt x="973" y="3048"/>
                </a:lnTo>
                <a:lnTo>
                  <a:pt x="1191" y="3042"/>
                </a:lnTo>
                <a:lnTo>
                  <a:pt x="1412" y="3037"/>
                </a:lnTo>
                <a:lnTo>
                  <a:pt x="1626" y="3031"/>
                </a:lnTo>
                <a:lnTo>
                  <a:pt x="1830" y="3023"/>
                </a:lnTo>
                <a:lnTo>
                  <a:pt x="2012" y="3019"/>
                </a:lnTo>
                <a:lnTo>
                  <a:pt x="2165" y="3011"/>
                </a:lnTo>
                <a:lnTo>
                  <a:pt x="2288" y="3007"/>
                </a:lnTo>
                <a:lnTo>
                  <a:pt x="2374" y="3003"/>
                </a:lnTo>
                <a:lnTo>
                  <a:pt x="2412" y="2999"/>
                </a:lnTo>
                <a:lnTo>
                  <a:pt x="2445" y="3001"/>
                </a:lnTo>
                <a:lnTo>
                  <a:pt x="2459" y="3007"/>
                </a:lnTo>
                <a:lnTo>
                  <a:pt x="2417" y="3031"/>
                </a:lnTo>
                <a:lnTo>
                  <a:pt x="2399" y="3076"/>
                </a:lnTo>
                <a:lnTo>
                  <a:pt x="2414" y="3127"/>
                </a:lnTo>
                <a:lnTo>
                  <a:pt x="2459" y="3147"/>
                </a:lnTo>
                <a:lnTo>
                  <a:pt x="2761" y="3147"/>
                </a:lnTo>
                <a:lnTo>
                  <a:pt x="3063" y="3147"/>
                </a:lnTo>
                <a:lnTo>
                  <a:pt x="3110" y="3127"/>
                </a:lnTo>
                <a:lnTo>
                  <a:pt x="3125" y="3076"/>
                </a:lnTo>
                <a:lnTo>
                  <a:pt x="3107" y="3031"/>
                </a:lnTo>
                <a:lnTo>
                  <a:pt x="3063" y="3007"/>
                </a:lnTo>
                <a:lnTo>
                  <a:pt x="3076" y="3001"/>
                </a:lnTo>
                <a:lnTo>
                  <a:pt x="3110" y="2999"/>
                </a:lnTo>
                <a:lnTo>
                  <a:pt x="3148" y="3003"/>
                </a:lnTo>
                <a:lnTo>
                  <a:pt x="3232" y="3007"/>
                </a:lnTo>
                <a:lnTo>
                  <a:pt x="3354" y="3011"/>
                </a:lnTo>
                <a:lnTo>
                  <a:pt x="3510" y="3019"/>
                </a:lnTo>
                <a:lnTo>
                  <a:pt x="3696" y="3023"/>
                </a:lnTo>
                <a:lnTo>
                  <a:pt x="3896" y="3031"/>
                </a:lnTo>
                <a:lnTo>
                  <a:pt x="4107" y="3037"/>
                </a:lnTo>
                <a:lnTo>
                  <a:pt x="4331" y="3042"/>
                </a:lnTo>
                <a:lnTo>
                  <a:pt x="4551" y="3048"/>
                </a:lnTo>
                <a:lnTo>
                  <a:pt x="4764" y="3056"/>
                </a:lnTo>
                <a:lnTo>
                  <a:pt x="4962" y="3058"/>
                </a:lnTo>
                <a:lnTo>
                  <a:pt x="5138" y="3064"/>
                </a:lnTo>
                <a:lnTo>
                  <a:pt x="5287" y="3068"/>
                </a:lnTo>
                <a:lnTo>
                  <a:pt x="5402" y="3070"/>
                </a:lnTo>
                <a:lnTo>
                  <a:pt x="5477" y="3074"/>
                </a:lnTo>
                <a:lnTo>
                  <a:pt x="5502" y="3076"/>
                </a:lnTo>
                <a:lnTo>
                  <a:pt x="5520" y="3046"/>
                </a:lnTo>
                <a:lnTo>
                  <a:pt x="4322" y="276"/>
                </a:lnTo>
                <a:lnTo>
                  <a:pt x="4302" y="264"/>
                </a:lnTo>
                <a:lnTo>
                  <a:pt x="4283" y="264"/>
                </a:lnTo>
                <a:lnTo>
                  <a:pt x="4200" y="142"/>
                </a:lnTo>
                <a:lnTo>
                  <a:pt x="4192" y="136"/>
                </a:lnTo>
                <a:lnTo>
                  <a:pt x="4102" y="112"/>
                </a:lnTo>
                <a:lnTo>
                  <a:pt x="4009" y="89"/>
                </a:lnTo>
                <a:lnTo>
                  <a:pt x="3918" y="71"/>
                </a:lnTo>
                <a:lnTo>
                  <a:pt x="3823" y="49"/>
                </a:lnTo>
                <a:lnTo>
                  <a:pt x="3729" y="30"/>
                </a:lnTo>
                <a:lnTo>
                  <a:pt x="3636" y="18"/>
                </a:lnTo>
                <a:lnTo>
                  <a:pt x="3540" y="6"/>
                </a:lnTo>
                <a:lnTo>
                  <a:pt x="3449" y="0"/>
                </a:lnTo>
                <a:lnTo>
                  <a:pt x="3358" y="2"/>
                </a:lnTo>
                <a:lnTo>
                  <a:pt x="3263" y="12"/>
                </a:lnTo>
                <a:lnTo>
                  <a:pt x="3176" y="30"/>
                </a:lnTo>
                <a:lnTo>
                  <a:pt x="3083" y="59"/>
                </a:lnTo>
                <a:lnTo>
                  <a:pt x="2994" y="95"/>
                </a:lnTo>
                <a:lnTo>
                  <a:pt x="2910" y="146"/>
                </a:lnTo>
                <a:lnTo>
                  <a:pt x="2825" y="211"/>
                </a:lnTo>
                <a:lnTo>
                  <a:pt x="2759" y="274"/>
                </a:lnTo>
                <a:lnTo>
                  <a:pt x="2761" y="326"/>
                </a:lnTo>
                <a:close/>
              </a:path>
            </a:pathLst>
          </a:custGeom>
          <a:solidFill>
            <a:srgbClr val="ff0000"/>
          </a:solidFill>
          <a:ln w="3240">
            <a:solidFill>
              <a:srgbClr val="8001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0" name="Picture 9" descr=""/>
          <p:cNvPicPr/>
          <p:nvPr/>
        </p:nvPicPr>
        <p:blipFill>
          <a:blip r:embed="rId1"/>
          <a:stretch/>
        </p:blipFill>
        <p:spPr>
          <a:xfrm>
            <a:off x="6659640" y="4365720"/>
            <a:ext cx="1747800" cy="213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3"/>
          <p:cNvSpPr/>
          <p:nvPr/>
        </p:nvSpPr>
        <p:spPr>
          <a:xfrm>
            <a:off x="1374840" y="1143000"/>
            <a:ext cx="515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00cc"/>
                </a:solidFill>
                <a:latin typeface="Arial"/>
              </a:rPr>
              <a:t>«Дисциплина на улице – залог безопасности!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8" name="Picture 4" descr=""/>
          <p:cNvPicPr/>
          <p:nvPr/>
        </p:nvPicPr>
        <p:blipFill>
          <a:blip r:embed="rId3"/>
          <a:stretch/>
        </p:blipFill>
        <p:spPr>
          <a:xfrm>
            <a:off x="6357960" y="3857760"/>
            <a:ext cx="1608120" cy="22683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5" descr=""/>
          <p:cNvPicPr/>
          <p:nvPr/>
        </p:nvPicPr>
        <p:blipFill>
          <a:blip r:embed="rId4"/>
          <a:stretch/>
        </p:blipFill>
        <p:spPr>
          <a:xfrm>
            <a:off x="1571760" y="4214880"/>
            <a:ext cx="1152360" cy="187164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6"/>
          <p:cNvSpPr/>
          <p:nvPr/>
        </p:nvSpPr>
        <p:spPr>
          <a:xfrm>
            <a:off x="1357200" y="2000160"/>
            <a:ext cx="6715080" cy="178596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entury Schoolbook"/>
              </a:rPr>
              <a:t>ОСТОРОЖНО, УЛИЦА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Picture 7" descr=""/>
          <p:cNvPicPr/>
          <p:nvPr/>
        </p:nvPicPr>
        <p:blipFill>
          <a:blip r:embed="rId5"/>
          <a:stretch/>
        </p:blipFill>
        <p:spPr>
          <a:xfrm>
            <a:off x="3643200" y="4071960"/>
            <a:ext cx="2000520" cy="2000160"/>
          </a:xfrm>
          <a:prstGeom prst="rect">
            <a:avLst/>
          </a:prstGeom>
          <a:ln w="9360">
            <a:solidFill>
              <a:srgbClr val="fe8637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1.0000054168701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71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71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1"/>
          <p:cNvSpPr/>
          <p:nvPr/>
        </p:nvSpPr>
        <p:spPr>
          <a:xfrm>
            <a:off x="2143080" y="-106200"/>
            <a:ext cx="6172200" cy="1555560"/>
          </a:xfrm>
          <a:prstGeom prst="rect">
            <a:avLst/>
          </a:prstGeom>
          <a:solidFill>
            <a:srgbClr val="e75c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f39d"/>
                </a:solidFill>
                <a:latin typeface="Century Schoolbook"/>
              </a:rPr>
              <a:t>ДОРОЖНЫЕ ЗНАК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3714840" y="1928880"/>
            <a:ext cx="3071880" cy="40957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"/>
          <p:cNvPicPr/>
          <p:nvPr/>
        </p:nvPicPr>
        <p:blipFill>
          <a:blip r:embed="rId2"/>
          <a:stretch/>
        </p:blipFill>
        <p:spPr>
          <a:xfrm>
            <a:off x="3714840" y="2000160"/>
            <a:ext cx="3000240" cy="40006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"/>
          <p:cNvPicPr/>
          <p:nvPr/>
        </p:nvPicPr>
        <p:blipFill>
          <a:blip r:embed="rId3"/>
          <a:stretch/>
        </p:blipFill>
        <p:spPr>
          <a:xfrm>
            <a:off x="3786120" y="2000160"/>
            <a:ext cx="2927520" cy="39038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5" descr=""/>
          <p:cNvPicPr/>
          <p:nvPr/>
        </p:nvPicPr>
        <p:blipFill>
          <a:blip r:embed="rId4"/>
          <a:stretch/>
        </p:blipFill>
        <p:spPr>
          <a:xfrm>
            <a:off x="3714840" y="2000160"/>
            <a:ext cx="3000240" cy="40006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6" descr=""/>
          <p:cNvPicPr/>
          <p:nvPr/>
        </p:nvPicPr>
        <p:blipFill>
          <a:blip r:embed="rId5"/>
          <a:stretch/>
        </p:blipFill>
        <p:spPr>
          <a:xfrm>
            <a:off x="3786120" y="2000160"/>
            <a:ext cx="2928960" cy="3905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7" descr=""/>
          <p:cNvPicPr/>
          <p:nvPr/>
        </p:nvPicPr>
        <p:blipFill>
          <a:blip r:embed="rId6"/>
          <a:stretch/>
        </p:blipFill>
        <p:spPr>
          <a:xfrm>
            <a:off x="3714840" y="1928880"/>
            <a:ext cx="3000240" cy="40003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8" descr=""/>
          <p:cNvPicPr/>
          <p:nvPr/>
        </p:nvPicPr>
        <p:blipFill>
          <a:blip r:embed="rId7"/>
          <a:stretch/>
        </p:blipFill>
        <p:spPr>
          <a:xfrm>
            <a:off x="3714840" y="2000160"/>
            <a:ext cx="3071880" cy="40957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"/>
          <p:cNvPicPr/>
          <p:nvPr/>
        </p:nvPicPr>
        <p:blipFill>
          <a:blip r:embed="rId8"/>
          <a:stretch/>
        </p:blipFill>
        <p:spPr>
          <a:xfrm>
            <a:off x="3714840" y="2000160"/>
            <a:ext cx="3071880" cy="409572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0" descr=""/>
          <p:cNvPicPr/>
          <p:nvPr/>
        </p:nvPicPr>
        <p:blipFill>
          <a:blip r:embed="rId9"/>
          <a:stretch/>
        </p:blipFill>
        <p:spPr>
          <a:xfrm>
            <a:off x="3786120" y="2000160"/>
            <a:ext cx="3000600" cy="40006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11" descr=""/>
          <p:cNvPicPr/>
          <p:nvPr/>
        </p:nvPicPr>
        <p:blipFill>
          <a:blip r:embed="rId10"/>
          <a:stretch/>
        </p:blipFill>
        <p:spPr>
          <a:xfrm>
            <a:off x="3714840" y="2000160"/>
            <a:ext cx="3000240" cy="40006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2" descr=""/>
          <p:cNvPicPr/>
          <p:nvPr/>
        </p:nvPicPr>
        <p:blipFill>
          <a:blip r:embed="rId11"/>
          <a:stretch/>
        </p:blipFill>
        <p:spPr>
          <a:xfrm>
            <a:off x="3714840" y="2071800"/>
            <a:ext cx="3000240" cy="400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1"/>
          <p:cNvSpPr/>
          <p:nvPr/>
        </p:nvSpPr>
        <p:spPr>
          <a:xfrm>
            <a:off x="2357280" y="500040"/>
            <a:ext cx="6172200" cy="61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Schoolbook"/>
              </a:rPr>
              <a:t>Предупреждающ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Schoolbook"/>
              </a:rPr>
              <a:t>Запрещающ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Schoolbook"/>
              </a:rPr>
              <a:t>Предписывающ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Schoolbook"/>
              </a:rPr>
              <a:t>Информационно-указательны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Schoolbook"/>
              </a:rPr>
              <a:t>Приоритет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Schoolbook"/>
              </a:rPr>
              <a:t>Сервис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Schoolbook"/>
              </a:rPr>
              <a:t>Дополнительной информа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5" name="Picture 2" descr=""/>
          <p:cNvPicPr/>
          <p:nvPr/>
        </p:nvPicPr>
        <p:blipFill>
          <a:blip r:embed="rId1"/>
          <a:stretch/>
        </p:blipFill>
        <p:spPr>
          <a:xfrm>
            <a:off x="2357280" y="203040"/>
            <a:ext cx="5214960" cy="665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1"/>
          <p:cNvSpPr/>
          <p:nvPr/>
        </p:nvSpPr>
        <p:spPr>
          <a:xfrm>
            <a:off x="457200" y="301680"/>
            <a:ext cx="8229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ЭТО СВЕТОФОР – ОН РЕГУЛИРУЕТ ДВИЖЕНИЕ ТРАНСПОРТА И ПЕШЕХОДОВ НА ДОРОГ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7" name="Group 2"/>
          <p:cNvGrpSpPr/>
          <p:nvPr/>
        </p:nvGrpSpPr>
        <p:grpSpPr>
          <a:xfrm>
            <a:off x="3962520" y="1371600"/>
            <a:ext cx="1365120" cy="5175360"/>
            <a:chOff x="3962520" y="1371600"/>
            <a:chExt cx="1365120" cy="5175360"/>
          </a:xfrm>
        </p:grpSpPr>
        <p:grpSp>
          <p:nvGrpSpPr>
            <p:cNvPr id="388" name="Group 3"/>
            <p:cNvGrpSpPr/>
            <p:nvPr/>
          </p:nvGrpSpPr>
          <p:grpSpPr>
            <a:xfrm>
              <a:off x="3962520" y="1371600"/>
              <a:ext cx="1365120" cy="3340440"/>
              <a:chOff x="3962520" y="1371600"/>
              <a:chExt cx="1365120" cy="3340440"/>
            </a:xfrm>
          </p:grpSpPr>
          <p:sp>
            <p:nvSpPr>
              <p:cNvPr id="389" name="Rectangle 4"/>
              <p:cNvSpPr/>
              <p:nvPr/>
            </p:nvSpPr>
            <p:spPr>
              <a:xfrm>
                <a:off x="3962520" y="1371600"/>
                <a:ext cx="1365120" cy="33404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Oval 5"/>
              <p:cNvSpPr/>
              <p:nvPr/>
            </p:nvSpPr>
            <p:spPr>
              <a:xfrm>
                <a:off x="4260960" y="1603080"/>
                <a:ext cx="768240" cy="6980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Oval 6"/>
              <p:cNvSpPr/>
              <p:nvPr/>
            </p:nvSpPr>
            <p:spPr>
              <a:xfrm>
                <a:off x="4260960" y="2544120"/>
                <a:ext cx="768240" cy="698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Oval 7"/>
              <p:cNvSpPr/>
              <p:nvPr/>
            </p:nvSpPr>
            <p:spPr>
              <a:xfrm>
                <a:off x="4260960" y="3542760"/>
                <a:ext cx="768240" cy="698040"/>
              </a:xfrm>
              <a:prstGeom prst="ellipse">
                <a:avLst/>
              </a:prstGeom>
              <a:solidFill>
                <a:srgbClr val="33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3" name="Line 8"/>
            <p:cNvSpPr/>
            <p:nvPr/>
          </p:nvSpPr>
          <p:spPr>
            <a:xfrm flipH="1">
              <a:off x="4108320" y="6546960"/>
              <a:ext cx="99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Rectangle 9"/>
            <p:cNvSpPr/>
            <p:nvPr/>
          </p:nvSpPr>
          <p:spPr>
            <a:xfrm>
              <a:off x="4419720" y="4718520"/>
              <a:ext cx="450720" cy="1820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95" name="Picture 10" descr=""/>
          <p:cNvPicPr/>
          <p:nvPr/>
        </p:nvPicPr>
        <p:blipFill>
          <a:blip r:embed="rId1"/>
          <a:stretch/>
        </p:blipFill>
        <p:spPr>
          <a:xfrm>
            <a:off x="8610480" y="-533520"/>
            <a:ext cx="233640" cy="2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1"/>
          <p:cNvSpPr/>
          <p:nvPr/>
        </p:nvSpPr>
        <p:spPr>
          <a:xfrm>
            <a:off x="304920" y="152280"/>
            <a:ext cx="85341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КОГДА ГОРИТ КРАСНЫЙ СИГНАЛ СВЕТОФОРА, НАДО ОСТАНОВИТЬ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Rectangle 2"/>
          <p:cNvSpPr/>
          <p:nvPr/>
        </p:nvSpPr>
        <p:spPr>
          <a:xfrm>
            <a:off x="3886200" y="1752480"/>
            <a:ext cx="1066680" cy="2859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Oval 3"/>
          <p:cNvSpPr/>
          <p:nvPr/>
        </p:nvSpPr>
        <p:spPr>
          <a:xfrm>
            <a:off x="4118040" y="1951200"/>
            <a:ext cx="603360" cy="601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Oval 4"/>
          <p:cNvSpPr/>
          <p:nvPr/>
        </p:nvSpPr>
        <p:spPr>
          <a:xfrm>
            <a:off x="4114800" y="3657600"/>
            <a:ext cx="603360" cy="60156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Line 5"/>
          <p:cNvSpPr/>
          <p:nvPr/>
        </p:nvSpPr>
        <p:spPr>
          <a:xfrm flipH="1">
            <a:off x="3998880" y="6172200"/>
            <a:ext cx="78264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6"/>
          <p:cNvSpPr/>
          <p:nvPr/>
        </p:nvSpPr>
        <p:spPr>
          <a:xfrm>
            <a:off x="4241880" y="4611600"/>
            <a:ext cx="355680" cy="15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Oval 7"/>
          <p:cNvSpPr/>
          <p:nvPr/>
        </p:nvSpPr>
        <p:spPr>
          <a:xfrm>
            <a:off x="4114800" y="2819520"/>
            <a:ext cx="603360" cy="60156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3" name="Picture 8" descr=""/>
          <p:cNvPicPr/>
          <p:nvPr/>
        </p:nvPicPr>
        <p:blipFill>
          <a:blip r:embed="rId1"/>
          <a:stretch/>
        </p:blipFill>
        <p:spPr>
          <a:xfrm>
            <a:off x="8910720" y="-7621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1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1"/>
          <p:cNvSpPr/>
          <p:nvPr/>
        </p:nvSpPr>
        <p:spPr>
          <a:xfrm>
            <a:off x="457200" y="27468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ЖЕЛТЫЙ СИГНАЛ СВЕТОФОРА ГОВОРИТ НАМ О ТОМ, ЧТО НУЖНО ПРИГОТОВИТЬ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2"/>
          <p:cNvSpPr/>
          <p:nvPr/>
        </p:nvSpPr>
        <p:spPr>
          <a:xfrm>
            <a:off x="3733920" y="1676520"/>
            <a:ext cx="1143000" cy="290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Oval 3"/>
          <p:cNvSpPr/>
          <p:nvPr/>
        </p:nvSpPr>
        <p:spPr>
          <a:xfrm>
            <a:off x="3983040" y="1878120"/>
            <a:ext cx="644400" cy="6109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Oval 4"/>
          <p:cNvSpPr/>
          <p:nvPr/>
        </p:nvSpPr>
        <p:spPr>
          <a:xfrm>
            <a:off x="3983040" y="2693880"/>
            <a:ext cx="644400" cy="612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Oval 5"/>
          <p:cNvSpPr/>
          <p:nvPr/>
        </p:nvSpPr>
        <p:spPr>
          <a:xfrm>
            <a:off x="3983040" y="3560760"/>
            <a:ext cx="644400" cy="6127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Line 6"/>
          <p:cNvSpPr/>
          <p:nvPr/>
        </p:nvSpPr>
        <p:spPr>
          <a:xfrm flipH="1">
            <a:off x="3854520" y="6172200"/>
            <a:ext cx="83808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Rectangle 7"/>
          <p:cNvSpPr/>
          <p:nvPr/>
        </p:nvSpPr>
        <p:spPr>
          <a:xfrm>
            <a:off x="4114800" y="4584600"/>
            <a:ext cx="380880" cy="1587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Picture 8" descr=""/>
          <p:cNvPicPr/>
          <p:nvPr/>
        </p:nvPicPr>
        <p:blipFill>
          <a:blip r:embed="rId1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7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1"/>
          <p:cNvSpPr/>
          <p:nvPr/>
        </p:nvSpPr>
        <p:spPr>
          <a:xfrm>
            <a:off x="457200" y="27468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НА ЗЕЛЕНЫЙ СИГНАЛ СВЕТОФОРА МОЖНО ПЕРЕХОДИТЬ ДОРОГ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3657600" y="1447920"/>
            <a:ext cx="1143000" cy="290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Oval 3"/>
          <p:cNvSpPr/>
          <p:nvPr/>
        </p:nvSpPr>
        <p:spPr>
          <a:xfrm>
            <a:off x="3886200" y="1676520"/>
            <a:ext cx="644400" cy="6109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Oval 4"/>
          <p:cNvSpPr/>
          <p:nvPr/>
        </p:nvSpPr>
        <p:spPr>
          <a:xfrm>
            <a:off x="3886200" y="2514600"/>
            <a:ext cx="644400" cy="6127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Oval 5"/>
          <p:cNvSpPr/>
          <p:nvPr/>
        </p:nvSpPr>
        <p:spPr>
          <a:xfrm>
            <a:off x="3886200" y="3429000"/>
            <a:ext cx="644400" cy="6127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Line 6"/>
          <p:cNvSpPr/>
          <p:nvPr/>
        </p:nvSpPr>
        <p:spPr>
          <a:xfrm flipH="1">
            <a:off x="3727440" y="5943600"/>
            <a:ext cx="83808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4038480" y="4343400"/>
            <a:ext cx="381240" cy="1587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Picture 8" descr=""/>
          <p:cNvPicPr/>
          <p:nvPr/>
        </p:nvPicPr>
        <p:blipFill>
          <a:blip r:embed="rId1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3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1"/>
          <p:cNvSpPr/>
          <p:nvPr/>
        </p:nvSpPr>
        <p:spPr>
          <a:xfrm>
            <a:off x="380880" y="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Schoolbook"/>
              </a:rPr>
              <a:t>ПЕРЕХОДИ ДОРОГУ ТОЛЬКО НА ЗЕЛЕНЫЙ СИГНАЛ СВЕТОФО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Rectangle 2"/>
          <p:cNvSpPr/>
          <p:nvPr/>
        </p:nvSpPr>
        <p:spPr>
          <a:xfrm>
            <a:off x="609480" y="2895480"/>
            <a:ext cx="8763120" cy="39625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Rectangle 3"/>
          <p:cNvSpPr/>
          <p:nvPr/>
        </p:nvSpPr>
        <p:spPr>
          <a:xfrm>
            <a:off x="1266840" y="2895480"/>
            <a:ext cx="73008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4"/>
          <p:cNvSpPr/>
          <p:nvPr/>
        </p:nvSpPr>
        <p:spPr>
          <a:xfrm>
            <a:off x="2873520" y="2895480"/>
            <a:ext cx="73008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5"/>
          <p:cNvSpPr/>
          <p:nvPr/>
        </p:nvSpPr>
        <p:spPr>
          <a:xfrm>
            <a:off x="4552920" y="2895480"/>
            <a:ext cx="73044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6232680" y="2895480"/>
            <a:ext cx="73008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7912080" y="2895480"/>
            <a:ext cx="73044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Line 8"/>
          <p:cNvSpPr/>
          <p:nvPr/>
        </p:nvSpPr>
        <p:spPr>
          <a:xfrm flipH="1">
            <a:off x="4260600" y="0"/>
            <a:ext cx="88920" cy="6858000"/>
          </a:xfrm>
          <a:prstGeom prst="line">
            <a:avLst/>
          </a:prstGeom>
          <a:ln w="572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9"/>
          <p:cNvSpPr/>
          <p:nvPr/>
        </p:nvSpPr>
        <p:spPr>
          <a:xfrm>
            <a:off x="0" y="0"/>
            <a:ext cx="457200" cy="7010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10"/>
          <p:cNvSpPr/>
          <p:nvPr/>
        </p:nvSpPr>
        <p:spPr>
          <a:xfrm>
            <a:off x="8839080" y="0"/>
            <a:ext cx="53352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0" name="Group 11"/>
          <p:cNvGrpSpPr/>
          <p:nvPr/>
        </p:nvGrpSpPr>
        <p:grpSpPr>
          <a:xfrm>
            <a:off x="7924680" y="152280"/>
            <a:ext cx="679680" cy="2660760"/>
            <a:chOff x="7924680" y="152280"/>
            <a:chExt cx="679680" cy="2660760"/>
          </a:xfrm>
        </p:grpSpPr>
        <p:grpSp>
          <p:nvGrpSpPr>
            <p:cNvPr id="431" name="Group 12"/>
            <p:cNvGrpSpPr/>
            <p:nvPr/>
          </p:nvGrpSpPr>
          <p:grpSpPr>
            <a:xfrm>
              <a:off x="7924680" y="152280"/>
              <a:ext cx="679680" cy="2660760"/>
              <a:chOff x="7924680" y="152280"/>
              <a:chExt cx="679680" cy="2660760"/>
            </a:xfrm>
          </p:grpSpPr>
          <p:grpSp>
            <p:nvGrpSpPr>
              <p:cNvPr id="432" name="Group 13"/>
              <p:cNvGrpSpPr/>
              <p:nvPr/>
            </p:nvGrpSpPr>
            <p:grpSpPr>
              <a:xfrm>
                <a:off x="7924680" y="152280"/>
                <a:ext cx="679680" cy="1713600"/>
                <a:chOff x="7924680" y="152280"/>
                <a:chExt cx="679680" cy="1713600"/>
              </a:xfrm>
            </p:grpSpPr>
            <p:sp>
              <p:nvSpPr>
                <p:cNvPr id="433" name="Rectangle 14"/>
                <p:cNvSpPr/>
                <p:nvPr/>
              </p:nvSpPr>
              <p:spPr>
                <a:xfrm>
                  <a:off x="7924680" y="152280"/>
                  <a:ext cx="679680" cy="1713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4" name="Oval 15"/>
                <p:cNvSpPr/>
                <p:nvPr/>
              </p:nvSpPr>
              <p:spPr>
                <a:xfrm>
                  <a:off x="8074080" y="271080"/>
                  <a:ext cx="380880" cy="35676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5" name="Oval 16"/>
                <p:cNvSpPr/>
                <p:nvPr/>
              </p:nvSpPr>
              <p:spPr>
                <a:xfrm>
                  <a:off x="8074080" y="754920"/>
                  <a:ext cx="380880" cy="356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6" name="Oval 17"/>
                <p:cNvSpPr/>
                <p:nvPr/>
              </p:nvSpPr>
              <p:spPr>
                <a:xfrm>
                  <a:off x="8074080" y="1267560"/>
                  <a:ext cx="380880" cy="357120"/>
                </a:xfrm>
                <a:prstGeom prst="ellipse">
                  <a:avLst/>
                </a:prstGeom>
                <a:solidFill>
                  <a:srgbClr val="3399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Line 18"/>
              <p:cNvSpPr/>
              <p:nvPr/>
            </p:nvSpPr>
            <p:spPr>
              <a:xfrm flipH="1">
                <a:off x="7994520" y="2813040"/>
                <a:ext cx="5018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Rectangle 19"/>
              <p:cNvSpPr/>
              <p:nvPr/>
            </p:nvSpPr>
            <p:spPr>
              <a:xfrm>
                <a:off x="8153280" y="1872000"/>
                <a:ext cx="222480" cy="9313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9" name="Oval 20"/>
            <p:cNvSpPr/>
            <p:nvPr/>
          </p:nvSpPr>
          <p:spPr>
            <a:xfrm>
              <a:off x="8061480" y="271440"/>
              <a:ext cx="404640" cy="349200"/>
            </a:xfrm>
            <a:prstGeom prst="ellipse">
              <a:avLst/>
            </a:prstGeom>
            <a:solidFill>
              <a:srgbClr val="fe86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21"/>
            <p:cNvSpPr/>
            <p:nvPr/>
          </p:nvSpPr>
          <p:spPr>
            <a:xfrm>
              <a:off x="8061480" y="744480"/>
              <a:ext cx="404640" cy="349200"/>
            </a:xfrm>
            <a:prstGeom prst="ellipse">
              <a:avLst/>
            </a:prstGeom>
            <a:solidFill>
              <a:srgbClr val="fe86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1" name="Rectangle 22"/>
          <p:cNvSpPr/>
          <p:nvPr/>
        </p:nvSpPr>
        <p:spPr>
          <a:xfrm>
            <a:off x="457200" y="0"/>
            <a:ext cx="1522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23"/>
          <p:cNvSpPr/>
          <p:nvPr/>
        </p:nvSpPr>
        <p:spPr>
          <a:xfrm>
            <a:off x="8839080" y="0"/>
            <a:ext cx="1526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3" name="Picture 24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876600" cy="1790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25" descr=""/>
          <p:cNvPicPr/>
          <p:nvPr/>
        </p:nvPicPr>
        <p:blipFill>
          <a:blip r:embed="rId2"/>
          <a:stretch/>
        </p:blipFill>
        <p:spPr>
          <a:xfrm>
            <a:off x="8686800" y="-233280"/>
            <a:ext cx="233280" cy="233280"/>
          </a:xfrm>
          <a:prstGeom prst="rect">
            <a:avLst/>
          </a:prstGeom>
          <a:ln w="0">
            <a:noFill/>
          </a:ln>
        </p:spPr>
      </p:pic>
      <p:grpSp>
        <p:nvGrpSpPr>
          <p:cNvPr id="445" name="Group 26"/>
          <p:cNvGrpSpPr/>
          <p:nvPr/>
        </p:nvGrpSpPr>
        <p:grpSpPr>
          <a:xfrm>
            <a:off x="7797600" y="2689920"/>
            <a:ext cx="1318320" cy="3170160"/>
            <a:chOff x="7797600" y="2689920"/>
            <a:chExt cx="1318320" cy="3170160"/>
          </a:xfrm>
        </p:grpSpPr>
        <p:sp>
          <p:nvSpPr>
            <p:cNvPr id="446" name="AutoShape 27"/>
            <p:cNvSpPr/>
            <p:nvPr/>
          </p:nvSpPr>
          <p:spPr>
            <a:xfrm rot="480000">
              <a:off x="7860960" y="2768760"/>
              <a:ext cx="1197000" cy="91296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7" name="Group 28"/>
            <p:cNvGrpSpPr/>
            <p:nvPr/>
          </p:nvGrpSpPr>
          <p:grpSpPr>
            <a:xfrm>
              <a:off x="7797600" y="3103560"/>
              <a:ext cx="1152000" cy="2756520"/>
              <a:chOff x="7797600" y="3103560"/>
              <a:chExt cx="1152000" cy="2756520"/>
            </a:xfrm>
          </p:grpSpPr>
          <p:grpSp>
            <p:nvGrpSpPr>
              <p:cNvPr id="448" name="Group 29"/>
              <p:cNvGrpSpPr/>
              <p:nvPr/>
            </p:nvGrpSpPr>
            <p:grpSpPr>
              <a:xfrm>
                <a:off x="7797600" y="3103560"/>
                <a:ext cx="1096200" cy="2756520"/>
                <a:chOff x="7797600" y="3103560"/>
                <a:chExt cx="1096200" cy="2756520"/>
              </a:xfrm>
            </p:grpSpPr>
            <p:sp>
              <p:nvSpPr>
                <p:cNvPr id="449" name="Oval 30"/>
                <p:cNvSpPr/>
                <p:nvPr/>
              </p:nvSpPr>
              <p:spPr>
                <a:xfrm>
                  <a:off x="8115480" y="3103560"/>
                  <a:ext cx="522360" cy="432720"/>
                </a:xfrm>
                <a:prstGeom prst="ellipse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0" name="Rectangle 31"/>
                <p:cNvSpPr/>
                <p:nvPr/>
              </p:nvSpPr>
              <p:spPr>
                <a:xfrm>
                  <a:off x="8247960" y="3604680"/>
                  <a:ext cx="256680" cy="62028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1" name="Rectangle 32"/>
                <p:cNvSpPr/>
                <p:nvPr/>
              </p:nvSpPr>
              <p:spPr>
                <a:xfrm rot="19920000">
                  <a:off x="7791120" y="3749760"/>
                  <a:ext cx="587880" cy="12024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2" name="Rectangle 33"/>
                <p:cNvSpPr/>
                <p:nvPr/>
              </p:nvSpPr>
              <p:spPr>
                <a:xfrm rot="2040000">
                  <a:off x="8384040" y="3724920"/>
                  <a:ext cx="520560" cy="120240"/>
                </a:xfrm>
                <a:prstGeom prst="rect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3" name="AutoShape 34"/>
                <p:cNvSpPr/>
                <p:nvPr/>
              </p:nvSpPr>
              <p:spPr>
                <a:xfrm>
                  <a:off x="8051760" y="4170960"/>
                  <a:ext cx="653040" cy="1689120"/>
                </a:xfrm>
                <a:custGeom>
                  <a:avLst/>
                  <a:gdLst>
                    <a:gd name="textAreaLeft" fmla="*/ 0 w 653040"/>
                    <a:gd name="textAreaRight" fmla="*/ 653400 w 653040"/>
                    <a:gd name="textAreaTop" fmla="*/ 0 h 1689120"/>
                    <a:gd name="textAreaBottom" fmla="*/ 605160 h 1689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4365" y="10817"/>
                      </a:moveTo>
                      <a:cubicBezTo>
                        <a:pt x="4365" y="10811"/>
                        <a:pt x="4365" y="10805"/>
                        <a:pt x="4365" y="10800"/>
                      </a:cubicBezTo>
                      <a:cubicBezTo>
                        <a:pt x="4365" y="7246"/>
                        <a:pt x="7246" y="4365"/>
                        <a:pt x="10800" y="4365"/>
                      </a:cubicBezTo>
                      <a:cubicBezTo>
                        <a:pt x="14353" y="4365"/>
                        <a:pt x="17235" y="7246"/>
                        <a:pt x="17235" y="10800"/>
                      </a:cubicBezTo>
                      <a:cubicBezTo>
                        <a:pt x="17235" y="10805"/>
                        <a:pt x="17234" y="10811"/>
                        <a:pt x="17234" y="10817"/>
                      </a:cubicBezTo>
                      <a:lnTo>
                        <a:pt x="21599" y="10828"/>
                      </a:lnTo>
                      <a:cubicBezTo>
                        <a:pt x="21599" y="10819"/>
                        <a:pt x="21600" y="10809"/>
                        <a:pt x="21600" y="10800"/>
                      </a:cubicBezTo>
                      <a:cubicBezTo>
                        <a:pt x="21600" y="4835"/>
                        <a:pt x="16764" y="0"/>
                        <a:pt x="10800" y="0"/>
                      </a:cubicBezTo>
                      <a:cubicBezTo>
                        <a:pt x="4835" y="0"/>
                        <a:pt x="0" y="4835"/>
                        <a:pt x="0" y="10800"/>
                      </a:cubicBezTo>
                      <a:cubicBezTo>
                        <a:pt x="-1" y="10809"/>
                        <a:pt x="0" y="10819"/>
                        <a:pt x="0" y="10828"/>
                      </a:cubicBezTo>
                      <a:lnTo>
                        <a:pt x="4365" y="10817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4" name="Oval 35"/>
                <p:cNvSpPr/>
                <p:nvPr/>
              </p:nvSpPr>
              <p:spPr>
                <a:xfrm>
                  <a:off x="8247960" y="3228840"/>
                  <a:ext cx="59040" cy="55080"/>
                </a:xfrm>
                <a:prstGeom prst="ellipse">
                  <a:avLst/>
                </a:prstGeom>
                <a:solidFill>
                  <a:srgbClr val="fe863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5" name="Oval 36"/>
                <p:cNvSpPr/>
                <p:nvPr/>
              </p:nvSpPr>
              <p:spPr>
                <a:xfrm>
                  <a:off x="8446320" y="3228840"/>
                  <a:ext cx="58680" cy="55080"/>
                </a:xfrm>
                <a:prstGeom prst="ellipse">
                  <a:avLst/>
                </a:prstGeom>
                <a:solidFill>
                  <a:srgbClr val="fe863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6" name="Oval 37"/>
                <p:cNvSpPr/>
                <p:nvPr/>
              </p:nvSpPr>
              <p:spPr>
                <a:xfrm>
                  <a:off x="8247960" y="3417480"/>
                  <a:ext cx="188280" cy="568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7" name="AutoShape 38"/>
              <p:cNvSpPr/>
              <p:nvPr/>
            </p:nvSpPr>
            <p:spPr>
              <a:xfrm>
                <a:off x="7860960" y="4887360"/>
                <a:ext cx="358920" cy="16920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AutoShape 39"/>
              <p:cNvSpPr/>
              <p:nvPr/>
            </p:nvSpPr>
            <p:spPr>
              <a:xfrm>
                <a:off x="8591040" y="4887360"/>
                <a:ext cx="358560" cy="16920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" dur="3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3:04:26Z</dcterms:created>
  <dc:creator>Учитель</dc:creator>
  <dc:description/>
  <dc:language>en-US</dc:language>
  <cp:lastModifiedBy>1</cp:lastModifiedBy>
  <dcterms:modified xsi:type="dcterms:W3CDTF">2020-12-05T09:07:00Z</dcterms:modified>
  <cp:revision>27</cp:revision>
  <dc:subject/>
  <dc:title>Слайд 1</dc:title>
</cp:coreProperties>
</file>