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53F-1058-471B-909D-0558E0E4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380-0D42-4814-B4A0-6FA1D211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7EF-4688-4494-952F-04E1F1DD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97B-5E66-4A55-8DB8-F5B686D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683C7-BB5D-4095-ADB2-1B2B5375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20293-B52F-47FE-8B57-0DF3CAFD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BE86-24E0-4F7A-A878-B982C70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0BB54-DF62-4DB9-B7D9-A198473E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32C9-DDA2-4327-B6C0-D96DB08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098E-E80D-4A71-A4F7-6429A30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54B9F-5E81-49C6-B2A8-51572C32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503-3FE0-435C-97A1-63E50A7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479D-C726-4FD9-82BB-BBBC625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54DD-5922-4C28-B2BA-52215DA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01B8-BCC5-498B-BBDF-7D69686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AC62-9753-4F51-84DF-5DE43517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E92B-2D29-4361-BD27-7647FC32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E05-2214-4A91-86DF-D5FD4DED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861-CEF0-46E6-A2A7-2785C67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B4A-689D-47CA-B388-78042FC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871-1079-4C8C-90D6-A1BE5F9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D62-EBBD-45C7-B436-D4E1E51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E66-89CB-46F5-8751-27C36BC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7E4-8ED1-4267-9CCD-FAC77B0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DA5-BE8B-4776-80AC-68AEE88593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E3CF-F9B6-4126-9882-82EC7E16AF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 Использование развивающей игры «Двухцветный квадрат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 В. В. Воскобовича»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32000" y="4195800"/>
            <a:ext cx="284004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: Бабенко С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4164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2063240" y="6324480"/>
            <a:ext cx="7178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3e3ff"/>
                </a:solidFill>
                <a:uFillTx/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: Повышение компетентности педагогов в вопросах практического использования технологии В</a:t>
            </a: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В.</a:t>
            </a: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Воскобович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знакомить воспитателей с развивающей игрой двухцветны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дратом Воскобовича, ее особенностями, формами и методами работы с игр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вивать творческий и познавательный интерес к играм В. В. Воскобови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оспитывать уважение к авторским играм; желание применять полученные знания в своей педагог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57080" y="1688400"/>
            <a:ext cx="3476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kubiki-slozhi-uzor-kvadrat-voskobovicha_2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116000" y="189000"/>
            <a:ext cx="6885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-127980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4" descr="kubiki-slozhi-uzor-kvadrat-voskobovicha_8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71640" y="260280"/>
            <a:ext cx="7416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-174744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4" descr="kubiki-slozhi-uzor-kvadrat-voskobovicha_3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95400" y="260280"/>
            <a:ext cx="6889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63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4" descr="kubiki-slozhi-uzor-kvadrat-voskobovicha_11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55640" y="274680"/>
            <a:ext cx="72010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8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4" descr="kubiki-slozhi-uzor-kvadrat-voskobovicha_10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00000" y="285840"/>
            <a:ext cx="70567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 – Технологию уже использую в работе, знаю игры хорош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r>
              <a:rPr b="0" lang="ru-RU" sz="3600" spc="-1" strike="noStrike">
                <a:solidFill>
                  <a:srgbClr val="3399ff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Технологию  уже использую,  но необходимо расширять свои зн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Зелёный 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Очень интересная технология, обязательно буду использовать в своей практ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38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1:19:39Z</dcterms:created>
  <dc:creator>Пользователь</dc:creator>
  <dc:description/>
  <dc:language>en-US</dc:language>
  <cp:lastModifiedBy>RePack by SPecialiST</cp:lastModifiedBy>
  <dcterms:modified xsi:type="dcterms:W3CDTF">2020-11-10T10:56:22Z</dcterms:modified>
  <cp:revision>5</cp:revision>
  <dc:subject/>
  <dc:title>« Использование развивающей игры квадрат В. В. Воскобович»</dc:title>
</cp:coreProperties>
</file>