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305-DE13-4C69-8C03-CD00CF62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131-BDD6-4FA1-A515-53BCBC09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FC5-74B1-4968-AA94-6B4BBE08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311-4D93-4C49-B1BD-539D07D3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C2D31-F9EE-4DDB-9076-49714BE4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E3C27-34DC-4D14-812D-20EC6A91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75512-EE5A-4F9D-9A90-AECB23D4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CF176-9DDC-4FDE-863B-83D96C6B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1E70E-3514-4D8F-AE06-7C5D6748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8D6E9-2412-4015-8980-18CD02B2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C5C3C-FCBD-49C8-9E68-BBCFD2C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3A9-7864-48FB-84D0-8FE1D452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8B81D-81B9-42E7-8428-3C2D2DE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835CF-2768-4994-A913-BE84BD7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5E9E6-F9D9-4228-8787-E1E874C6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086D3-188B-4619-887B-93243F51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89656-C2ED-4A06-A553-64442AF8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9EC-CADD-42D6-A31E-5B4B3516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EF0-83CA-40CC-A5CC-C19F13E3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7AD-F450-4725-A7C4-9FB0B6AC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D05-D494-4C84-812D-92DAFA57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CBF-CCF4-4832-A5F7-3F6857F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CB0-E1F7-4379-8409-4F4440A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C5D-5187-4142-87BD-036BFF52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7715-CD53-4CB8-844F-8F390FB1E0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F90D-A038-4D31-8BB7-F068902B0D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 Использование развивающей игры «Двухцветный квадрат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 В. В. Воскобовича»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932000" y="4195800"/>
            <a:ext cx="284004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: Бабенко С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4164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2063240" y="6324480"/>
            <a:ext cx="7178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3e3ff"/>
                </a:solidFill>
                <a:uFillTx/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e3e3ff"/>
                </a:solidFill>
                <a:latin typeface="Times New Roman"/>
              </a:rPr>
              <a:t>: Повышение компетентности педагогов в вопросах практического использования технологии В</a:t>
            </a:r>
            <a:r>
              <a:rPr b="1" lang="ru-RU" sz="2400" spc="-1" strike="noStrike">
                <a:solidFill>
                  <a:srgbClr val="e3e3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e3e3ff"/>
                </a:solidFill>
                <a:latin typeface="Times New Roman"/>
              </a:rPr>
              <a:t>В.</a:t>
            </a:r>
            <a:r>
              <a:rPr b="1" lang="ru-RU" sz="2400" spc="-1" strike="noStrike">
                <a:solidFill>
                  <a:srgbClr val="e3e3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e3e3ff"/>
                </a:solidFill>
                <a:latin typeface="Times New Roman"/>
              </a:rPr>
              <a:t>Воскобович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ознакомить воспитателей с развивающей игрой двухцветны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дратом Воскобовича, ее особенностями, формами и методами работы с игр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звивать творческий и познавательный интерес к играм В. В. Воскобови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воспитывать уважение к авторским играм; желание применять полученные знания в своей педагогиче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57080" y="1688400"/>
            <a:ext cx="3476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4" descr="kubiki-slozhi-uzor-kvadrat-voskobovicha_2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116000" y="189000"/>
            <a:ext cx="6885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-1279800"/>
            <a:ext cx="77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4" descr="kubiki-slozhi-uzor-kvadrat-voskobovicha_8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971640" y="260280"/>
            <a:ext cx="7416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-174744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4" descr="kubiki-slozhi-uzor-kvadrat-voskobovicha_3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995400" y="260280"/>
            <a:ext cx="68896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639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4" descr="kubiki-slozhi-uzor-kvadrat-voskobovicha_11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55640" y="274680"/>
            <a:ext cx="72010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1856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4" descr="kubiki-slozhi-uzor-kvadrat-voskobovicha_10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900000" y="285840"/>
            <a:ext cx="70567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81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 – Технологию уже использую в работе, знаю игры хорош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Желтый</a:t>
            </a:r>
            <a:r>
              <a:rPr b="0" lang="ru-RU" sz="3600" spc="-1" strike="noStrike">
                <a:solidFill>
                  <a:srgbClr val="3399ff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Технологию  уже использую,  но необходимо расширять свои зн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Зелёный 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Очень интересная технология, обязательно буду использовать в своей практ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38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8T11:19:39Z</dcterms:created>
  <dc:creator>Пользователь</dc:creator>
  <dc:description/>
  <dc:language>en-US</dc:language>
  <cp:lastModifiedBy>RePack by SPecialiST</cp:lastModifiedBy>
  <dcterms:modified xsi:type="dcterms:W3CDTF">2020-11-10T10:56:22Z</dcterms:modified>
  <cp:revision>5</cp:revision>
  <dc:subject/>
  <dc:title>« Использование развивающей игры квадрат В. В. Воскобович»</dc:title>
</cp:coreProperties>
</file>