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D59-3400-458B-A7CA-44EE64F3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C4E-B924-46AB-8B42-48CD96D5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56E-631C-4E22-92D7-DB3E745B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363-28FC-41D5-994F-724323DA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7A23-0D2C-4E13-B425-760E3CA4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06DD-CE51-45F0-A465-A6CFE95F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2F3C-B0A9-4168-BCCE-80F064CF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147C-80FE-4B51-9B05-286F07C0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8116-A1E0-4AEA-A4DA-39319273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98B0-887A-419D-B7EA-35F01045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2E6D-309D-4D78-BAF5-472D0B7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69D-A1A7-4485-A96D-104B7439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2A06-2A13-46B2-B2EE-847B6827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E731-D6BA-4AE5-B569-82174AE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93AA-8803-4CAA-9BB6-2AC4BD1F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AFB1-9872-42D3-8BBF-ACB850F8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CECE-0044-4039-AA6A-E8F512AF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5D9-3BD6-40C1-B771-B507B88C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A73-9740-4A13-948D-9620367A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F87-F2B0-48BA-A473-E4EF7F79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A2E-44FE-4D79-A516-DAF363CA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DE4-0DF9-426E-B22A-FBDB2DF5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C4C-DA0D-46BF-851E-5F6FEEC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78F-D08A-4A6B-A9B6-ABD0EC2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40B8-89DC-4E16-B536-D599EE27468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5A01-4DDF-4ECD-AC5E-A6FBFDB39CB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Знаки препинания при словах, грамматически не связанных с членами предложени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038120"/>
            <a:ext cx="5562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Фаиля Фаритовна Исанчурина, учитель русского языка МБОУ «2-Имангуловская СОШ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ТЛИЧИТЬ ВВОДНЫЕ СЛОВА ОТ ЧЛЕНОВ ПРЕДЛ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обственно,  точнее,  скорее,  вернее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  вводными, если после них можно поставить слов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</a:t>
            </a:r>
            <a:r>
              <a:rPr b="0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ственн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бе от меня нужн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Это, </a:t>
            </a:r>
            <a:r>
              <a:rPr b="0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чне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ыло в конце прошлого столе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которые могут быть как вводными, так и не ввод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371600"/>
          <a:ext cx="8153640" cy="4800600"/>
        </p:xfrm>
        <a:graphic>
          <a:graphicData uri="http://schemas.openxmlformats.org/drawingml/2006/table">
            <a:tbl>
              <a:tblPr/>
              <a:tblGrid>
                <a:gridCol w="1067040"/>
                <a:gridCol w="3124080"/>
                <a:gridCol w="3962520"/>
              </a:tblGrid>
              <a:tr h="133668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н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ельзя заменить союзом 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«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Можно заменить союзом «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Мы,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нако</a:t>
                      </a:r>
                      <a:r>
                        <a:rPr b="0" i="1" lang="ru-RU" sz="2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, очень устали сегодня. Ты опоздал,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нак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Ливень прекратился,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нако</a:t>
                      </a:r>
                      <a:r>
                        <a:rPr b="0" i="1" lang="ru-RU" sz="2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 ветер все равно силь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Запятая нужн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Запятая не нужн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которые могут быть как вводными, так и не ввод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371600"/>
          <a:ext cx="8229600" cy="4838760"/>
        </p:xfrm>
        <a:graphic>
          <a:graphicData uri="http://schemas.openxmlformats.org/drawingml/2006/table">
            <a:tbl>
              <a:tblPr/>
              <a:tblGrid>
                <a:gridCol w="1076400"/>
                <a:gridCol w="3154320"/>
                <a:gridCol w="3998880"/>
              </a:tblGrid>
              <a:tr h="179856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Указывает на связь излагаемый мыслей, в значении «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 еще</a:t>
                      </a: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значении «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конце концов, после всего, под конец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Мне нужно помыть посуду, убраться и, </a:t>
                      </a:r>
                      <a:r>
                        <a:rPr b="0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конец,</a:t>
                      </a:r>
                      <a:r>
                        <a:rPr b="0" i="1" lang="ru-RU" sz="20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 сходить в магаз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Мы </a:t>
                      </a:r>
                      <a:r>
                        <a:rPr b="0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конец</a:t>
                      </a:r>
                      <a:r>
                        <a:rPr b="0" i="1" lang="ru-RU" sz="20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 добрались до нашего отел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Запятая нужн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Запятая не нужн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которые могут быть как вводными, так и не ввод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1371600"/>
          <a:ext cx="8229600" cy="5024520"/>
        </p:xfrm>
        <a:graphic>
          <a:graphicData uri="http://schemas.openxmlformats.org/drawingml/2006/table">
            <a:tbl>
              <a:tblPr/>
              <a:tblGrid>
                <a:gridCol w="1076400"/>
                <a:gridCol w="3154320"/>
                <a:gridCol w="3998880"/>
              </a:tblGrid>
              <a:tr h="136980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знач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Значит    «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стало быть», «следователь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Значит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   = «означает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 уроками ты сидишь редко,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ряд ли следует ждать хороших результат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Ты,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 поезду не успе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е доброе 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ношение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моим детям 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чи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меня очень 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ого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веча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 грубо — значит 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казывать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вою невоспитанность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которые могут быть как вводными, так и не ввод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371600"/>
          <a:ext cx="8153640" cy="2906640"/>
        </p:xfrm>
        <a:graphic>
          <a:graphicData uri="http://schemas.openxmlformats.org/drawingml/2006/table">
            <a:tbl>
              <a:tblPr/>
              <a:tblGrid>
                <a:gridCol w="1676520"/>
                <a:gridCol w="3124080"/>
                <a:gridCol w="3353040"/>
              </a:tblGrid>
              <a:tr h="143208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inherit"/>
                          <a:ea typeface="Times New Roman"/>
                        </a:rPr>
                        <a:t>Действ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f497d"/>
                          </a:solidFill>
                          <a:latin typeface="inherit"/>
                          <a:ea typeface="Times New Roman"/>
                        </a:rPr>
                        <a:t>В значении «</a:t>
                      </a: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inherit"/>
                          <a:ea typeface="Times New Roman"/>
                        </a:rPr>
                        <a:t>в самом деле</a:t>
                      </a:r>
                      <a:r>
                        <a:rPr b="0" lang="ru-RU" sz="1600" spc="-1" strike="noStrike">
                          <a:solidFill>
                            <a:srgbClr val="1f497d"/>
                          </a:solidFill>
                          <a:latin typeface="inherit"/>
                          <a:ea typeface="Times New Roman"/>
                        </a:rPr>
                        <a:t>»; стоит в начале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f497d"/>
                          </a:solidFill>
                          <a:latin typeface="inherit"/>
                          <a:ea typeface="Times New Roman"/>
                        </a:rPr>
                        <a:t>Стоит в середине или в конце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inherit"/>
                          <a:ea typeface="Times New Roman"/>
                        </a:rPr>
                        <a:t>Действительно</a:t>
                      </a:r>
                      <a:r>
                        <a:rPr b="0" i="1" lang="ru-RU" sz="24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, он ничего не зн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Он </a:t>
                      </a: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inherit"/>
                          <a:ea typeface="Times New Roman"/>
                        </a:rPr>
                        <a:t>действительно</a:t>
                      </a:r>
                      <a:r>
                        <a:rPr b="0" i="1" lang="ru-RU" sz="2400" spc="-1" strike="noStrike">
                          <a:solidFill>
                            <a:srgbClr val="193d00"/>
                          </a:solidFill>
                          <a:latin typeface="inherit"/>
                          <a:ea typeface="Times New Roman"/>
                        </a:rPr>
                        <a:t> ничего не зн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уация при вводном сл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Group 52" descr=""/>
          <p:cNvPicPr/>
          <p:nvPr/>
        </p:nvPicPr>
        <p:blipFill>
          <a:blip r:embed="rId1"/>
          <a:stretch/>
        </p:blipFill>
        <p:spPr>
          <a:xfrm>
            <a:off x="1017720" y="987480"/>
            <a:ext cx="7089480" cy="5138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286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уация при вводном сл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28880" y="1066680"/>
          <a:ext cx="7200720" cy="5029200"/>
        </p:xfrm>
        <a:graphic>
          <a:graphicData uri="http://schemas.openxmlformats.org/drawingml/2006/table">
            <a:tbl>
              <a:tblPr/>
              <a:tblGrid>
                <a:gridCol w="3402000"/>
                <a:gridCol w="3798720"/>
              </a:tblGrid>
              <a:tr h="1989360">
                <a:tc>
                  <a:txBody>
                    <a:bodyPr lIns="25560" rIns="25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</a:t>
                      </a: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начал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редложения между  союзом (</a:t>
                      </a:r>
                      <a:r>
                        <a:rPr b="1" i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И, НО, А, Д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и вводным слово запятая обычно </a:t>
                      </a: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не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И            действительн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он скоро уеха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А           может быть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это и к лучш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Calibri"/>
                        </a:rPr>
                        <a:t>А         впрочем, может быть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из страха она Тарквинию с размаха даёт пощёчи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25560" rIns="25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водные слова обособляются в середине </a:t>
                      </a: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MS Mincho"/>
                        </a:rPr>
                        <a:t>причастного, деепричастного оборо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узей был в доме,   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построенном,  </a:t>
                      </a:r>
                      <a:r>
                        <a:rPr b="1" i="1" lang="ru-RU" sz="1800" spc="-1" strike="noStrike" u="sng">
                          <a:solidFill>
                            <a:srgbClr val="984806"/>
                          </a:solidFill>
                          <a:uFillTx/>
                          <a:latin typeface="Times New Roman"/>
                          <a:ea typeface="MS Mincho"/>
                        </a:rPr>
                        <a:t>кажется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,  в прошлом  век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25560" rIns="25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98480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MS Mincho"/>
                        </a:rPr>
                        <a:t>Не обособляются вводные слов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84806"/>
                          </a:solidFill>
                          <a:latin typeface="Times New Roman"/>
                          <a:ea typeface="MS Mincho"/>
                        </a:rPr>
                        <a:t>в начале и конц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оборота, то есть относятся к обор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верь вела в комнату,   </a:t>
                      </a:r>
                      <a:r>
                        <a:rPr b="1" i="1" lang="ru-RU" sz="1800" spc="-1" strike="noStrike" u="sng">
                          <a:solidFill>
                            <a:srgbClr val="984806"/>
                          </a:solidFill>
                          <a:uFillTx/>
                          <a:latin typeface="Times New Roman"/>
                          <a:ea typeface="MS Mincho"/>
                        </a:rPr>
                        <a:t>по-видимому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   служившую столово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рат приедет сегодня,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поздно вечером   </a:t>
                      </a:r>
                      <a:r>
                        <a:rPr b="1" i="1" lang="ru-RU" sz="1800" spc="-1" strike="noStrike" u="sng">
                          <a:solidFill>
                            <a:srgbClr val="984806"/>
                          </a:solidFill>
                          <a:uFillTx/>
                          <a:latin typeface="Times New Roman"/>
                          <a:ea typeface="MS Mincho"/>
                        </a:rPr>
                        <a:t>вероятно</a:t>
                      </a:r>
                      <a:r>
                        <a:rPr b="1" lang="ru-RU" sz="1800" spc="-1" strike="noStrike" u="sng">
                          <a:solidFill>
                            <a:srgbClr val="984806"/>
                          </a:solidFill>
                          <a:uFillTx/>
                          <a:latin typeface="Times New Roman"/>
                          <a:ea typeface="MS Mincho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4800600" y="1111320"/>
            <a:ext cx="228600" cy="1810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"/>
          <p:cNvPicPr/>
          <p:nvPr/>
        </p:nvPicPr>
        <p:blipFill>
          <a:blip r:embed="rId2"/>
          <a:stretch/>
        </p:blipFill>
        <p:spPr>
          <a:xfrm>
            <a:off x="4714920" y="1676520"/>
            <a:ext cx="228600" cy="180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"/>
          <p:cNvPicPr/>
          <p:nvPr/>
        </p:nvPicPr>
        <p:blipFill>
          <a:blip r:embed="rId3"/>
          <a:stretch/>
        </p:blipFill>
        <p:spPr>
          <a:xfrm>
            <a:off x="4800600" y="2311560"/>
            <a:ext cx="228600" cy="18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уация при вводном сл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oup 52" descr=""/>
          <p:cNvPicPr/>
          <p:nvPr/>
        </p:nvPicPr>
        <p:blipFill>
          <a:blip r:embed="rId1"/>
          <a:stretch/>
        </p:blipFill>
        <p:spPr>
          <a:xfrm>
            <a:off x="1017720" y="987480"/>
            <a:ext cx="7089480" cy="5290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286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е вводных слов от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предлож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38160" y="1371600"/>
          <a:ext cx="7203960" cy="5127480"/>
        </p:xfrm>
        <a:graphic>
          <a:graphicData uri="http://schemas.openxmlformats.org/drawingml/2006/table">
            <a:tbl>
              <a:tblPr/>
              <a:tblGrid>
                <a:gridCol w="3557520"/>
                <a:gridCol w="364644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ны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ы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ется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епчут колосья друг друг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ир кажется мне книгой бесконечной.(Кажется -что делает? - сказуемо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,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едете в Ставропол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решена верно. (Верно -как? -обстоятельство образа действия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да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годами мои стихи делались менее нарядны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авда в огне не горит и в воде не тонет. (Правда -что? -существительное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ные констр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тавным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синтаксические конструкции, которые вносят в основное предложение дополнительное сообщение, попутные замечания, уточнения, пояснения и резко разрывают весь строй  основного предлож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:ВСТАВНЫЕ ПРЕДЛОЖЕНИЯ ВЫДЕЛЯЮТСЯ СКОБКАМИ И Т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даты 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было очень много-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емительно приближалис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было тр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лежали на стол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7 года расширился объём языкового материала в задании 17 «за счёт присоединения к этой тем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собления обращ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ует заметить, что в качестве привлечённого в задании языкового материала может быть использован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заический, так и стихотворный текс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. Участник экзамена 2018 г., выполняя задание 17, может встретиться с разным языковым материалом. При этом формулировка задания останется прежней» (из методических рекомендаций ФИП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ЫЕ СОЧЕТАНИЯ ЗНАКОВ ПР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НЫХ КОНСТРУКЦ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идеть писателя для меня,(1) провинциала,(2) – (3)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я работал в Сибири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 (4) было счасть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-2  -приложени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винци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3-4  - вставная констру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ерия –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1)так звали девушк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2)которая мне нравилас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(3) –  поздравила ме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1-3  - вставная констру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-3  -придаточное внутри встав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[ Кто-т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ходил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 саду утром, (1)часов в шесть] ,(2) – (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)я это хорошо помню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(4) – но [потом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сё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тихло 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-2  -  уточнение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3-4( тире ) –  вставная конструк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4 (запятая)   -  между частями сложного предложения перед союзом 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Таблица 3" descr=""/>
          <p:cNvPicPr/>
          <p:nvPr/>
        </p:nvPicPr>
        <p:blipFill>
          <a:blip r:embed="rId1"/>
          <a:stretch/>
        </p:blipFill>
        <p:spPr>
          <a:xfrm>
            <a:off x="25560" y="19080"/>
            <a:ext cx="91184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щение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ово или сочетание слов, называющего того, к кому обращена речь. Оно имеет форму именительного падежа и произносится с особой, звательной интонацией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грустно мне твое явленье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, вес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рая осинк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й осени крас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мо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красен наш сою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ращение стоит в начале предложения, оно отделяется запятой, а при произнесении с сильным чувством -восклицательным знаком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мо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красен наш сою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режнем позабуд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щая перед обращением, не отделяется от н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хорошо ты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оре но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. Найдите в заданном предложении все слова в именительном падеже, при которых стоят цифры. Определите грамматическую основу предложения, потому что обращения часто путают с подлежащим или с приложением. Сравните: Дочка дворника, Машутка, в ужасе бросилась в дом. – Не знаю, о чём ты думаешь, Марина, таская в дом эти книги! (В. Осеева). В этих предложениях употреблены два имени собственных, стоящих в именительном падеже, однако только во втором предложении есть обращение (в первом предложении слово Машутка является приложением). "/>
          <p:cNvPicPr/>
          <p:nvPr/>
        </p:nvPicPr>
        <p:blipFill>
          <a:blip r:embed="rId1"/>
          <a:stretch/>
        </p:blipFill>
        <p:spPr>
          <a:xfrm>
            <a:off x="85680" y="92160"/>
            <a:ext cx="902196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0" y="-139680"/>
            <a:ext cx="932184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25560" y="25560"/>
            <a:ext cx="911052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водны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ные констру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щения. Слова да и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ат для выражения утверждения или отрицания, согласия или несогла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лов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ся запятая или восклицательный зн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жизнь текла мятеж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юности моей, мятежной и суровой, отрадного душе воспоминанья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ждомет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лова, которые выражают, не называя их, различные чувства (АХ, ОХ, УВЫ, УРА, БА, НУ, ДИНЬ-ДИНЬ, ТРАХ-ТАХ-ТАХ И ДР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!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белой, душной тучей прокатился глухо гром (Ф. Тютче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страшный, сердитый!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-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(А.Чех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!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кажется, я имел удовольствие где-то видеть их (М. Салтыков-Щедри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 отделяются от следующего за ним предложения запятой (запятыми), а когда произносятся с особой силой, то после них ставится восклицательный знак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это солнце ярк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ес и вправду шумел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шумел ж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ометия, стоящие перед личными местоимениям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торыми следует обращение, запятыми не отде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 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лга, родимая Волга, кто не любит твоих берего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ные повторением одинаковых частей междометия и звукоподражательные слова пишутся с дефисом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-ай, ха-ха-х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расставьте знаки препинания в нижеследующих предложени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адьбе вероятно все уже сп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 как я уже сказал был низкий песча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 на сотни миль вокруг казалось пусты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одина моя прости навек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лов простился со своими спутниками и пешком тогда все в городе ходили пешком направился к Смольн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расставьте знаки препинания в нижеследующих предлож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юбезнейший наш друг о ты Василий Львович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Дубечня так называлась наша первая станция находилась в семнадцати верстах от го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Многие газы например водород легче возду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аша заговорила  с ним о Россини Россини только что входил в моду о Моцар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Ба (З,з)накомые все лиц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расставьте знаки препинания в нижеследующих предлож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К счастью станция была недале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Но чу (К,к) воротам кто-то подъезж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О чем ты думаешь каз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Да (П,п)ублика снисходительна к мелочам и терпеливо ждет книж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О Русь малиновое поле и синь упавшая в реку люблю до радости  и боли твою озерную тос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543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водными  слов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ся слова или словосочетание слов, при помощи которых говорящий выражает свое отношение к тому, что он сообщает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юда больше не верну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слов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ыло принято решение изменить прое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х окуней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пор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дить вес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14400" y="914400"/>
          <a:ext cx="7924680" cy="5340240"/>
        </p:xfrm>
        <a:graphic>
          <a:graphicData uri="http://schemas.openxmlformats.org/drawingml/2006/table">
            <a:tbl>
              <a:tblPr/>
              <a:tblGrid>
                <a:gridCol w="1600200"/>
                <a:gridCol w="6324480"/>
              </a:tblGrid>
              <a:tr h="70164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а того, о чем говор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Самое большее, самое меньшее, самое необычное, самое удивительное, по крайней ме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внимания собесед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Понимаешь (-ете), знаешь(-ете), видишь (-ите), пойми(-те), поверь (-те), послушай (-те), согласись(-тесь), представь (-те), представь (-те) себе, вообрази (-те), веришь (-ите) ли, знаешь (-ете) ли, повторяю, подчеркиваю, между нами гово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По сообщению …, по сведениям…, по мнению…, по слухам, в соответствии с …, говорят, сообщают, передают, по-моему, по моему мнению, на мой взгляд, помнится, вспоминается, как известно, с точки з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416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и, чув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К счастью, к радости, к несчастью, к огорчению, к досаде, к сожалению, к стыду, к удивлению, к изумлению, на счастье, на радость, на удивление, по счастью, по правде, по совести, по справедливости, чего доброго, странное дело, удивительное дело, смешно сказать, не в укор будь сказ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14400" y="1066680"/>
          <a:ext cx="7238880" cy="507384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179892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Следовательно, итак, таким образом, значит, наконец, стало быть, далее, кстати, к слову сказать, впрочем, между прочим, в общем, в общих чертах, в частности, кроме того, сверх того, наоборот, напротив, например, к примеру, во-первых, во-вторых, с одной стороны, с другой стор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того, о чем говор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Бывает, бывало, случается, случалось, по обычаю, по обыкновению , в крайнем случа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432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возмо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93d00"/>
                          </a:solidFill>
                          <a:latin typeface="Times New Roman"/>
                          <a:ea typeface="Times New Roman"/>
                        </a:rPr>
                        <a:t>Без сомнения, без всякого сомнения, несомненно, безусловно, разумеется, само собой разумеется, бесспорно, конечно, видимо, по-видимому, наверное, верно, возможно, вероятно, по всей вероятности, пожалуй, кажется, должно быть, может быть, может, надо полагать, можно полагать, надо думать, (я) думаю, (я) полагаю, (я) надеюсь, (я) счит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: не являются вводными и не выделяются запятыми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УДТО, ВДРУГ, ВЕДЬ, ВРЯД ЛИ, ВОТ, ВСЕ РАВНО, ВСЕ-ТАКИ, ДАЖЕ, ЗАЧАСТУЮ, ИСКЛЮЧИТЕЛЬНО, ИМЕННО, КАК БУДТО, КАК БЫ, КАК РАЗ, ПРИБЛИЗИТЕЛЬНО, ПРИМЕРНО, ПРИТОМ, ПРИЧЕМ, ПО ПРЕДЛОЖЕНИЮ, ПО РЕШЕНИЮ, ТОЛЬ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являются вводными словами частицы: </a:t>
            </a:r>
            <a:r>
              <a:rPr b="1" lang="ru-RU" sz="4000" spc="-1" strike="noStrike">
                <a:solidFill>
                  <a:srgbClr val="10253f"/>
                </a:solidFill>
                <a:latin typeface="Arial"/>
              </a:rPr>
              <a:t>всё же,    всё-таки, как бы, якобы, как будто, словно, точно, вряд ли, даже, ведь, именно, исключитель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пут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жду тем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не является вводным и не выделяется на письме запятой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жду прочим 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деляется на письме запято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фаля</cp:lastModifiedBy>
  <dcterms:modified xsi:type="dcterms:W3CDTF">2018-03-27T19:49:2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