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7.gif" ContentType="image/gif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6.gif" ContentType="image/gi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836-DF42-480C-8D4E-716EE25D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A04-34B8-459B-A8C0-ED816D33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22B-4F5C-4B1F-8F20-3FA45F54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DC6-811C-4779-AAD1-EF274CDA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EDE-87A5-4B5B-B69E-B5914F16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88E-3DB4-461D-A46E-0BAE0CC3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C56-7CFC-40B2-8E46-BE34F0D8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D43-22AD-482D-A886-6999518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73B-DF2F-4D7C-B31C-15DCE243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0EF-BE8B-4180-A0C7-D45CB7E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8CA-AC0E-4EC7-B473-0C5432C2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310-B95A-4884-8C1B-CA6737DD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A6A-4852-45AC-AA64-A7861F8B01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Рисунок21.jpg"/>
          <p:cNvPicPr/>
          <p:nvPr/>
        </p:nvPicPr>
        <p:blipFill>
          <a:blip r:embed="rId1"/>
          <a:srcRect l="1662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Республиканский базовый медицинский колледж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м. Э.Р. Раднаева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Курс интерактивных мультимедиа лекц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ушнарева Т.К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Documents and Settings\ElviraAleksandrovna\Рабочий стол\Кушнарева\First_Genetic_lin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Лекция 4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Сосуды большого круга кровообращения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Артерии туловища и нижней конеч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7280" y="5105520"/>
            <a:ext cx="659952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Преподаватель Кушнарева Т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928520"/>
            <a:ext cx="557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Лекция №5. 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Сосуды большого круга кровообращения.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Вены большого круга кровообращ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13840" y="4285800"/>
            <a:ext cx="507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ушнарева Т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5810400" y="1285920"/>
            <a:ext cx="3333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9200" y="379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Лекция 6.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Физиология сердечно-сосудист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114280" y="5563800"/>
            <a:ext cx="450684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Кушнарева Т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25.jpg"/>
          <p:cNvPicPr/>
          <p:nvPr/>
        </p:nvPicPr>
        <p:blipFill>
          <a:blip r:embed="rId1"/>
          <a:stretch/>
        </p:blipFill>
        <p:spPr>
          <a:xfrm>
            <a:off x="1514520" y="2224080"/>
            <a:ext cx="54817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428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ктуальность использования интерактивных мультимедийных технологий в преподавании анатомии обусловлена необходимостью максимального обеспечения учебного процесса интерактивной образовательной средой  технологиями и необходимостью формирования ИКТ-компетенций студен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 использовании мультимедиа достигается усвоение материала до 70-80% за счет демонстрации видеосюжетов, анимации, иллюстрац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терактивность позволяет обеспечить обратную связь и контролировать процесс усвоения предоставленного на лекции материа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втоматизированный контроль знаний способствует развитию у студентов рефлексии предметной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три ученика.gif"/>
          <p:cNvPicPr/>
          <p:nvPr/>
        </p:nvPicPr>
        <p:blipFill>
          <a:blip r:embed="rId2"/>
          <a:stretch/>
        </p:blipFill>
        <p:spPr>
          <a:xfrm>
            <a:off x="3071880" y="4714920"/>
            <a:ext cx="32036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Цели и задачи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1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Основная цель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формирование знаний, умений навыков и ключевых компетенц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еспечить процесс восприятия информации через такие каналы  как: слуховой, зрительны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вивать пространственное воображение и объемное восприятие анатомических объектов сердечно-сосудистой систем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особствовать  эффективному пониманию физиологических процессов, происходящих в сердечно-сосудист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Блок-схема: объединение 3"/>
          <p:cNvSpPr/>
          <p:nvPr/>
        </p:nvSpPr>
        <p:spPr>
          <a:xfrm>
            <a:off x="1692360" y="3573360"/>
            <a:ext cx="576000" cy="216000"/>
          </a:xfrm>
          <a:prstGeom prst="flowChartMerg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объединение 4"/>
          <p:cNvSpPr/>
          <p:nvPr/>
        </p:nvSpPr>
        <p:spPr>
          <a:xfrm>
            <a:off x="1844640" y="3726000"/>
            <a:ext cx="576360" cy="215640"/>
          </a:xfrm>
          <a:prstGeom prst="flowChartMerg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руктура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рс представлен 6 лекц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комплектом тестовых заданий, разработанных в электронной инструментальной среде для создания тестов «СТМ-тес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труктурно-логическая схема уро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изационный момент -3 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втоматизированный тестовый контроль знаний 15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лож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крепление материала –выполнение тестовых заданий - 10 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 – 2 м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етодика ведения мультимедиа ле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75784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5" descr=""/>
          <p:cNvPicPr/>
          <p:nvPr/>
        </p:nvPicPr>
        <p:blipFill>
          <a:blip r:embed="rId3"/>
          <a:stretch/>
        </p:blipFill>
        <p:spPr>
          <a:xfrm>
            <a:off x="5541840" y="237960"/>
            <a:ext cx="3797280" cy="3095640"/>
          </a:xfrm>
          <a:prstGeom prst="rect">
            <a:avLst/>
          </a:prstGeom>
          <a:ln w="0">
            <a:noFill/>
          </a:ln>
        </p:spPr>
      </p:pic>
      <p:sp>
        <p:nvSpPr>
          <p:cNvPr id="58" name="Подзаголовок 2"/>
          <p:cNvSpPr/>
          <p:nvPr/>
        </p:nvSpPr>
        <p:spPr>
          <a:xfrm>
            <a:off x="147600" y="4653000"/>
            <a:ext cx="5610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ушнарева Т.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еподаватель анато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8" descr="Barn.gif"/>
          <p:cNvPicPr/>
          <p:nvPr/>
        </p:nvPicPr>
        <p:blipFill>
          <a:blip r:embed="rId4"/>
          <a:stretch/>
        </p:blipFill>
        <p:spPr>
          <a:xfrm>
            <a:off x="0" y="3882960"/>
            <a:ext cx="8956800" cy="3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Elvira\AppData\Local\Temp\18.gif"/>
          <p:cNvPicPr/>
          <p:nvPr/>
        </p:nvPicPr>
        <p:blipFill>
          <a:blip r:embed="rId5"/>
          <a:stretch/>
        </p:blipFill>
        <p:spPr>
          <a:xfrm>
            <a:off x="2714760" y="2500200"/>
            <a:ext cx="1000080" cy="1403640"/>
          </a:xfrm>
          <a:prstGeom prst="rect">
            <a:avLst/>
          </a:prstGeom>
          <a:ln w="0">
            <a:noFill/>
          </a:ln>
        </p:spPr>
      </p:pic>
      <p:sp>
        <p:nvSpPr>
          <p:cNvPr id="61" name="Подзаголовок 2"/>
          <p:cNvSpPr/>
          <p:nvPr/>
        </p:nvSpPr>
        <p:spPr>
          <a:xfrm>
            <a:off x="244440" y="453960"/>
            <a:ext cx="5119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ГАОУ С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«Республикнский базовый медицинский коллед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м. Э.Р. Радна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2"/>
          <a:stretch/>
        </p:blipFill>
        <p:spPr>
          <a:xfrm>
            <a:off x="189000" y="1414440"/>
            <a:ext cx="8394480" cy="13096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3"/>
          <a:stretch/>
        </p:blipFill>
        <p:spPr>
          <a:xfrm>
            <a:off x="2432160" y="5413320"/>
            <a:ext cx="34621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7680" y="1769760"/>
            <a:ext cx="4295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Лекция 3.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осуды большого круга кровообращения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Артерии головы, шеи, верхних конеч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8840" y="4725720"/>
            <a:ext cx="3497040" cy="91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Кушнарева Т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502160" y="568440"/>
            <a:ext cx="435924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5:49:10Z</dcterms:created>
  <dc:creator>RBMC</dc:creator>
  <dc:description/>
  <dc:language>en-US</dc:language>
  <cp:lastModifiedBy>user</cp:lastModifiedBy>
  <dcterms:modified xsi:type="dcterms:W3CDTF">2015-11-23T08:36:59Z</dcterms:modified>
  <cp:revision>13</cp:revision>
  <dc:subject/>
  <dc:title>Слайд 1</dc:title>
</cp:coreProperties>
</file>