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7.gif" ContentType="image/gif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6.gif" ContentType="image/gif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F220-ED9C-40BC-BE56-23629F02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5C40-22D3-4A84-A12D-6491D69E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A971-2F76-4C75-9BEE-110FEC27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B4CA-C96A-4B18-9E4D-0D585486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4B43-A459-4971-AAB6-F725BCC6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3920-2E8B-4CD5-8682-FDE74B79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35A8-0D60-4970-B72A-2A9BF117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DBEF-1AAD-4456-9D5B-D626AF26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E3B3-4BC4-4872-B63A-77BF10F9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6064-72C0-4E25-A9B6-80CA4031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CA3-5F19-4F78-958F-748F406A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7A4E-E419-4356-973E-DAF05ED3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C0DE-D1AC-42E6-96FB-4DB59FBC28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Рисунок21.jpg"/>
          <p:cNvPicPr/>
          <p:nvPr/>
        </p:nvPicPr>
        <p:blipFill>
          <a:blip r:embed="rId1"/>
          <a:srcRect l="16627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Республиканский базовый медицинский колледж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им. Э.Р. Раднаева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Курс интерактивных мультимедиа лекци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ушнарева Т.К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C:\Documents and Settings\ElviraAleksandrovna\Рабочий стол\Кушнарева\First_Genetic_lin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8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Лекция 4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Сосуды большого круга кровообращения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Артерии туловища и нижней конечност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87280" y="5105520"/>
            <a:ext cx="6599520" cy="6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Преподаватель Кушнарева Т.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b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928520"/>
            <a:ext cx="5572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Лекция №5. 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Сосуды большого круга кровообращения.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Вены большого круга кровообращ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213840" y="4285800"/>
            <a:ext cx="507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Кушнарева Т.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5810400" y="1285920"/>
            <a:ext cx="33336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b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9200" y="3790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Лекция 6. 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Физиология сердечно-сосудистой сис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114280" y="5563800"/>
            <a:ext cx="4506840" cy="10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Кушнарева Т.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25.jpg"/>
          <p:cNvPicPr/>
          <p:nvPr/>
        </p:nvPicPr>
        <p:blipFill>
          <a:blip r:embed="rId1"/>
          <a:stretch/>
        </p:blipFill>
        <p:spPr>
          <a:xfrm>
            <a:off x="1514520" y="2224080"/>
            <a:ext cx="548172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57120" y="428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ктуальность использования интерактивных мультимедийных технологий в преподавании анатомии обусловлена необходимостью максимального обеспечения учебного процесса интерактивной образовательной средой  технологиями и необходимостью формирования ИКТ-компетенций студент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и использовании мультимедиа достигается усвоение материала до 70-80% за счет демонстрации видеосюжетов, анимации, иллюстрац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нтерактивность позволяет обеспечить обратную связь и контролировать процесс усвоения предоставленного на лекции материал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втоматизированный контроль знаний способствует развитию у студентов рефлексии предметной деятель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5" descr="три ученика.gif"/>
          <p:cNvPicPr/>
          <p:nvPr/>
        </p:nvPicPr>
        <p:blipFill>
          <a:blip r:embed="rId2"/>
          <a:stretch/>
        </p:blipFill>
        <p:spPr>
          <a:xfrm>
            <a:off x="3071880" y="4714920"/>
            <a:ext cx="32036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Цели и задачи кур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712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Основная цель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- формирование знаний, умений навыков и ключевых компетенц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еспечить процесс восприятия информации через такие каналы  как: слуховой, зрительны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азвивать пространственное воображение и объемное восприятие анатомических объектов сердечно-сосудистой систем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пособствовать  эффективному пониманию физиологических процессов, происходящих в сердечно-сосудистой систем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Блок-схема: объединение 3"/>
          <p:cNvSpPr/>
          <p:nvPr/>
        </p:nvSpPr>
        <p:spPr>
          <a:xfrm>
            <a:off x="1692360" y="3573360"/>
            <a:ext cx="576000" cy="216000"/>
          </a:xfrm>
          <a:prstGeom prst="flowChartMerg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Блок-схема: объединение 4"/>
          <p:cNvSpPr/>
          <p:nvPr/>
        </p:nvSpPr>
        <p:spPr>
          <a:xfrm>
            <a:off x="1844640" y="3726000"/>
            <a:ext cx="576360" cy="215640"/>
          </a:xfrm>
          <a:prstGeom prst="flowChartMerg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труктура кур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урс представлен 6 лекци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комплектом тестовых заданий, разработанных в электронной инструментальной среде для создания тестов «СТМ-тес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Структурно-логическая схема уро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рганизационный момент -3 м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втоматизированный тестовый контроль знаний 15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ложение нового матери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крепление материала –выполнение тестовых заданий - 10 м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машнее задание – 2 м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Методика ведения мультимедиа лек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575784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5" descr=""/>
          <p:cNvPicPr/>
          <p:nvPr/>
        </p:nvPicPr>
        <p:blipFill>
          <a:blip r:embed="rId3"/>
          <a:stretch/>
        </p:blipFill>
        <p:spPr>
          <a:xfrm>
            <a:off x="5541840" y="237960"/>
            <a:ext cx="3797280" cy="3095640"/>
          </a:xfrm>
          <a:prstGeom prst="rect">
            <a:avLst/>
          </a:prstGeom>
          <a:ln w="0">
            <a:noFill/>
          </a:ln>
        </p:spPr>
      </p:pic>
      <p:sp>
        <p:nvSpPr>
          <p:cNvPr id="58" name="Подзаголовок 2"/>
          <p:cNvSpPr/>
          <p:nvPr/>
        </p:nvSpPr>
        <p:spPr>
          <a:xfrm>
            <a:off x="147600" y="4653000"/>
            <a:ext cx="5610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ушнарева Т.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3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реподаватель анатом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8" descr="Barn.gif"/>
          <p:cNvPicPr/>
          <p:nvPr/>
        </p:nvPicPr>
        <p:blipFill>
          <a:blip r:embed="rId4"/>
          <a:stretch/>
        </p:blipFill>
        <p:spPr>
          <a:xfrm>
            <a:off x="0" y="3882960"/>
            <a:ext cx="8956800" cy="339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Elvira\AppData\Local\Temp\18.gif"/>
          <p:cNvPicPr/>
          <p:nvPr/>
        </p:nvPicPr>
        <p:blipFill>
          <a:blip r:embed="rId5"/>
          <a:stretch/>
        </p:blipFill>
        <p:spPr>
          <a:xfrm>
            <a:off x="2714760" y="2500200"/>
            <a:ext cx="1000080" cy="1403640"/>
          </a:xfrm>
          <a:prstGeom prst="rect">
            <a:avLst/>
          </a:prstGeom>
          <a:ln w="0">
            <a:noFill/>
          </a:ln>
        </p:spPr>
      </p:pic>
      <p:sp>
        <p:nvSpPr>
          <p:cNvPr id="61" name="Подзаголовок 2"/>
          <p:cNvSpPr/>
          <p:nvPr/>
        </p:nvSpPr>
        <p:spPr>
          <a:xfrm>
            <a:off x="244440" y="453960"/>
            <a:ext cx="5119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ГАОУ С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«Республикнский базовый медицинский коллед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им. Э.Р. Раднае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3" descr=""/>
          <p:cNvPicPr/>
          <p:nvPr/>
        </p:nvPicPr>
        <p:blipFill>
          <a:blip r:embed="rId2"/>
          <a:stretch/>
        </p:blipFill>
        <p:spPr>
          <a:xfrm>
            <a:off x="189000" y="1414440"/>
            <a:ext cx="8394480" cy="130968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5" descr=""/>
          <p:cNvPicPr/>
          <p:nvPr/>
        </p:nvPicPr>
        <p:blipFill>
          <a:blip r:embed="rId3"/>
          <a:stretch/>
        </p:blipFill>
        <p:spPr>
          <a:xfrm>
            <a:off x="2432160" y="5413320"/>
            <a:ext cx="346212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b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7680" y="1769760"/>
            <a:ext cx="4295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Лекция 3.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Сосуды большого круга кровообращения.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Артерии головы, шеи, верхних конеч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58840" y="4725720"/>
            <a:ext cx="3497040" cy="91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Кушнарева Т.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4502160" y="568440"/>
            <a:ext cx="4359240" cy="50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1T05:49:10Z</dcterms:created>
  <dc:creator>RBMC</dc:creator>
  <dc:description/>
  <dc:language>en-US</dc:language>
  <cp:lastModifiedBy>user</cp:lastModifiedBy>
  <dcterms:modified xsi:type="dcterms:W3CDTF">2015-11-23T08:36:59Z</dcterms:modified>
  <cp:revision>13</cp:revision>
  <dc:subject/>
  <dc:title>Слайд 1</dc:title>
</cp:coreProperties>
</file>