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5B396-E4DD-4169-9614-1496D019F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0BFD-F02C-4E6C-98B0-3FCE59E2F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C7ADC-7A1A-49A9-83E0-EF726D966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8E15E-9633-4879-944F-1491B8BEA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7215B-B319-42C8-BA91-EB832666A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EB87E-4B0B-4785-91D8-8CB8AA84B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FF35-027B-4852-B096-4B98B8D3D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5A2DA-9EB2-4723-AE0B-AD99BCE83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2DEC6-6C5C-4AAD-B18E-732C97AA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DA26-189A-403F-A2B4-AB9296BB1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3069-01EB-473C-8F44-D08DB1D2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8658-6D1C-4CBF-AC04-E676D3436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3DBC-CD41-41FC-9275-BF5C676A852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Лекция «Правосудие и правоохранительные органы РФ»</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Для дисциплины «Прав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тветьте на вопросы письменно</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1. Дайте определение правоохранительных органов.</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Назовите некоторые из них.</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3. Каким правоохранительным органам принадлежит главенствующее место в сфере правоохранения?</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 Назовите некоторые подразделения системы МВД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5. Перечислите подразделения системы прокуратуры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6. Перечислите подразделения структуры органов ФСБ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7. Перечислите подразделения структуры Росгвардии РФ.</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8. Что является основной целью деятельности правоохранительных органов?</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9. Что является характерной особенностью деятельности правоохранительных органо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ыполните в тетради самостоятельную работу</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ишите в тетради вопрос «Какие правоохранительные органы могут вести предварительное следствие и по каким деяниям?» и, используя ст. 151 УПК РФ, ответьте на вопрос письменно, с обосновани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этот текст</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авоохранительные органы — это органы, осуществляющие правоохранительную деятельность, т. е. такую деятельность, которая направлена на защиту прав, свобод и законных интересов субъектов права. Правоохранительная деятельность осуществляется разнообразными органами и организациями, например, Федеральная служба охраны Российской Федерации (ФСО России), Федеральная служба исполнения наказаний (ФСИН России), Федеральная налоговая служба (ФНС России), Федеральная таможенная служба (ФТС России), Федеральная служба судебных приставов РФ (ФССП России), Следственный комитет РФ. Главенствующее место в этой сфере принадлежит органам внутренних дел, органам ФСБ и прокуратур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46" name=""/>
          <p:cNvSpPr txBox="1"/>
          <p:nvPr/>
        </p:nvSpPr>
        <p:spPr>
          <a:xfrm>
            <a:off x="457200" y="1197000"/>
            <a:ext cx="8229600" cy="4929120"/>
          </a:xfrm>
          <a:prstGeom prst="rect">
            <a:avLst/>
          </a:prstGeom>
          <a:noFill/>
          <a:ln w="0">
            <a:noFill/>
          </a:ln>
        </p:spPr>
        <p:txBody>
          <a:bodyPr anchor="t">
            <a:normAutofit fontScale="94000"/>
          </a:bodyPr>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истема органов внутренних дел определяется в соответствии с разделом </a:t>
            </a:r>
            <a:r>
              <a:rPr b="0" lang="en-US" sz="1300" spc="-1" strike="noStrike">
                <a:solidFill>
                  <a:srgbClr val="000000"/>
                </a:solidFill>
                <a:latin typeface="Calibri"/>
              </a:rPr>
              <a:t>III</a:t>
            </a:r>
            <a:r>
              <a:rPr b="0" lang="ru-RU" sz="1300" spc="-1" strike="noStrike">
                <a:solidFill>
                  <a:srgbClr val="000000"/>
                </a:solidFill>
                <a:latin typeface="Calibri"/>
              </a:rPr>
              <a:t> Положения о МВД РФ (утв. Указом Президента РФ от 01.03.2011 № 248).</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Министр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Первый заместитель Министра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Статс-секретарь - заместитель Министра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Заместители Министра внутренних дел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 Следственный департамент.</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6. Главное управление по вопросам миг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7. Главное управление по контролю за оборотом наркотиков.</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8. Главное управление по обеспечению безопасности дорожного движения.</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9. Главное управление по обеспечению охраны общественного порядка и координации взаимодействия с органами исполнительной власти субъектов Российской Федер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0. Главное управление по противодействию экстремизму.</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1. Главное управление собственной безопасност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2. Главное управление на транспорте.</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3. Главное управление уголовного розыска.</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000000"/>
                </a:solidFill>
                <a:uFillTx/>
                <a:latin typeface="Calibri"/>
              </a:rPr>
              <a:t>14. Главное управление экономической безопасности и противодействия корруп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5. Департамент государственной службы и кадров.</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6. Департамент делопроизводства и работы с обращениями граждан и организаций.</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7. Департамент информационных технологий, связи и защиты информации.</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8. Департамент по материально-техническому и медицинскому обеспечению.</a:t>
            </a:r>
            <a:endParaRPr b="0" lang="en-US" sz="1300" spc="-1" strike="noStrike">
              <a:solidFill>
                <a:srgbClr val="000000"/>
              </a:solidFill>
              <a:latin typeface="Calibri"/>
            </a:endParaRPr>
          </a:p>
          <a:p>
            <a:pPr marL="322200" indent="-322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9. Департамент по финансово-экономической политике и обеспечению социальных гарантий.</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 (продолжение)</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0. Договорно-правовой департамен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1. Организационно-аналитический департамен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2. Национальное центральное бюро Интерпол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3. Контрольно-ревизионное управле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4. Оперативное управле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5. Организационно-штатное управле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6. Управление по взаимодействию с институтами гражданского общества и средствами массовой информац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7. Управление международного сотрудничест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8. Управление по обеспечению безопасности лиц, подлежащих государственной защит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29. Управление по обеспечению безопасности крупных международных и массовых спортивных мероприят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30. Управление по организации дозн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черкнутые структуры – подразделения поли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истема органов прокуратуры – ст. 11 Федеральный закон от 17.01.1992 № 2202-1 «О прокуратуре Российской Федерации»: Генеральная прокуратура Российской Федерации, прокуратуры субъектов Российской Федерации, приравненные к ним военные и другие специализированные прокуратуры, научные и образовательные организации, редакции печатных изданий, являющиеся юридическими лицами, а также прокуратуры городов и районов, другие территориальные, военные и иные специализированные прокуратуры.</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2" name=""/>
          <p:cNvSpPr txBox="1"/>
          <p:nvPr/>
        </p:nvSpPr>
        <p:spPr>
          <a:xfrm>
            <a:off x="457200" y="1125000"/>
            <a:ext cx="8229600" cy="547236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истема органов ФСБ – «Структура органов ФСБ РФ» (утв. Указом Президента РФ от 11.08.2003 № 960).</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едеральная служба безопасности Российской Федерации (ФСБ России), имеющая в своем составе службы, департаменты, управления и другие подразделения, непосредственно реализующие направления деятельности органов федеральной службы безопасности, а также подразделения, исполняющие управленческие функции</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равления (отделы) ФСБ России по отдельным регионам и субъектам Российской Федерации (территориальные органы безопасности)</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равления (отделы) ФСБ России в Вооруженных Силах Российской Федерации, других войсках и воинских формированиях, а также в их органах управления (органы безопасности в войсках)</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равления (отряды, отделы) ФСБ России по пограничной службе (пограничные органы)</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ругие управления (отделы) ФСБ России, осуществляющие отдельные полномочия ФСБ России или обеспечивающие деятельность органов федеральной службы безопасности (другие органы безопасности)</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иационные подразделения, центры специальной подготовки, подразделения специального назначения, предприятия, образовательные организации, научные, экспертные, судебно-экспертные, военно-медицинские и военно-строительные подразделения и иные учреждения, организации и подразделения, предназначенные для обеспечения деятельности федеральной службы безопаснос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 настоящее время указом Президента РФ от 05.04.2016 № 157 образована новая правоохранительная структура – Федеральная служба войск национальной гвардии РФ (Росгвардия). Ее основу составили внутренние войска МВД России. Эта служба является федеральным органом исполнительной власти, осуществляющим функции по выработке и реализации государственной политики и нормативно-правовому регулированию в сфере деятельности войск национальной гвардии РФ, в сфере оборота оружия, в сфере частной охранной деятельности и в сфере вневедомственной охраны. Ее структура – пункты 4 и 5 названного Указа, а именно:</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 (продолжение)</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рганы управления и подразделения Министерства внутренних дел Российской Федерации, осуществляющие федеральный государственный контроль (надзор) за соблюдением законодательства Российской Федерации в сфере оборота оружия и в сфере частной охранной деятельности, а также вневедомственную охрану, в том числе Центр специального назначения вневедомственной охраны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пециальные отряды быстрого реагирования территориальных органов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ряды мобильные особого назначения территориальных органов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Центр специального назначения сил оперативного реагирования и авиации Министерства внутренних дел Российской Федерации и авиационные подразделения Министерства внутренних дел Российской Федераци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едеральное государственное унитарное предприятие «Охрана» Министерства внутренних дел Российской Федер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сновной целью деятельности правоохранительных органов является защита права от возможных нарушений, выявление, пресечение, предупреждение правонарушений, а также применение к правонарушителям мер государственного принуждения. Характерная особенность правоохранительного органа состоит в том, что его деятельность направлена на предотвращение, пресечении и раскрытие правонарушений, применение санкций в тех случаях, когда нарушаются нормы прав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1T12:09:04Z</dcterms:created>
  <dc:creator>Антон</dc:creator>
  <dc:description/>
  <dc:language>en-US</dc:language>
  <cp:lastModifiedBy>Антон</cp:lastModifiedBy>
  <dcterms:modified xsi:type="dcterms:W3CDTF">2020-12-05T08:24:10Z</dcterms:modified>
  <cp:revision>5</cp:revision>
  <dc:subject/>
  <dc:title>Лекция «Правосудие и правоохранительные органы РФ»</dc:title>
</cp:coreProperties>
</file>