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F714-A675-426F-9D3D-2BB1B57B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D79C-5D1E-4606-B556-54657F54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CA4C-4592-4474-A9B0-E785940D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2513-6305-497B-B873-6033ECA4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C777-2989-4D0C-8935-B1336AA9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00D3-4822-4ECF-9EE3-3F1A162F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3125-A859-493E-A5EC-4481C995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2637-F058-465C-A91F-9D1B2B8C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83D9-3C2F-467F-9A7F-C5247BD8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33C8-DF23-4FF5-A9E4-C6825883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27A6-D280-4A84-846B-C5A465BB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0BD3-519E-4275-B408-9C045520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9A48-B2CB-4C21-9E7E-BAB4468B16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екция «Защита прав человека в государстве. Судебная систем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Для дисциплины «Прав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тите следующий 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атья 18 Конституции Российской Федерации устанавливает, что права и свободы человека и гражданина определяют смысл, содержание и применение законов, деятельность законодательной и исполнительной власти, местного самоуправления и обеспечиваются правосудие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Законодательные органы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не должны издавать законы, отменяющие или умаляющие права и свободы человека и гражданина (часть 2 статьи 55 Конституции РФ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тите следующий 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Исполнительные органы власти, органы местного управления, а также административные органы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в частности, Правительство Российской Федерации осуществляет меры по обеспечению законности, прав и свобод граждан (пункт «е» ст. 114 Конституции РФ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 этом гарантируется охрана законом прав потерпевших от преступлений и злоупотреблений властью, а также обязывает государство обеспечить доступ к правосудию и компенсацию причиненного ущерба (соответственно ст. 52 и 53 Конституции РФ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тите следующий 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удебная власть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й отводится особая роль в правозащитной системе Российской Федерации, поскольку, согласно части 2 ст. 46 Конституции РФ, решения и действия (или бездействие) органов государственной власти, органов местного самоуправления, общественных объединений и должностных лиц могут быть обжалованы в су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Конституционный Суд РФ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Защита основных прав и свобод гражданина представляет собой его ключевую функцию (ст. 3 Федерального конституционного закона от 21.07.1994 № 1-ФКЗ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окуратура Российской Федераци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Обеспечивает защиту прав и свобод человека и гражданина (пункт 2 ст. 6 Федерального закона от 17.01.1992 № 2202-1). Гражданин и сам может осуществлять защиту своих прав всеми способами, не запрещенными законом (часть 2 ст. 45 Конституции РФ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тите следующий 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 компонентам комплексной системы защиты прав человека в Российской Федерации относятся другие учреждаемые государством органы, не принадлежащие ни к законодательной, ни к исполнительной власти, а также  институты гражданского общества, в частности общественные объединения. К таким организациям относятся Совет при Президенте Российской Федерации по развитию гражданского общества и правам человека (Указ Президента Российской Федерации от 01.02.2011 № 120), Уполномоченный по правам человека (Федеральный конституционный закон от 26.02.1997 № 1-ФКЗ), Общественная палата Российской Федерации (Федеральный закон от 04.04.2005 № 32-ФЗ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ьте на вопросы письмен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.1. Опишите содержание ст. 18 Конституции РФ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.2. Как законодательные органы защищают права человека в России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.3. Как иные органы власти защищают права человека в России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.4. Назовите требования к судебной системе Росс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.5. Какова основная функция Конституционного суда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.6. Какова основная функция прокуратуры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.7. Как может гражданин защитить свои права самостоятельно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.8. Назовите органы, защищающие права человека, но не относящиеся к органам вла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полните в тетради самостоятельную работ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8693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14T12:54:53Z</dcterms:created>
  <dc:creator>Антон</dc:creator>
  <dc:description/>
  <dc:language>en-US</dc:language>
  <cp:lastModifiedBy>Антон</cp:lastModifiedBy>
  <dcterms:modified xsi:type="dcterms:W3CDTF">2020-12-05T08:22:44Z</dcterms:modified>
  <cp:revision>6</cp:revision>
  <dc:subject/>
  <dc:title>Презентация PowerPoint</dc:title>
</cp:coreProperties>
</file>