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BEB-A03F-4C87-BDFB-78370552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6EDF-B0D7-4D85-9F5C-78978230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248-908B-454F-BFED-2ACECC7F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8A0-29A8-41A5-8492-09DDAD9C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C891E-954C-42AB-9536-B2FA3141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C64CB-570F-4ADC-A348-C39C276C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2C857-F988-4628-B12B-C8D95BB6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99077-F016-48CD-9365-357F3E9B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8B265-20C5-4777-A3C9-FA607501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07D67-96AD-411E-9150-A083E493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62236-883B-45FE-B543-D6FB99DF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3A40-238B-4FCC-B46C-5CD47587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9C411-CA70-4802-BD70-8553C134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80694-718F-4707-A2E6-3B5A5CD8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5C48B-D360-417C-8C64-90E281F7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9E2F3-DD3C-43BF-8D01-4B059439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2DF24-3C89-4289-883F-E3685455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A542-AB6A-4B70-B0B1-2AA9F8D2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B78-4376-4617-AE8E-6D3C73CC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19B-CD6C-4193-9853-4FCCBD4B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3E8-24DB-4320-BDA8-9A2C868B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354-F9BB-408C-BB4F-2D2060E0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7AD3-DE3A-485A-B2DA-C7593C1F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D5E-63B5-4885-B0B5-2ED0E12C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EA96-F1D9-4652-ABFE-203366571A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E6FF-DC76-4386-A0E0-255002F7BE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928800"/>
            <a:ext cx="8351640" cy="13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4800" spc="-1" strike="noStrike">
                <a:solidFill>
                  <a:srgbClr val="6666ff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Музыкально – сценические жанры теат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780000" y="4429080"/>
            <a:ext cx="5184720" cy="1357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2c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Автор: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                              Биличенко Н. 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музыкальный руковод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b2c"/>
                </a:solidFill>
                <a:latin typeface="Monotype Corsiva"/>
                <a:ea typeface="Times New Roman"/>
              </a:rPr>
              <a:t>г. Ленинск - Кузнец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b2c"/>
                </a:solidFill>
                <a:latin typeface="Monotype Corsiva"/>
              </a:rPr>
              <a:t>            </a:t>
            </a:r>
            <a:r>
              <a:rPr b="1" lang="ru-RU" sz="2400" spc="-1" strike="noStrike">
                <a:solidFill>
                  <a:srgbClr val="000b2c"/>
                </a:solidFill>
                <a:latin typeface="Monotype Corsiva"/>
              </a:rPr>
              <a:t>20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58920" y="333360"/>
            <a:ext cx="86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0046"/>
                </a:solidFill>
                <a:latin typeface="Monotype Corsiva"/>
                <a:ea typeface="Times New Roman"/>
              </a:rPr>
              <a:t>МБДОУ  «Детский сад 22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6" descr="C:\Users\51\Desktop\фото\10.JPG"/>
          <p:cNvPicPr/>
          <p:nvPr/>
        </p:nvPicPr>
        <p:blipFill>
          <a:blip r:embed="rId1"/>
          <a:stretch/>
        </p:blipFill>
        <p:spPr>
          <a:xfrm>
            <a:off x="2071800" y="2214720"/>
            <a:ext cx="4929120" cy="307152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42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Балет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 (от фр. «танцевать»)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вид сценического искусства; спектакль, содержание которого воплощается в музыкально-хореографических образах. Основными видами танца в балете являются классический танец и характерный танец (народные и национальные танцы). Немаловажную роль играет пантомима, с помощью которой актёры передают чувства героев, их «разговор» между собой, суть происходяще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Содержимое 5" descr="DonQuihote.jpg"/>
          <p:cNvPicPr/>
          <p:nvPr/>
        </p:nvPicPr>
        <p:blipFill>
          <a:blip r:embed="rId1"/>
          <a:stretch/>
        </p:blipFill>
        <p:spPr>
          <a:xfrm>
            <a:off x="4648320" y="3071880"/>
            <a:ext cx="4038480" cy="3143160"/>
          </a:xfrm>
          <a:prstGeom prst="rect">
            <a:avLst/>
          </a:prstGeom>
          <a:ln w="0">
            <a:noFill/>
          </a:ln>
        </p:spPr>
      </p:pic>
      <p:pic>
        <p:nvPicPr>
          <p:cNvPr id="111" name="Содержимое 7" descr="Wilfride_Piollet_danse_dans_-le_Lac_des_Cygnes-_(à_l'Opéra_de_Paris,_1977).jpg"/>
          <p:cNvPicPr/>
          <p:nvPr/>
        </p:nvPicPr>
        <p:blipFill>
          <a:blip r:embed="rId2"/>
          <a:stretch/>
        </p:blipFill>
        <p:spPr>
          <a:xfrm>
            <a:off x="887400" y="3000240"/>
            <a:ext cx="3178080" cy="314352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1\Desktop\ТЕАТР\boy-e1321270917568-422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857840" y="-360"/>
            <a:ext cx="42861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занавес трепещ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лампочки горя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к звонко рукоплещ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тысячи ребят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. Я. Марша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Цель: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популяризация  театрального музыкального искус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14320"/>
            <a:ext cx="82296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Задачи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формировать представление о театр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уметь различать музыкально-сценические жан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расширять и систематизировать  базовые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       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знания с использованием дополнительных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       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образовательных ресур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6" descr="C:\Users\51\Desktop\фото\images.jpg"/>
          <p:cNvPicPr/>
          <p:nvPr/>
        </p:nvPicPr>
        <p:blipFill>
          <a:blip r:embed="rId1"/>
          <a:stretch/>
        </p:blipFill>
        <p:spPr>
          <a:xfrm>
            <a:off x="6572160" y="5072040"/>
            <a:ext cx="2571840" cy="178596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Что такое театр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Содержимое 4" descr="0_16801f_1c29a2fd_orig.jpg"/>
          <p:cNvPicPr/>
          <p:nvPr/>
        </p:nvPicPr>
        <p:blipFill>
          <a:blip r:embed="rId1"/>
          <a:stretch/>
        </p:blipFill>
        <p:spPr>
          <a:xfrm>
            <a:off x="500040" y="1928880"/>
            <a:ext cx="4071960" cy="4071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Театр</a:t>
            </a: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 – место для зрелищ и само зрелище - род искусства, художественное отражение жизни с помощью сценического действия, возникающего в процессе игры актеров перед публик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Что такое музыкальный театр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Музыкальный театр - </a:t>
            </a: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это и коллектив, ставящий музыкальные спектакли, и разновидности музыкально-сценического жан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Содержимое 4" descr="img9393_1438228096.jpg"/>
          <p:cNvPicPr/>
          <p:nvPr/>
        </p:nvPicPr>
        <p:blipFill>
          <a:blip r:embed="rId1"/>
          <a:stretch/>
        </p:blipFill>
        <p:spPr>
          <a:xfrm>
            <a:off x="4648320" y="3143160"/>
            <a:ext cx="4281480" cy="264312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Музыкально-сценические жанр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опе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оперет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мюзикл  (музыкальная комед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бал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Музыка  -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 вид искусства, в котором переживания, чувства и идеи выражаются ритмически и интонационно организованными звуками. Музыку сочиняет композит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Композитор -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это музыкант, который пишет музык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Monotype Corsiva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Театральный композитор </a:t>
            </a:r>
            <a:r>
              <a:rPr b="0" lang="ru-RU" sz="2000" spc="-1" strike="noStrike">
                <a:solidFill>
                  <a:srgbClr val="000066"/>
                </a:solidFill>
                <a:latin typeface="Monotype Corsiva"/>
              </a:rPr>
              <a:t>—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это, как правило, руководитель музыкальной части театра, он же и дирижер театрального оркест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Дирижер </a:t>
            </a:r>
            <a:r>
              <a:rPr b="0" lang="ru-RU" sz="2000" spc="-1" strike="noStrike">
                <a:solidFill>
                  <a:srgbClr val="000066"/>
                </a:solidFill>
                <a:latin typeface="Monotype Corsiva"/>
              </a:rPr>
              <a:t>–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руководитель разучивания и исполнения ансамблевой (оркестровой, хоровой, оперной и т. д.) музыки.  Дирижер обеспечивает как ансамблевую стройность, так и техническое совершенство испол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Либретто (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с ит. «книжечка») - краткое содержание сюжета. Либретто пишет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либретти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Опера</a:t>
            </a: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  ( с ит. «сочинение») -  музыкально-театрализованное  произведение, основанное на синтезе слова, сценического действия и музыки.</a:t>
            </a:r>
            <a:r>
              <a:rPr b="0" lang="en-US" sz="28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Возникла в Италии в </a:t>
            </a:r>
            <a:r>
              <a:rPr b="0" lang="en-US" sz="2800" spc="-1" strike="noStrike">
                <a:solidFill>
                  <a:srgbClr val="0000ff"/>
                </a:solidFill>
                <a:latin typeface="Monotype Corsiva"/>
              </a:rPr>
              <a:t>XVI - XV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Содержимое 16" descr="00.jpg"/>
          <p:cNvPicPr/>
          <p:nvPr/>
        </p:nvPicPr>
        <p:blipFill>
          <a:blip r:embed="rId1"/>
          <a:stretch/>
        </p:blipFill>
        <p:spPr>
          <a:xfrm>
            <a:off x="285840" y="2643120"/>
            <a:ext cx="3214440" cy="224316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17" descr="к.jpg"/>
          <p:cNvPicPr/>
          <p:nvPr/>
        </p:nvPicPr>
        <p:blipFill>
          <a:blip r:embed="rId2"/>
          <a:stretch/>
        </p:blipFill>
        <p:spPr>
          <a:xfrm>
            <a:off x="3857760" y="1785960"/>
            <a:ext cx="4857480" cy="435780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Оперетта</a:t>
            </a: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 (</a:t>
            </a: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уменьшительное от «опера») -  музыкально-театральный жанр, сценическое произведение и представление, основанное на синтезе слова, сценического действия, музыки и хореограф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Содержимое 4" descr="belaya-akatsiya(1).png"/>
          <p:cNvPicPr/>
          <p:nvPr/>
        </p:nvPicPr>
        <p:blipFill>
          <a:blip r:embed="rId1"/>
          <a:stretch/>
        </p:blipFill>
        <p:spPr>
          <a:xfrm>
            <a:off x="571680" y="2286000"/>
            <a:ext cx="3500280" cy="435780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5" descr="img2897_1507867917.jpg"/>
          <p:cNvPicPr/>
          <p:nvPr/>
        </p:nvPicPr>
        <p:blipFill>
          <a:blip r:embed="rId2"/>
          <a:stretch/>
        </p:blipFill>
        <p:spPr>
          <a:xfrm>
            <a:off x="4214880" y="2286000"/>
            <a:ext cx="4714920" cy="300024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Мюзикл 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(с англ. «музыкальная комедия»). В мюзкле сочетаются – музыка, танец, пение и драматическое действие, используются все выразительные музыкальные, технические и постановочные средства, современные моменту исполнения. В отличие от оперетты, где танцы играют роль вставных номеров, мюзикл имеет сквозную драматургию. Сама музыка, как правило, написана в современных ритмах  (ритм очень важен для мюзикла), с простым сюжетом и счастливым конц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Содержимое 4" descr="img3382_1507872818.jpg"/>
          <p:cNvPicPr/>
          <p:nvPr/>
        </p:nvPicPr>
        <p:blipFill>
          <a:blip r:embed="rId1"/>
          <a:stretch/>
        </p:blipFill>
        <p:spPr>
          <a:xfrm>
            <a:off x="571680" y="3214800"/>
            <a:ext cx="364320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5" descr="img4249_1507872819.jpg"/>
          <p:cNvPicPr/>
          <p:nvPr/>
        </p:nvPicPr>
        <p:blipFill>
          <a:blip r:embed="rId2"/>
          <a:stretch/>
        </p:blipFill>
        <p:spPr>
          <a:xfrm>
            <a:off x="4648320" y="3214800"/>
            <a:ext cx="4038480" cy="342900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Содержимое 4" descr="img5502_1507873489.jpg"/>
          <p:cNvPicPr/>
          <p:nvPr/>
        </p:nvPicPr>
        <p:blipFill>
          <a:blip r:embed="rId1"/>
          <a:stretch/>
        </p:blipFill>
        <p:spPr>
          <a:xfrm>
            <a:off x="858960" y="1500120"/>
            <a:ext cx="3235320" cy="451980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5" descr="img4674_1507873489.jpg"/>
          <p:cNvPicPr/>
          <p:nvPr/>
        </p:nvPicPr>
        <p:blipFill>
          <a:blip r:embed="rId2"/>
          <a:stretch/>
        </p:blipFill>
        <p:spPr>
          <a:xfrm>
            <a:off x="4357800" y="2143080"/>
            <a:ext cx="4572000" cy="322092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07:23:11Z</dcterms:created>
  <dc:creator>ppsworld.ru</dc:creator>
  <dc:description/>
  <cp:keywords>фон для power point</cp:keywords>
  <dc:language>en-US</dc:language>
  <cp:lastModifiedBy>HP</cp:lastModifiedBy>
  <dcterms:modified xsi:type="dcterms:W3CDTF">2020-12-05T11:11:35Z</dcterms:modified>
  <cp:revision>130</cp:revision>
  <dc:subject/>
  <dc:title>Слайд 1</dc:title>
</cp:coreProperties>
</file>