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1FA-209C-4EFD-9D0C-74AD77F7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B74-AA22-4FFB-9C93-704FEF37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AEF-52C6-42A8-8723-49E8C7D3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EEC-88EF-48A1-99B2-55C1FFE9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1670C-FDE6-4BC6-ACAB-A8A1B01F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8C531-319A-46C1-9604-44ACCE42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13E2A-5797-4923-A8AF-42C7673B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D0C39-9BD6-4A51-8CB7-7BFFDFA0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3DDB5-36E9-4DF6-8059-98ABEC73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92957-6E11-40CD-83CC-641033B8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6AB26-605F-40A0-8A52-9008189A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123-703B-4110-B6F2-CAA69693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DFF39-48DC-4135-BAFC-5989D18A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81472-6F0E-4C5D-A812-FB8959D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64479-5C30-4CE4-86AD-4266C7BD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906FC-4372-4432-BBB7-EC9D34E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DE180-E298-4EB9-A1F1-8D75C208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915-4EB5-48AD-A958-271BD144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994-F769-4D77-BD55-5477B2B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091-3088-4462-A3FB-33898D5A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8F3-9607-46CB-8FB9-D9DD934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1D2-5718-425C-9ED0-3A27702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B5D-AC3F-4A1B-9C25-A0A327AC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843-F24C-494B-8E8F-9FC40714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0EEB-750A-470F-BBB7-2BDD85CE8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6AE5-38BC-43EC-BE18-40809CACE4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28800"/>
            <a:ext cx="835164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800" spc="-1" strike="noStrike">
                <a:solidFill>
                  <a:srgbClr val="6666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Музыкально – сценические жанры теат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80000" y="4429080"/>
            <a:ext cx="51847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2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Автор: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                          Биличенко Н. 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b2c"/>
                </a:solidFill>
                <a:latin typeface="Monotype Corsiva"/>
                <a:ea typeface="Times New Roman"/>
              </a:rPr>
              <a:t>г. Ленинск - Кузнец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b2c"/>
                </a:solidFill>
                <a:latin typeface="Monotype Corsiva"/>
              </a:rPr>
              <a:t>            </a:t>
            </a:r>
            <a:r>
              <a:rPr b="1" lang="ru-RU" sz="2400" spc="-1" strike="noStrike">
                <a:solidFill>
                  <a:srgbClr val="000b2c"/>
                </a:solidFill>
                <a:latin typeface="Monotype Corsiva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58920" y="333360"/>
            <a:ext cx="86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0046"/>
                </a:solidFill>
                <a:latin typeface="Monotype Corsiva"/>
                <a:ea typeface="Times New Roman"/>
              </a:rPr>
              <a:t>МБДОУ  «Детский сад 22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C:\Users\51\Desktop\фото\10.JPG"/>
          <p:cNvPicPr/>
          <p:nvPr/>
        </p:nvPicPr>
        <p:blipFill>
          <a:blip r:embed="rId1"/>
          <a:stretch/>
        </p:blipFill>
        <p:spPr>
          <a:xfrm>
            <a:off x="2071800" y="2214720"/>
            <a:ext cx="4929120" cy="30715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42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Балет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(от фр. «танцевать»)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ид сценического искусства; спектакль, содержание которого воплощается в музыкально-хореографических образах. Основными видами танца в балете являются классический танец и характерный танец (народные и национальные танцы). Немаловажную роль играет пантомима, с помощью которой актёры передают чувства героев, их «разговор» между собой, суть происходящ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Содержимое 5" descr="DonQuihote.jpg"/>
          <p:cNvPicPr/>
          <p:nvPr/>
        </p:nvPicPr>
        <p:blipFill>
          <a:blip r:embed="rId1"/>
          <a:stretch/>
        </p:blipFill>
        <p:spPr>
          <a:xfrm>
            <a:off x="4648320" y="3071880"/>
            <a:ext cx="4038480" cy="31431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7" descr="Wilfride_Piollet_danse_dans_-le_Lac_des_Cygnes-_(à_l'Opéra_de_Paris,_1977).jpg"/>
          <p:cNvPicPr/>
          <p:nvPr/>
        </p:nvPicPr>
        <p:blipFill>
          <a:blip r:embed="rId2"/>
          <a:stretch/>
        </p:blipFill>
        <p:spPr>
          <a:xfrm>
            <a:off x="887400" y="3000240"/>
            <a:ext cx="3178080" cy="31435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1\Desktop\ТЕАТР\boy-e1321270917568-422x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857840" y="-360"/>
            <a:ext cx="4286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занавес трепещ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лампочки горя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звонко рукоплещ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тысячи ребят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. Я. Марш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Цель: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популяризация  театрального музыкального искус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32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формировать представление о театр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уметь различать музыкально-сценические жан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ширять и систематизировать  базовые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знания с использованием дополнительных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C:\Users\51\Desktop\фото\images.jpg"/>
          <p:cNvPicPr/>
          <p:nvPr/>
        </p:nvPicPr>
        <p:blipFill>
          <a:blip r:embed="rId1"/>
          <a:stretch/>
        </p:blipFill>
        <p:spPr>
          <a:xfrm>
            <a:off x="6572160" y="5072040"/>
            <a:ext cx="2571840" cy="17859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Что такое театр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Содержимое 4" descr="0_16801f_1c29a2fd_orig.jpg"/>
          <p:cNvPicPr/>
          <p:nvPr/>
        </p:nvPicPr>
        <p:blipFill>
          <a:blip r:embed="rId1"/>
          <a:stretch/>
        </p:blipFill>
        <p:spPr>
          <a:xfrm>
            <a:off x="500040" y="192888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Театр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 – место для зрелищ и само зрелище - род искусства, художественное отражение жизни с помощью сценического действия, возникающего в процессе игры актеров перед публи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Что такое музыкальный театр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узыкальный театр -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это и коллектив, ставящий музыкальные спектакли, и разновидности музыкально-сценического жан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Содержимое 4" descr="img9393_1438228096.jpg"/>
          <p:cNvPicPr/>
          <p:nvPr/>
        </p:nvPicPr>
        <p:blipFill>
          <a:blip r:embed="rId1"/>
          <a:stretch/>
        </p:blipFill>
        <p:spPr>
          <a:xfrm>
            <a:off x="4648320" y="3143160"/>
            <a:ext cx="4281480" cy="26431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Музыкально-сценические жан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оп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оперет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мюзикл  (музыкальная комед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ба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Музыка  -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вид искусства, в котором переживания, чувства и идеи выражаются ритмически и интонационно организованными звуками. Музыку сочиняет компози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Композитор -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это музыкант, который пишет музы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Театральный композитор </a:t>
            </a:r>
            <a:r>
              <a:rPr b="0" lang="ru-RU" sz="2000" spc="-1" strike="noStrike">
                <a:solidFill>
                  <a:srgbClr val="000066"/>
                </a:solidFill>
                <a:latin typeface="Monotype Corsiva"/>
              </a:rPr>
              <a:t>—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это, как правило, руководитель музыкальной части театра, он же и дирижер театрального оркест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Дирижер </a:t>
            </a:r>
            <a:r>
              <a:rPr b="0" lang="ru-RU" sz="2000" spc="-1" strike="noStrike">
                <a:solidFill>
                  <a:srgbClr val="000066"/>
                </a:solidFill>
                <a:latin typeface="Monotype Corsiva"/>
              </a:rPr>
              <a:t>–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руководитель разучивания и исполнения ансамблевой (оркестровой, хоровой, оперной и т. д.) музыки.  Дирижер обеспечивает как ансамблевую стройность, так и техническое совершенство испол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Либретто (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 ит. «книжечка») - краткое содержание сюжета. Либретто пишет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ибретт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Опера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  ( с ит. «сочинение») -  музыкально-театрализованное  произведение, основанное на синтезе слова, сценического действия и музыки.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Возникла в Италии в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XVI - XV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16" descr="00.jpg"/>
          <p:cNvPicPr/>
          <p:nvPr/>
        </p:nvPicPr>
        <p:blipFill>
          <a:blip r:embed="rId1"/>
          <a:stretch/>
        </p:blipFill>
        <p:spPr>
          <a:xfrm>
            <a:off x="285840" y="2643120"/>
            <a:ext cx="3214440" cy="224316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7" descr="к.jpg"/>
          <p:cNvPicPr/>
          <p:nvPr/>
        </p:nvPicPr>
        <p:blipFill>
          <a:blip r:embed="rId2"/>
          <a:stretch/>
        </p:blipFill>
        <p:spPr>
          <a:xfrm>
            <a:off x="3857760" y="1785960"/>
            <a:ext cx="4857480" cy="43578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Оперетта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(</a:t>
            </a: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уменьшительное от «опера») -  музыкально-театральный жанр, сценическое произведение и представление, основанное на синтезе слова, сценического действия, музыки и хореограф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Содержимое 4" descr="belaya-akatsiya(1).png"/>
          <p:cNvPicPr/>
          <p:nvPr/>
        </p:nvPicPr>
        <p:blipFill>
          <a:blip r:embed="rId1"/>
          <a:stretch/>
        </p:blipFill>
        <p:spPr>
          <a:xfrm>
            <a:off x="571680" y="2286000"/>
            <a:ext cx="3500280" cy="435780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5" descr="img2897_1507867917.jpg"/>
          <p:cNvPicPr/>
          <p:nvPr/>
        </p:nvPicPr>
        <p:blipFill>
          <a:blip r:embed="rId2"/>
          <a:stretch/>
        </p:blipFill>
        <p:spPr>
          <a:xfrm>
            <a:off x="4214880" y="2286000"/>
            <a:ext cx="4714920" cy="30002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юзикл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(с англ. «музыкальная комедия»). В мюзкле сочетаются – музыка, танец, пение и драматическое действие, используются все выразительные музыкальные, технические и постановочные средства, современные моменту исполнения. В отличие от оперетты, где танцы играют роль вставных номеров, мюзикл имеет сквозную драматургию. Сама музыка, как правило, написана в современных ритмах  (ритм очень важен для мюзикла), с простым сюжетом и счастливым конц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Содержимое 4" descr="img3382_1507872818.jpg"/>
          <p:cNvPicPr/>
          <p:nvPr/>
        </p:nvPicPr>
        <p:blipFill>
          <a:blip r:embed="rId1"/>
          <a:stretch/>
        </p:blipFill>
        <p:spPr>
          <a:xfrm>
            <a:off x="571680" y="3214800"/>
            <a:ext cx="364320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5" descr="img4249_1507872819.jpg"/>
          <p:cNvPicPr/>
          <p:nvPr/>
        </p:nvPicPr>
        <p:blipFill>
          <a:blip r:embed="rId2"/>
          <a:stretch/>
        </p:blipFill>
        <p:spPr>
          <a:xfrm>
            <a:off x="4648320" y="321480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4" descr="img5502_1507873489.jpg"/>
          <p:cNvPicPr/>
          <p:nvPr/>
        </p:nvPicPr>
        <p:blipFill>
          <a:blip r:embed="rId1"/>
          <a:stretch/>
        </p:blipFill>
        <p:spPr>
          <a:xfrm>
            <a:off x="858960" y="1500120"/>
            <a:ext cx="3235320" cy="45198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5" descr="img4674_1507873489.jpg"/>
          <p:cNvPicPr/>
          <p:nvPr/>
        </p:nvPicPr>
        <p:blipFill>
          <a:blip r:embed="rId2"/>
          <a:stretch/>
        </p:blipFill>
        <p:spPr>
          <a:xfrm>
            <a:off x="4357800" y="2143080"/>
            <a:ext cx="4572000" cy="32209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23:11Z</dcterms:created>
  <dc:creator>ppsworld.ru</dc:creator>
  <dc:description/>
  <cp:keywords>фон для power point</cp:keywords>
  <dc:language>en-US</dc:language>
  <cp:lastModifiedBy>HP</cp:lastModifiedBy>
  <dcterms:modified xsi:type="dcterms:W3CDTF">2020-12-05T11:11:35Z</dcterms:modified>
  <cp:revision>130</cp:revision>
  <dc:subject/>
  <dc:title>Слайд 1</dc:title>
</cp:coreProperties>
</file>