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865680"/>
            <a:ext cx="9142560" cy="2990880"/>
            <a:chOff x="0" y="3865680"/>
            <a:chExt cx="9142560" cy="29908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256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3867120"/>
              <a:ext cx="9142560" cy="2989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0" y="0"/>
            <a:ext cx="9142560" cy="3863880"/>
            <a:chOff x="0" y="0"/>
            <a:chExt cx="9142560" cy="3863880"/>
          </a:xfrm>
        </p:grpSpPr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2560" cy="38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2560" cy="386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1603440"/>
            <a:ext cx="9142560" cy="5100480"/>
            <a:chOff x="0" y="1603440"/>
            <a:chExt cx="9142560" cy="5100480"/>
          </a:xfrm>
        </p:grpSpPr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2560" cy="51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2720" cy="360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5108400"/>
            <a:ext cx="9142560" cy="1748160"/>
            <a:chOff x="0" y="5108400"/>
            <a:chExt cx="9142560" cy="174816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0" y="5110200"/>
              <a:ext cx="914256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108400"/>
              <a:ext cx="9142560" cy="174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0" y="0"/>
            <a:ext cx="9142560" cy="5106960"/>
            <a:chOff x="0" y="0"/>
            <a:chExt cx="9142560" cy="5106960"/>
          </a:xfrm>
        </p:grpSpPr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256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0"/>
              <a:ext cx="9142560" cy="510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1603440"/>
            <a:ext cx="9142560" cy="5100480"/>
            <a:chOff x="0" y="1603440"/>
            <a:chExt cx="9142560" cy="5100480"/>
          </a:xfrm>
        </p:grpSpPr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2560" cy="51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339920" y="2347920"/>
              <a:ext cx="6462720" cy="360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5108400"/>
            <a:ext cx="9142560" cy="1748160"/>
            <a:chOff x="0" y="5108400"/>
            <a:chExt cx="9142560" cy="1748160"/>
          </a:xfrm>
        </p:grpSpPr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0" y="5110200"/>
              <a:ext cx="914256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0" y="5108400"/>
              <a:ext cx="9142560" cy="174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0" y="0"/>
            <a:ext cx="9142560" cy="5106960"/>
            <a:chOff x="0" y="0"/>
            <a:chExt cx="9142560" cy="5106960"/>
          </a:xfrm>
        </p:grpSpPr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256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0" y="0"/>
              <a:ext cx="9142560" cy="510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1603440"/>
            <a:ext cx="9142560" cy="5100480"/>
            <a:chOff x="0" y="1603440"/>
            <a:chExt cx="9142560" cy="5100480"/>
          </a:xfrm>
        </p:grpSpPr>
        <p:pic>
          <p:nvPicPr>
            <p:cNvPr id="104" name="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2560" cy="51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339920" y="2347920"/>
              <a:ext cx="6462720" cy="360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5108400"/>
            <a:ext cx="9142560" cy="1748160"/>
            <a:chOff x="0" y="5108400"/>
            <a:chExt cx="9142560" cy="174816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0" y="5110200"/>
              <a:ext cx="914256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5108400"/>
              <a:ext cx="9142560" cy="174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0" y="0"/>
            <a:ext cx="9142560" cy="5106960"/>
            <a:chOff x="0" y="0"/>
            <a:chExt cx="9142560" cy="510696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256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0" y="0"/>
              <a:ext cx="9142560" cy="510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0" y="1603440"/>
            <a:ext cx="9142560" cy="5100480"/>
            <a:chOff x="0" y="1603440"/>
            <a:chExt cx="9142560" cy="5100480"/>
          </a:xfrm>
        </p:grpSpPr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2560" cy="51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339920" y="2347920"/>
              <a:ext cx="6462720" cy="360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0" y="3865680"/>
            <a:ext cx="9142560" cy="2990880"/>
            <a:chOff x="0" y="3865680"/>
            <a:chExt cx="9142560" cy="2990880"/>
          </a:xfrm>
        </p:grpSpPr>
        <p:pic>
          <p:nvPicPr>
            <p:cNvPr id="155" name="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256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3867120"/>
              <a:ext cx="9142560" cy="2989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0" y="0"/>
            <a:ext cx="9142560" cy="3863880"/>
            <a:chOff x="0" y="0"/>
            <a:chExt cx="9142560" cy="3863880"/>
          </a:xfrm>
        </p:grpSpPr>
        <p:pic>
          <p:nvPicPr>
            <p:cNvPr id="158" name="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2560" cy="38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0" y="0"/>
              <a:ext cx="9142560" cy="386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1603440"/>
            <a:ext cx="9142560" cy="5100480"/>
            <a:chOff x="0" y="1603440"/>
            <a:chExt cx="9142560" cy="5100480"/>
          </a:xfrm>
        </p:grpSpPr>
        <p:pic>
          <p:nvPicPr>
            <p:cNvPr id="162" name="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2560" cy="51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339920" y="2347920"/>
              <a:ext cx="6462720" cy="360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651640" y="4941720"/>
            <a:ext cx="30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rebuchet MS"/>
              </a:rPr>
              <a:t>Выполнила: Поезжаева В. 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-542880" y="762120"/>
            <a:ext cx="909648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476360" y="1989000"/>
            <a:ext cx="604044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14124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09480" y="85680"/>
            <a:ext cx="8064720" cy="6526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68360" y="692280"/>
            <a:ext cx="755964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" algn="ctr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дагог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40" indent="-42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для воспит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40" indent="-42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 –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rcRect l="4456" t="13384" r="4055" b="0"/>
          <a:stretch/>
        </p:blipFill>
        <p:spPr>
          <a:xfrm>
            <a:off x="4686480" y="1166760"/>
            <a:ext cx="3414600" cy="2424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rcRect l="0" t="0" r="26052" b="0"/>
          <a:stretch/>
        </p:blipFill>
        <p:spPr>
          <a:xfrm>
            <a:off x="4686480" y="3919680"/>
            <a:ext cx="3414600" cy="2593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403280" y="2039760"/>
            <a:ext cx="252108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9800" y="49320"/>
            <a:ext cx="8217000" cy="652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88800" y="692280"/>
            <a:ext cx="829800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476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деть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650000" y="5788080"/>
            <a:ext cx="1784520" cy="1069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4925880" y="3716280"/>
            <a:ext cx="2724120" cy="2397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468360" y="549360"/>
            <a:ext cx="2609640" cy="2313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5462640" y="765000"/>
            <a:ext cx="3112920" cy="2592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1332000" y="3263760"/>
            <a:ext cx="252072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042920" y="231840"/>
            <a:ext cx="7058160" cy="60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39640" y="1052640"/>
            <a:ext cx="2519640" cy="4487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067280" y="1609560"/>
            <a:ext cx="3816360" cy="3114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24000" y="5907240"/>
            <a:ext cx="68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каз открытого итогового занятия «Фиксики в гостях у ребя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620720" y="49320"/>
            <a:ext cx="7066080" cy="712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11280" y="1052640"/>
            <a:ext cx="80755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" algn="ctr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дагог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40" indent="-42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 на ПС по теме «Работа с палочками Кюизене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40" indent="-42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 открытого занятия с использованием палочек Кюизенера «Планета Железяка в беде» (состав чис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84360" y="3573360"/>
            <a:ext cx="3938400" cy="2212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5670720" y="2997360"/>
            <a:ext cx="2511360" cy="31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042920" y="85680"/>
            <a:ext cx="7199280" cy="65102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143000" y="731880"/>
            <a:ext cx="640080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" algn="ctr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940360" y="1244520"/>
            <a:ext cx="2448000" cy="4343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2411280" y="4200480"/>
            <a:ext cx="2949840" cy="24163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rcRect l="0" t="30743" r="0" b="0"/>
          <a:stretch/>
        </p:blipFill>
        <p:spPr>
          <a:xfrm>
            <a:off x="179280" y="1268280"/>
            <a:ext cx="393084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793880" y="4371840"/>
            <a:ext cx="651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79280" y="1460520"/>
            <a:ext cx="4203720" cy="4203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4500720" y="1484280"/>
            <a:ext cx="4201920" cy="42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262160" y="334800"/>
            <a:ext cx="6802200" cy="6526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579600" y="692280"/>
            <a:ext cx="2033280" cy="2952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1587600" y="3860640"/>
            <a:ext cx="2736720" cy="2835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5003640" y="1197000"/>
            <a:ext cx="3407040" cy="34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954240" cy="2308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4836960" y="404640"/>
            <a:ext cx="3794400" cy="24879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572000" y="3220920"/>
            <a:ext cx="3384720" cy="33051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rcRect l="33699" t="30333" r="13554" b="0"/>
          <a:stretch/>
        </p:blipFill>
        <p:spPr>
          <a:xfrm>
            <a:off x="1187280" y="3200400"/>
            <a:ext cx="2470320" cy="326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4T10:12:19Z</dcterms:created>
  <dc:creator>1</dc:creator>
  <dc:description/>
  <dc:language>en-US</dc:language>
  <cp:lastModifiedBy>HP</cp:lastModifiedBy>
  <dcterms:modified xsi:type="dcterms:W3CDTF">2019-05-28T11:40:35Z</dcterms:modified>
  <cp:revision>37</cp:revision>
  <dc:subject/>
  <dc:title>Презентация PowerPoint</dc:title>
</cp:coreProperties>
</file>