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D587-08CB-4C6D-81CF-66C93E0E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EF6B-2089-48FE-8A7E-A36C6689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70B7-0C98-4B4A-872C-DC649799E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10AC-4ABE-454C-BB2C-7F3647D6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1965-E5D6-4828-8A0D-66CAD7CD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F494-5849-423D-95EF-2767647D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0B20-6538-4365-B562-AC966113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2753-31EF-43FD-8C58-42D8FC3C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012D-3884-4C2C-A885-A4597611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4E3B-3550-486D-A6F6-2DC6861F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0C1B-FE39-442E-B9B1-4291B9CB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1090-7992-42DF-ACD1-AC2842D3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B694-7C5E-4093-83D0-5814788058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360" y="549000"/>
            <a:ext cx="66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79280" y="907560"/>
            <a:ext cx="626436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ржественное мероприятие «Память сердца»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вященно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ликой Побе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оспоминание о мирном довоенном времен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050920" y="3127320"/>
            <a:ext cx="6434280" cy="361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3"/>
          <p:cNvSpPr/>
          <p:nvPr/>
        </p:nvSpPr>
        <p:spPr>
          <a:xfrm>
            <a:off x="2411280" y="1557360"/>
            <a:ext cx="511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юнь! Клонился к вечеру закат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белой ночи разливалось мор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раздавался звонкий смех ребят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знающих, не ведающих гор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324480" y="259920"/>
            <a:ext cx="281952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анец «Парами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403280" y="115920"/>
            <a:ext cx="4537080" cy="3403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4067280" y="2997360"/>
            <a:ext cx="49035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258560" y="1440"/>
            <a:ext cx="7885080" cy="22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Сирена. Голос Левитана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"Граждане и гражданки Советского Союза. От советского информбюро. Сегодня, в 4 часа утра, без объявления войны германские вооруженные силы атаковали границы Советского Союза. Началась Великая Отечественная война советского народа против немецко – фашистких захватчиков. Наше дело правое , враг будит разбит, Победа будет за нами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332000" y="2416320"/>
            <a:ext cx="7694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2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6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556000" y="115920"/>
            <a:ext cx="52560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х, война, что ты сделала, подла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али тихими наши дворы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ши мальчики головы поднял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зрослели они до пор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930240" y="1628640"/>
            <a:ext cx="81867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843280" y="333000"/>
            <a:ext cx="4680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пороге едва замаячил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ушли за солдатом солдат..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 свидания, мальчики, мальчики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тарайтесь вернуться назад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49320" y="2133720"/>
            <a:ext cx="909468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1258920" y="115920"/>
            <a:ext cx="5834160" cy="32814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64000" y="274320"/>
            <a:ext cx="197964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сня «Будем солдатами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3419640" y="3532320"/>
            <a:ext cx="554508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58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цена «Затишье перед боем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331640" y="980640"/>
            <a:ext cx="7561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ужчины уходили на фронт воевать, а женщины продолжали работать день и ночь на фабриках и заводах: шили шинели, вязали теплые рукавицы, носки, пекли хлеб. А еще они писали письма солдатам, в которых рассказывали о родном доме, о том как они ждут победы и возвращения домой своих сыновей, братьев и муж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344600" y="2492280"/>
            <a:ext cx="76042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8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24000" y="274320"/>
            <a:ext cx="29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анец «Катюш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58920" y="274680"/>
            <a:ext cx="3673440" cy="28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дни войны песня была и оружием, и паролем и мечтою и клятвой. Песни согревали сердца наших защитников, они пели о верности, любви и дружбе. Песни не награждались орденами, но для нашей Победы, они делали очень и очень мног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1332000" y="3500280"/>
            <a:ext cx="5530680" cy="3237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5003640" y="148428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9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332000" y="115560"/>
            <a:ext cx="547200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цы уходили от нас в 41- 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гда задыхалась от горя Земл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было им больно и горько, наверн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плыли в июньском чаду топол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где – то в боях сизокрылою ранью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 Ладогой, Оршею или Орл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и, умирая входили в сказань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б в жизни остаться сегодняшним дн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771640" y="3048120"/>
            <a:ext cx="62024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0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4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8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6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8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0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55640" y="115920"/>
            <a:ext cx="4824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шла война четыре долгих г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ы воевали за свою свободу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раги хотели нашу Землю захватить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нас в рабов послушных преврати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ашистских оккупантов побеждал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 самого Берлина немцев гнал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ыл взят Берлин, и на Рейхста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ыл гордо водружен наш фла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332000" y="3068640"/>
            <a:ext cx="768168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5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3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7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1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5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9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47280" y="476280"/>
            <a:ext cx="71298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ель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58560" y="1700280"/>
            <a:ext cx="78850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разовательная область «Познавательное развитие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Обогатить знания детей о великом и светлом празднике Дне Победы; уточнить и расширить представления о Великой Отечественной войне, о детях военной поры. Показать мужество русских солдат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разовательная область «Социально-коммуникативное развитие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Создать у детей настроение сопереживания прошедшим событиям Великой Отечественной войны; Воспитывать у детей стремление быть похожими на тех, кто отстоял нашу Родину. Развивать чувство патриотизм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разовательная область «Художественно - эстетическое развитие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развивать музыкальные способности детей, музыкальное восприят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508720" y="1267920"/>
            <a:ext cx="35272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очется отдать сегодня дань памяти нашим землякам, вспомнить их простые лица, говорок, ещё раз увидеть мысленным взором как гордо шли они в строю каждый день Победы, надев праздничные пиджаки с орденами и медалями, как просто и понятно рассказывали о войне школьникам и молодёжи. Их уже с нами нет. Но остались их дети, их живая память, их надежд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276200" y="3933720"/>
            <a:ext cx="4537080" cy="254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1258920" y="404640"/>
            <a:ext cx="45543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6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7640" y="115560"/>
            <a:ext cx="67676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ссказ о ветеранах В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66560" y="620280"/>
            <a:ext cx="77770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катисов Николай Иванович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это человек был настоящим олицетворением воина – Победителя, разведчик отдельного артиллерийского дивизиона 29-ой мотто стрелковой бригады, 10-го Уральского добровольческого танкового корпуса. Участвовал во взятии Берлина. Участник парада Победы в июне 1945 года в г.Москв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миров Иван Яковлевич 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943 году ушёл на фронт добровольцем, в танковый корпус. Дошел до Берл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ытков Анатолий Михайлович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16 лет сбежал на фронт. В 1943 году два месяца учебки , потом фронт, отдельная 9-я штурмовая инженерно-саперная бригада под командованием генерала Пшехонцев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2556000" y="3573360"/>
            <a:ext cx="533376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5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9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3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ово гостям- детям ветеранов В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469880" y="2030400"/>
            <a:ext cx="7423200" cy="467676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5"/>
          <p:cNvSpPr/>
          <p:nvPr/>
        </p:nvSpPr>
        <p:spPr>
          <a:xfrm>
            <a:off x="1436760" y="836640"/>
            <a:ext cx="745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ртынов Геннадий Сергеевич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шёл на фронт в возрасте 18 лет добровольцем. Радист, командир отделения Полком взвода отдельного артиллерийского противотанкового взвода 29-ой Гвардейской бригады. Участвовал во взятии Берли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187280" y="188640"/>
            <a:ext cx="78552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ычёв Григорий Трофимович 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 самых первых дней войны, был разведчиком. Очень смелый, выносливый, волевой человек. В самых трудных заданиях, он был всегда впереди, до последнего сражался за Родину не жалея своих сил. Героически погиб в 1942 году. Слово предоставляется дочери Марие Григорьев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770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9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843280" y="189000"/>
            <a:ext cx="403848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асибо вам, солдаты дороги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вы не испугались смерти зло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ашистов беспощадных победил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принесли нам счастье и пок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763884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0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4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8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2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есня «День Победы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770400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27280" y="274320"/>
            <a:ext cx="280836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анец «Бескозырка белая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4067280" y="2997360"/>
            <a:ext cx="4903560" cy="3676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1332000" y="166680"/>
            <a:ext cx="47750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дождались с фронта своих сыновей и дочерей тысячи матере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 долго хранили они солдатские треугольники – весточки от дорогих детей! И до самой смерти своей не верили в их гибель. Надеялись и ждали наперекор злым похоронк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843280" y="1413000"/>
            <a:ext cx="403848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рит дрожащая свеч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дунь на пламя сгоряч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ты, волшебный огонек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 чем бы нам поведать мо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1403280" y="2862360"/>
            <a:ext cx="75675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1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5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9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24000" y="260280"/>
            <a:ext cx="3178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инута молч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32000" y="115560"/>
            <a:ext cx="468000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ходят люди к Вечному огню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ходят, чтобы низко поклонитьс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м, кто погиб в жестокую войну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х подвигами Родина гордит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рит огонь и в дождь, и в снег, и в град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заметут его метель и вете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1332000" y="3184560"/>
            <a:ext cx="5543640" cy="354960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2"/>
          <p:cNvSpPr/>
          <p:nvPr/>
        </p:nvSpPr>
        <p:spPr>
          <a:xfrm>
            <a:off x="4673520" y="1844640"/>
            <a:ext cx="4403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ессмертен подвиг доблестных солда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сут цветы и взрослые и де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м, кто стоял за Родину свою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об не могла война вновь повторить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ходят люди к Вечному огню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ходят, чтобы низко поклонить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0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0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4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8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9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2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6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00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0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0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96000" y="836640"/>
            <a:ext cx="316872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анец «Журавли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4325760" y="3213000"/>
            <a:ext cx="4716720" cy="3502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1187280" y="115920"/>
            <a:ext cx="47530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0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129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узыкальный материал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63360" y="765000"/>
            <a:ext cx="81723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марш В. Агапкина «Прощание славянки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запись военного сообщения диктора ВРК Ю. Левитана о нападении Германии на СССР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песня «Священная война», сл. В. И. Лебедева-Кумача, муз А. В Александров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фонограмма песни «Синий платочек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фонограмма: шаги солдат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песня «Будем солдатами» №8-08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есня «Ночь коротка», слова Е. Долматовского, музыка М. Фрадкин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есня «Моя Армия», музыка Э. Ханок, стихи И. Резник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песня «Эх, дороги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Танец «Бескозырка белая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. Шуман «Грёзы», соч. 15 №7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фонограмма - поппури на военные песен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есня «Граница», сл. и муз. Л. Агутин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песня «День Победы», сл. В. Харитонова, муз. Д. Тухманов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есня Отмените войн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роном.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(19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нограмма «Поклонимся великим тем годам»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песня «Журавли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5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9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3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7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1" dur="2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5" dur="2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9" dur="2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9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3" dur="2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9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7" dur="20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9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1" dur="2000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0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5" dur="2000"/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9" dur="2000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3" dur="2000"/>
                                        <p:tgtEl>
                                          <p:spTgt spid="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00720" y="274680"/>
            <a:ext cx="284328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есня «Отмените войну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332000" y="115920"/>
            <a:ext cx="4968720" cy="3319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3635280" y="3495600"/>
            <a:ext cx="540720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258560" y="-360"/>
            <a:ext cx="7489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рогие, друзья, дорогие гости! С Днем Победы! С праздником Вас! Праздничные мероприятия, посвященные Дню Великой Победы, не заканчиваются, в канун праздника приглашаем всех на концерт «Салют Победы», посетить наш мини – музей в холле детского сада, а так же принять участие в посадке деревьев «Аллеи славы» на территории ДОУ, о чём будет дополнительно сообщено на сайте и на информационном стенде ДО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2627280" y="1952640"/>
            <a:ext cx="641520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0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45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7273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кскурсия в выездной мини- музей (историко – краеведческого музе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402920" y="1269720"/>
            <a:ext cx="331812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сейчас мы приглашаем Всех гостей посетить выставку в холле ДОУ и на чаепитие, после чего состоится возложение цветов к памятнику «Вечная слава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403280" y="3981600"/>
            <a:ext cx="4743360" cy="2666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4896000" y="1201680"/>
            <a:ext cx="3852720" cy="2616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3"/>
          <a:stretch/>
        </p:blipFill>
        <p:spPr>
          <a:xfrm>
            <a:off x="6227640" y="3984480"/>
            <a:ext cx="27464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0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5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60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8000"/>
                            </p:stCondLst>
                            <p:childTnLst>
                              <p:par>
                                <p:cTn id="6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озложение цветов к памятнику «Вечная слава героям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4211640" y="3552840"/>
            <a:ext cx="4686120" cy="317340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4"/>
          <p:cNvSpPr/>
          <p:nvPr/>
        </p:nvSpPr>
        <p:spPr>
          <a:xfrm>
            <a:off x="5446800" y="1268280"/>
            <a:ext cx="35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годня праздник входит в каждый до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радость к людям с ним приходит след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ы поздравляем Вас с великим днем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днем нашей Славы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Днем Победы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0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8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4262400" cy="252108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1"/>
          <p:cNvSpPr/>
          <p:nvPr/>
        </p:nvSpPr>
        <p:spPr>
          <a:xfrm>
            <a:off x="1187280" y="1584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астие детей в городских и районных  мероприят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2"/>
          <a:stretch/>
        </p:blipFill>
        <p:spPr>
          <a:xfrm>
            <a:off x="4427640" y="3141720"/>
            <a:ext cx="43923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0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9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64000" y="549360"/>
            <a:ext cx="3600720" cy="16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  кануне Всероссийской акции «День Победы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1332000" y="189000"/>
            <a:ext cx="4038480" cy="385740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1"/>
          <p:cNvSpPr/>
          <p:nvPr/>
        </p:nvSpPr>
        <p:spPr>
          <a:xfrm>
            <a:off x="1700280" y="4797360"/>
            <a:ext cx="239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адка сирен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 «Аллее Славы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2"/>
          <a:stretch/>
        </p:blipFill>
        <p:spPr>
          <a:xfrm>
            <a:off x="4178160" y="3500280"/>
            <a:ext cx="479448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0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700360" y="486864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о свидания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195280" y="26028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йна закончилас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 песней опаленн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д каждым домо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 сих пор кружи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не забыли мы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двадцать миллион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шли в бессмерти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б нам с тобою жи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0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32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36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40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4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44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4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48" dur="2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52" dur="2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56" dur="2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60" dur="20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6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6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115920"/>
            <a:ext cx="76327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едварительная работ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16000" y="1052280"/>
            <a:ext cx="80280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зучивание песен «Будем солдатами», «Вечный огонь», танцев «Журавли», «Бескозырка белая», «Катюша», прослушивание песен военных лет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сещение городского историко – краеведческого музея боевой славы, встреча  с ветеранами войны, знакомство с документальными хрониками войны, рассматривание фотографий, чтение рассказов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ведение акции среди родителей по сбору материалов для нашего мини- музея «…»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сещение ветеранов на дому, которые по состоянию своего здоровья не могут выйти, подготовка мини- концерта, сувениро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4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8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2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6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пражнения с флажками и шар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4968720" cy="2838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4294080" y="3860640"/>
            <a:ext cx="4748400" cy="28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24000" y="260280"/>
            <a:ext cx="3178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имн Росс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32000" y="115560"/>
            <a:ext cx="468000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всей стране, в кругу друз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емит торжественная да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сенний славный юби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бед советского солдата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беда! Победа! Великое слов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нем слава Отчизны и слава бойца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о трепетать заставляет серд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673560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8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2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6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0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332000" y="189000"/>
            <a:ext cx="77040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т и наступил долгожданный День Победы! 9 МАЯ – светлый и радостный праздник. В этот день, много лет назад, закончилась война с немецким фашизмом. Мы с благодарностью вспоминаем наших воинов, защитников, отстоявших мир в жестокой битв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7885080" cy="44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987640" y="115560"/>
            <a:ext cx="4897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асоту, что нам дарит природ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стояли солдаты в огн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йский день 45 год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ал последнею точкой в войн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з потерь нет ни роты, ни взвод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у а те, кто остались в живых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йский день 45 год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хранили для внуков свои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2411280" y="2751120"/>
            <a:ext cx="54626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4278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едставление приглашенных гостей: дети ветеранов ВОВ, участники тыла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5562720" cy="244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4140360" y="4106880"/>
            <a:ext cx="488952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Admin</cp:lastModifiedBy>
  <dcterms:modified xsi:type="dcterms:W3CDTF">2020-12-05T08:50:37Z</dcterms:modified>
  <cp:revision>52</cp:revision>
  <dc:subject/>
  <dc:title>Слайд 1</dc:title>
</cp:coreProperties>
</file>