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FE4-029F-4D67-AFF8-90130C77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2AC-79EF-492F-A30B-6A052E8E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968-0363-4CD7-89E2-CECD4898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302-6397-48FB-8240-3707E7F6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D1C-7D00-47BA-80A0-D07784D6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47C-D719-4324-821F-93DD81DE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8B6-1FC2-4AE9-A619-4FE8966B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BAD-C10C-4E7C-A662-3D889C2B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E77-9810-48E1-B8F0-FFCA0EAA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EC1-1BBE-4E8C-B001-F6202195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B37-9130-4311-8154-98FF25E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D0A-560E-4E35-BF33-A73329C2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DD8B-694C-4E4F-B7E2-8E8F7E2D4C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54900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79280" y="907560"/>
            <a:ext cx="6264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жественное мероприятие «Память сердца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вящен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ликой Побе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споминание о мирном довоенном време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50920" y="3127320"/>
            <a:ext cx="6434280" cy="361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2411280" y="15573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юнь! Клонился к вечеру зака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белой ночи разливалось мор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24480" y="259920"/>
            <a:ext cx="28195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анец «Парам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9035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58560" y="1440"/>
            <a:ext cx="7885080" cy="22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ирена. Голос Левитан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Граждане и гражданки Советского Союза. От советского информбюро. Сегодня, в 4 часа утра, без объявления войны германские вооруженные силы атаковали границы Советского Союза. Началась Великая Отечественная война советского народа против немецко – фашистких захватчиков. Наше дело правое , враг будит разбит, Победа будет за нами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332000" y="2416320"/>
            <a:ext cx="7694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56000" y="115920"/>
            <a:ext cx="5256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х, война, что ты сделала, подла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ли тихими наши двор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и мальчики головы поднял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зрослели они до пор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30240" y="1628640"/>
            <a:ext cx="81867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843280" y="33300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ороге едва замаячил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ушли за солдатом солдат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свидания, мальчики, мальчики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райтесь вернуться назад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9320" y="2133720"/>
            <a:ext cx="90946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5834160" cy="32814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64000" y="274320"/>
            <a:ext cx="19796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сня «Будем солдатами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3419640" y="3532320"/>
            <a:ext cx="55450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цена «Затишье перед бое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31640" y="980640"/>
            <a:ext cx="7561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жчины уходили на фронт воевать, а женщины продолжали работать день и ночь на фабриках и заводах: шили шинели, вязали теплые рукавицы, носки, пекли хлеб. А еще они писали письма солдатам, в которых рассказывали о родном доме, о том как они ждут победы и возвращения домой своих сыновей, братьев и муж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344600" y="2492280"/>
            <a:ext cx="76042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анец «Катюш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8920" y="274680"/>
            <a:ext cx="367344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ни войны песня была и оружием, и паролем и мечтою и клятвой. Песни согревали сердца наших защитников, они пели о верности, любви и дружбе. Песни не награждались орденами, но для нашей Победы, они делали очень и очень м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5530680" cy="323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32000" y="115560"/>
            <a:ext cx="54720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цы уходили от нас в 41- 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задыхалась от горя Зем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было им больно и горько, навер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лыли в июньском чаду топо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где – то в боях сизокрылою ранью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Ладогой, Оршею или Ор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, умирая входили в сказан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 в жизни остаться сегодняшним дн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771640" y="3048120"/>
            <a:ext cx="62024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55640" y="11592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шла война четыре долгих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воевали за свою свобод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аги хотели нашу Землю захвати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нас в рабов послушных преврат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шистских оккупантов побежда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самого Берлина немцев гн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л взят Берлин, и на Рейхста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л гордо водружен наш фла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76816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129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885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ая область «Познавательное развити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Обогатить знания детей о великом и светлом празднике Дне Победы; уточнить и расширить представления о Великой Отечественной войне, о детях военной поры. Показать мужество русских солда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ая область «Социально-коммуникативное развити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здать у детей настроение сопереживания прошедшим событиям Великой Отечественной войны; Воспитывать у детей стремление быть похожими на тех, кто отстоял нашу Родину. Развивать чувство патриотизм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ая область «Художественно - эстетическое развити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азвивать музыкальные способности детей, музыкальное восприя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508720" y="1267920"/>
            <a:ext cx="352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очется отдать сегодня дань памяти нашим землякам, вспомнить их простые лица, говорок, ещё раз увидеть мысленным взором как гордо шли они в строю каждый день Победы, надев праздничные пиджаки с орденами и медалями, как просто и понятно рассказывали о войне школьникам и молодёжи. Их уже с нами нет. Но остались их дети, их живая память, их надеж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276200" y="3933720"/>
            <a:ext cx="4537080" cy="254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4554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67676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каз о ветеранах В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6560" y="620280"/>
            <a:ext cx="77770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атисов Николай Иванови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человек был настоящим олицетворением воина – Победителя, разведчик отдельного артиллерийского дивизиона 29-ой мотто стрелковой бригады, 10-го Уральского добровольческого танкового корпуса. Участвовал во взятии Берлина. Участник парада Победы в июне 1945 года в г.Москв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миров Иван Яковлевич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43 году ушёл на фронт добровольцем, в танковый корпус. Дошел до Бер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ытков Анатолий Михайлович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6 лет сбежал на фронт. В 1943 году два месяца учебки , потом фронт, отдельная 9-я штурмовая инженерно-саперная бригада под командованием генерала Пшехонцев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53337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3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гостям- детям ветеранов В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469880" y="2030400"/>
            <a:ext cx="7423200" cy="4676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1436760" y="83664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тынов Геннадий Сергеевич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шёл на фронт в возрасте 18 лет добровольцем. Радист, командир отделения Полком взвода отдельного артиллерийского противотанкового взвода 29-ой Гвардейской бригады. Участвовал во взятии Берл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87280" y="188640"/>
            <a:ext cx="78552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ычёв Григорий Трофимович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самых первых дней войны, был разведчиком. Очень смелый, выносливый, волевой человек. В самых трудных заданиях, он был всегда впереди, до последнего сражался за Родину не жалея своих сил. Героически погиб в 1942 году. Слово предоставляется дочери Марие Григорьев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70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843280" y="189000"/>
            <a:ext cx="40384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асибо вам, солдаты дорог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вы не испугались смерти зл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шистов беспощадных победи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инесли нам счастье и пок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76388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сня «День Побед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77040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27280" y="274320"/>
            <a:ext cx="280836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нец «Бескозырка бела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903560" cy="3676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332000" y="166680"/>
            <a:ext cx="47750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дождались с фронта своих сыновей и дочерей тысячи матер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долго хранили они солдатские треугольники – весточки от дорогих детей! И до самой смерти своей не верили в их гибель. Надеялись и ждали наперекор злым похорон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43280" y="141300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ит дрожащая свеч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дунь на пламя сгоряч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ы, волшебный огоне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чем бы нам поведать мо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403280" y="2862360"/>
            <a:ext cx="7567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24000" y="260280"/>
            <a:ext cx="317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инута молч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32000" y="115560"/>
            <a:ext cx="46800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ходят люди к Вечному огню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ходят, чтобы низко поклонитьс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м, кто погиб в жестокую войну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х подвигами Родина горд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ит огонь и в дождь, и в снег, и в град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заметут его метель и вет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332000" y="3184560"/>
            <a:ext cx="5543640" cy="35496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4673520" y="1844640"/>
            <a:ext cx="440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ссмертен подвиг доблестных солда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ут цветы и взрослые и де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м, кто стоял за Родину сво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б не могла война вновь повтори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ходят люди к Вечному огню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ходят, чтобы низко поклони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6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96000" y="836640"/>
            <a:ext cx="3168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анец «Журавл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325760" y="3213000"/>
            <a:ext cx="4716720" cy="350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47530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129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узыкальный материал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63360" y="765000"/>
            <a:ext cx="8172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арш В. Агапкина «Прощание славянки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пись военного сообщения диктора ВРК Ю. Левитана о нападении Германии на СССР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есня «Священная война», сл. В. И. Лебедева-Кумача, муз А. В Александро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фонограмма песни «Синий платочек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фонограмма: шаги солда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есня «Будем солдатами» №8-0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есня «Ночь коротка», слова Е. Долматовского, музыка М. Фрадки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есня «Моя Армия», музыка Э. Ханок, стихи И. Резник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песня «Эх, дороги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Танец «Бескозырка бела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. Шуман «Грёзы», соч. 15 №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нограмма - поппури на военные песен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есня «Граница», сл. и муз. Л. Агути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есня «День Победы», сл. В. Харитонова, муз. Д. Тухманов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сня Отмените войн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роном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(19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нограмма «Поклонимся великим тем годам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есня «Журавл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5" dur="20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720" y="274680"/>
            <a:ext cx="28432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сня «Отмените войну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4968720" cy="331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635280" y="3495600"/>
            <a:ext cx="54072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58560" y="-360"/>
            <a:ext cx="7489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рогие, друзья, дорогие гости! С Днем Победы! С праздником Вас! Праздничные мероприятия, посвященные Дню Великой Победы, не заканчиваются, в канун праздника приглашаем всех на концерт «Салют Победы», посетить наш мини – музей в холле детского сада, а так же принять участие в посадке деревьев «Аллеи славы» на территории ДОУ, о чём будет дополнительно сообщено на сайте и на информационном стенде ДО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2627280" y="1952640"/>
            <a:ext cx="64152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273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курсия в выездной мини- музей (историко – краеведческого музе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02920" y="1269720"/>
            <a:ext cx="331812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ейчас мы приглашаем Всех гостей посетить выставку в холле ДОУ и на чаепитие, после чего состоится возложение цветов к памятнику «Вечная слава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403280" y="3981600"/>
            <a:ext cx="4743360" cy="2666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4896000" y="1201680"/>
            <a:ext cx="3852720" cy="2616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6227640" y="3984480"/>
            <a:ext cx="2746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6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зложение цветов к памятнику «Вечная слава героя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4211640" y="3552840"/>
            <a:ext cx="4686120" cy="31734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"/>
          <p:cNvSpPr/>
          <p:nvPr/>
        </p:nvSpPr>
        <p:spPr>
          <a:xfrm>
            <a:off x="5446800" y="1268280"/>
            <a:ext cx="35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годня праздник входит в каждый д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радость к людям с ним приходит след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оздравляем Вас с великим днем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днем нашей Славы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Днем Победы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4262400" cy="25210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"/>
          <p:cNvSpPr/>
          <p:nvPr/>
        </p:nvSpPr>
        <p:spPr>
          <a:xfrm>
            <a:off x="1187280" y="158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стие детей в городских и районных  мероприят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64000" y="549360"/>
            <a:ext cx="360072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 кануне Всероссийской акции «День Побед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4038480" cy="38574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1700280" y="4797360"/>
            <a:ext cx="239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адка сире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 «Аллее Слав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178160" y="3500280"/>
            <a:ext cx="47944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360" y="48686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 свидани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95280" y="26028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йна закончилас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песней опале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 каждым дом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сих пор круж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е забыли м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двадцать милл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шли в бессмерт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 нам с тобою ж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8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2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6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0" dur="2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63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дварительная рабо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6000" y="1052280"/>
            <a:ext cx="80280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учивание песен «Будем солдатами», «Вечный огонь», танцев «Журавли», «Бескозырка белая», «Катюша», прослушивание песен военных лет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ещение городского историко – краеведческого музея боевой славы, встреча  с ветеранами войны, знакомство с документальными хрониками войны, рассматривание фотографий, чтение рассказов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ведение акции среди родителей по сбору материалов для нашего мини- музея «…»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ещение ветеранов на дому, которые по состоянию своего здоровья не могут выйти, подготовка мини- концерта, сувенир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пражнения с флажками и шар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4968720" cy="283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4294080" y="3860640"/>
            <a:ext cx="474840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24000" y="260280"/>
            <a:ext cx="317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115560"/>
            <a:ext cx="46800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всей стране, в кругу друз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емит торжественная да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сенний славный юби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бед советского солдат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беда! Победа! Великое сло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м слава Отчизны и слава бойц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о трепетать заставляет серд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7356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32000" y="189000"/>
            <a:ext cx="770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т и наступил долгожданный День Победы! 9 МАЯ – светлый и радостный праздник. В этот день, много лет назад, закончилась война с немецким фашизмом. Мы с благодарностью вспоминаем наших воинов, защитников, отстоявших мир в жестокой битв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8850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987640" y="115560"/>
            <a:ext cx="489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соту, что нам дарит природ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тояли солдаты в огн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йский день 45 го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л последнею точкой в вой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 потерь нет ни роты, ни взвод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у а те, кто остались в живы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йский день 45 го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или для внуков сво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411280" y="2751120"/>
            <a:ext cx="5462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427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 приглашенных гостей: дети ветеранов ВОВ, участники тыла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556272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140360" y="4106880"/>
            <a:ext cx="48895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20-12-05T08:50:37Z</dcterms:modified>
  <cp:revision>52</cp:revision>
  <dc:subject/>
  <dc:title>Слайд 1</dc:title>
</cp:coreProperties>
</file>