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37.jpeg" ContentType="image/jpeg"/>
  <Override PartName="/ppt/media/image13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0C55-0852-4446-88A5-B51E14E32E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BB87-31D3-4F81-AAD5-7F1B354CCC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EDD-DE96-4C83-97CC-FA787225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169B-1D49-4066-9414-99C69D70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A79-EE2B-4754-B912-F2EF569C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437-16E1-40FC-AF4A-19459F1E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61B0-4EE4-43BC-BB9D-8F5DAC29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CBA8-8244-4B8E-BE7F-E9AD9CBF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3664-89FC-4AE9-AA90-92ED851A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956B-74A4-40EE-8976-4EFCD1AE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2DA0-72E0-4F7C-9809-ECB6F331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821B-E378-49BA-ABD7-DC2FD3C6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79D6-5BFA-40CB-8371-B9EFA7AF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223-86BC-4C4C-84E8-B70EB50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09BE-3841-403D-A434-C6259529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8DEA-FD4B-437F-B6B7-A2CFBE7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D99E-0B66-4FC3-9A7D-08FB14A9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7667-46A0-4AD3-A6A6-5099D28B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7F10-3A99-4314-94FE-D851C2CF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EDC-F213-4511-836C-D4A098EC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3D8-45D7-423E-96CC-7F4B66EC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B7A-CC02-42F1-BA17-6C979475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370-FE76-4736-B33D-D2D3DC8B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F98-E97B-4049-9226-C42036AF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063-4BB9-4737-8C17-A9FA5E9C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FD0-9FBE-469F-9E2F-6D7C92BB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E995-CD0C-4217-8C1F-37944E7343B6}" type="datetime3">
              <a:rPr b="0" lang="en-US" sz="900" spc="-1" strike="noStrike">
                <a:solidFill>
                  <a:srgbClr val="404040"/>
                </a:solidFill>
                <a:latin typeface="Verdana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81C0-BD68-438D-B473-D0D9C7071DDC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CBAE-4371-4108-B650-39B572C69F95}" type="datetime3">
              <a:rPr b="0" lang="en-US" sz="900" spc="-1" strike="noStrike">
                <a:solidFill>
                  <a:srgbClr val="404040"/>
                </a:solidFill>
                <a:latin typeface="Verdana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5B9E-48AD-470C-8491-499D3F0E6B22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571320"/>
            <a:ext cx="81360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МОЛЕНСКОЕ ОБЛАСТНОЕ ГОСУДАРСТВЕННОЕ БЮДЖЕТ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яземский социально-реабилитационный центр для несовершеннолетних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ГАРМОНИЯ»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11280" y="2349360"/>
            <a:ext cx="784836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ИРОВАНИЕ И РАЗВИТИЕ У ДЕТЕЙ ПО МЕТОДИКЕ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.Н. НОВИКОВОЙ-ИВАНЦОВОЙ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оугольник 5"/>
          <p:cNvSpPr/>
          <p:nvPr/>
        </p:nvSpPr>
        <p:spPr>
          <a:xfrm>
            <a:off x="611280" y="4294080"/>
            <a:ext cx="8281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мотивация, формирование и развитие речи детей, имеющих нарушения в развитии ре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 В. А. Ребр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типа «Прятки»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игры созданы и разработаны моей коллегой Ю.И. Новоселовой (МДОУ №3 компенсирующего вида г. Можайска)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7" name="Picture 2" descr="K:\Новосёлова Юлия\слоговая1\слоговая1\прятки\Слайд3.JPG"/>
          <p:cNvPicPr/>
          <p:nvPr/>
        </p:nvPicPr>
        <p:blipFill>
          <a:blip r:embed="rId1"/>
          <a:stretch/>
        </p:blipFill>
        <p:spPr>
          <a:xfrm>
            <a:off x="539640" y="148428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K:\Новосёлова Юлия\слоговая1\слоговая1\прятки\Слайд2.JPG"/>
          <p:cNvPicPr/>
          <p:nvPr/>
        </p:nvPicPr>
        <p:blipFill>
          <a:blip r:embed="rId2"/>
          <a:stretch/>
        </p:blipFill>
        <p:spPr>
          <a:xfrm>
            <a:off x="4500720" y="328464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обые потребности данной категории детей определяются:</a:t>
            </a:r>
            <a:br>
              <a:rPr sz="2400"/>
            </a:b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требность в обучении и воспитании различным формам коммуникации (вербальным и невербальным), особенно дети с низким уровнем речевого развития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необходимость в специальном обучении основам языкового анализа и синтеза, фонематических процессов и звукопроизношения, просодики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потребностью в формировании навыков чтения и письма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) особым индивидуально-дифференцированным подходом к формированию познавательных и образовательных (по возможности) умений и навыков.</a:t>
            </a:r>
            <a:br>
              <a:rPr sz="2000"/>
            </a:br>
            <a:br>
              <a:rPr sz="16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авная цель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ование и систематическое совершенствование полноценных языковых средств общения и мышления у воспитанников центра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1640" y="620280"/>
            <a:ext cx="41259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едует обратить внимание, что у многих детей нет координации в артикуляции они могут посмотреть на нас и сделать что-то губами и языком.</a:t>
            </a:r>
            <a:br>
              <a:rPr sz="2000"/>
            </a:b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3" name="Рисунок 2" descr="IMG_20190527_082420.jpg"/>
          <p:cNvPicPr/>
          <p:nvPr/>
        </p:nvPicPr>
        <p:blipFill>
          <a:blip r:embed="rId1"/>
          <a:stretch/>
        </p:blipFill>
        <p:spPr>
          <a:xfrm>
            <a:off x="642960" y="857160"/>
            <a:ext cx="3716280" cy="2787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K:\Веста\IMG_20190527_082448.jpg"/>
          <p:cNvPicPr/>
          <p:nvPr/>
        </p:nvPicPr>
        <p:blipFill>
          <a:blip r:embed="rId2"/>
          <a:stretch/>
        </p:blipFill>
        <p:spPr>
          <a:xfrm>
            <a:off x="4572000" y="292428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3"/>
          <p:cNvSpPr/>
          <p:nvPr/>
        </p:nvSpPr>
        <p:spPr>
          <a:xfrm>
            <a:off x="826920" y="3768840"/>
            <a:ext cx="3384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наши дети начали говорить, я в своей работе использую методику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Н. Новиковой-Иванцовой «От звука к слову». 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Novikova_Ivancova_-_Melodiya_1.mp3" descr=""/>
          <p:cNvPicPr/>
          <p:nvPr/>
        </p:nvPicPr>
        <p:blipFill>
          <a:blip r:embed="rId3"/>
          <a:stretch/>
        </p:blipFill>
        <p:spPr>
          <a:xfrm>
            <a:off x="1116000" y="5589720"/>
            <a:ext cx="447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09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C:\Documents and Settings\Пользователь\Рабочий стол\IMG_20190527_082516.jpg"/>
          <p:cNvPicPr/>
          <p:nvPr/>
        </p:nvPicPr>
        <p:blipFill>
          <a:blip r:embed="rId1"/>
          <a:stretch/>
        </p:blipFill>
        <p:spPr>
          <a:xfrm>
            <a:off x="-14325480" y="-107442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Documents and Settings\Пользователь\Рабочий стол\IMG_20190527_082516.jpg"/>
          <p:cNvPicPr/>
          <p:nvPr/>
        </p:nvPicPr>
        <p:blipFill>
          <a:blip r:embed="rId2"/>
          <a:stretch/>
        </p:blipFill>
        <p:spPr>
          <a:xfrm>
            <a:off x="-5286240" y="-20645280"/>
            <a:ext cx="2755800" cy="2066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C:\Documents and Settings\Пользователь\Рабочий стол\IMG_20190527_082516.jpg"/>
          <p:cNvPicPr/>
          <p:nvPr/>
        </p:nvPicPr>
        <p:blipFill>
          <a:blip r:embed="rId3"/>
          <a:stretch/>
        </p:blipFill>
        <p:spPr>
          <a:xfrm>
            <a:off x="-17716680" y="-8286840"/>
            <a:ext cx="2754360" cy="2067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K:\фото\IMG_20190527_082516.jpg"/>
          <p:cNvPicPr/>
          <p:nvPr/>
        </p:nvPicPr>
        <p:blipFill>
          <a:blip r:embed="rId4"/>
          <a:stretch/>
        </p:blipFill>
        <p:spPr>
          <a:xfrm>
            <a:off x="4092480" y="2921040"/>
            <a:ext cx="4759560" cy="33004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4"/>
          <p:cNvSpPr/>
          <p:nvPr/>
        </p:nvSpPr>
        <p:spPr>
          <a:xfrm>
            <a:off x="468360" y="75096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евание попевок направлено на формирова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ко-мелодико-интонационной основы, базы языка у неговорящих дете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о пропевать попевк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яженн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енно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Novikova_Ivancova_-_Melodiya_1.mp3" descr=""/>
          <p:cNvPicPr/>
          <p:nvPr/>
        </p:nvPicPr>
        <p:blipFill>
          <a:blip r:embed="rId5"/>
          <a:stretch/>
        </p:blipFill>
        <p:spPr>
          <a:xfrm>
            <a:off x="684360" y="5611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409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K:\Веста\IMG_20190527_082803.jpg"/>
          <p:cNvPicPr/>
          <p:nvPr/>
        </p:nvPicPr>
        <p:blipFill>
          <a:blip r:embed="rId1"/>
          <a:stretch/>
        </p:blipFill>
        <p:spPr>
          <a:xfrm>
            <a:off x="611280" y="396720"/>
            <a:ext cx="3564000" cy="2671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K:\Веста\IMG_20190527_082751.jpg"/>
          <p:cNvPicPr/>
          <p:nvPr/>
        </p:nvPicPr>
        <p:blipFill>
          <a:blip r:embed="rId2"/>
          <a:stretch/>
        </p:blipFill>
        <p:spPr>
          <a:xfrm>
            <a:off x="4859280" y="396720"/>
            <a:ext cx="3564000" cy="267192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5"/>
          <p:cNvSpPr/>
          <p:nvPr/>
        </p:nvSpPr>
        <p:spPr>
          <a:xfrm>
            <a:off x="301680" y="3075120"/>
            <a:ext cx="84470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ующем этапе работы над фразой даются семь наиболее доступных пониманию детей и часто употребляемых глаголо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дёт, бежит, сидит, спит, едет, плывет, летит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бо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лагол отрабатывается указанными шестью игрушками и картинк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атывается не только проговаривание, но и понимание глаго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проводятся в порядке, данном на листе: слева направо, сверху вниз, затем, порядок нахождения, закрывания и открывания картинок меняет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мотивируется на вслушивание, понимание инструкций взросл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новый глагол дифференцируется со всеми пройден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работа по дифференциации глаголов способствует осознанию ребёнком их значен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3213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слоговой структуры слова.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чить детей слитно, плавно произносить слова сложной слоговой структуры изолированно, в словосочетаниях и предложениях, соблюдая количество слогов, типы слогов, их последовательность и ударность в слове.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7" name="Picture 2" descr="K:\Веста\IMG_20190527_085338.jpg"/>
          <p:cNvPicPr/>
          <p:nvPr/>
        </p:nvPicPr>
        <p:blipFill>
          <a:blip r:embed="rId1"/>
          <a:stretch/>
        </p:blipFill>
        <p:spPr>
          <a:xfrm>
            <a:off x="1403280" y="333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K:\Веста\IMG_20190527_085344.jpg"/>
          <p:cNvPicPr/>
          <p:nvPr/>
        </p:nvPicPr>
        <p:blipFill>
          <a:blip r:embed="rId2"/>
          <a:stretch/>
        </p:blipFill>
        <p:spPr>
          <a:xfrm>
            <a:off x="5580000" y="33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ясь в направлении формирования, развития и коррекции речи широко использую мелкие игрушки, далее-карточки с фишкам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0" name="Picture 3" descr="K:\Новосёлова Юлия\слоговая1\слоговая1\Слайд1.JPG"/>
          <p:cNvPicPr/>
          <p:nvPr/>
        </p:nvPicPr>
        <p:blipFill>
          <a:blip r:embed="rId1"/>
          <a:stretch/>
        </p:blipFill>
        <p:spPr>
          <a:xfrm>
            <a:off x="755640" y="1341360"/>
            <a:ext cx="763272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2" name="Picture 2" descr="K:\Новосёлова Юлия\слоговая1\слоговая1\Слайд3.JPG"/>
          <p:cNvPicPr/>
          <p:nvPr/>
        </p:nvPicPr>
        <p:blipFill>
          <a:blip r:embed="rId1"/>
          <a:stretch/>
        </p:blipFill>
        <p:spPr>
          <a:xfrm>
            <a:off x="971640" y="378000"/>
            <a:ext cx="72356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-печатные игры и пособия как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предмет по тени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алогии им)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4" name="Picture 2" descr="K:\Новосёлова Юлия\слоговая1\слоговая1\лото тени\Слайд2.JPG"/>
          <p:cNvPicPr/>
          <p:nvPr/>
        </p:nvPicPr>
        <p:blipFill>
          <a:blip r:embed="rId1"/>
          <a:stretch/>
        </p:blipFill>
        <p:spPr>
          <a:xfrm>
            <a:off x="4495680" y="2443320"/>
            <a:ext cx="4079880" cy="30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K:\Новосёлова Юлия\слоговая1\слоговая1\лото тени\Слайд3.JPG"/>
          <p:cNvPicPr/>
          <p:nvPr/>
        </p:nvPicPr>
        <p:blipFill>
          <a:blip r:embed="rId2"/>
          <a:stretch/>
        </p:blipFill>
        <p:spPr>
          <a:xfrm>
            <a:off x="341280" y="1484280"/>
            <a:ext cx="41274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8:54:48Z</dcterms:created>
  <dc:creator>Пользователь</dc:creator>
  <dc:description/>
  <dc:language>en-US</dc:language>
  <cp:lastModifiedBy>Пользователь</cp:lastModifiedBy>
  <dcterms:modified xsi:type="dcterms:W3CDTF">2002-06-27T00:00:26Z</dcterms:modified>
  <cp:revision>28</cp:revision>
  <dc:subject/>
  <dc:title>СМОЛЕНСКОЕ ОБЛАСТНОЕ ГОСУДАРСТВЕННОЕ БЮДЖЕТНОЕ УЧРЕЖДЕНИЕ Вяземский социально-реабилитационный центр для несовершеннолетних «ГАРМОНИЯ»</dc:title>
</cp:coreProperties>
</file>