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2.png" ContentType="image/png"/>
  <Override PartName="/ppt/media/image41.jpeg" ContentType="image/jpeg"/>
  <Override PartName="/ppt/media/image45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30.jpeg" ContentType="image/jpeg"/>
  <Override PartName="/ppt/media/image31.jpeg" ContentType="image/jpeg"/>
  <Override PartName="/ppt/media/image37.jpeg" ContentType="image/jpeg"/>
  <Override PartName="/ppt/media/image13.png" ContentType="image/png"/>
  <Override PartName="/ppt/media/image39.jpeg" ContentType="image/jpeg"/>
  <Override PartName="/ppt/media/image8.png" ContentType="image/png"/>
  <Override PartName="/ppt/media/image46.jpeg" ContentType="image/jpeg"/>
  <Override PartName="/ppt/media/image34.jpeg" ContentType="image/jpe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8.jpeg" ContentType="image/jpeg"/>
  <Override PartName="/ppt/media/image28.png" ContentType="image/png"/>
  <Override PartName="/ppt/media/image35.jpeg" ContentType="image/jpeg"/>
  <Override PartName="/ppt/media/image10.png" ContentType="image/png"/>
  <Override PartName="/ppt/media/image5.png" ContentType="image/png"/>
  <Override PartName="/ppt/media/image43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3460-6944-4F21-86CE-D919650F90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714A-122B-43DD-B132-D14D293020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5F22-6798-46C8-948F-F2EC986E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7EDC-53AA-4841-BDB5-DB5FBA01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1D80-6811-4682-9F90-336E86627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5D7A-CCAD-4598-A524-F821446B3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136D-E6A0-4FBD-9428-DB5BFB63A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364C-079E-4CBC-8694-B2C7B393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1FC0-4F80-4842-B888-50C2A1F2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F22C-6CD8-49D8-9D99-B38712F5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65AE-4907-4DA3-ADFF-472B2B91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227B-4278-4CB7-9DCC-5C27753A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63DE-3F93-4D81-B069-CDAF9C07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04F8-8F1C-453B-A3D3-D09B4E80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B003-48E0-4B2E-A1F0-2D1DACE5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8EB1-7D7F-40F2-815C-7A56C1F2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EEC2-A281-4BFF-985F-9AA55B3A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4F2B-91E2-43B5-BC50-8DF1514B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CDB7-2170-4A18-B3EB-5259E2B3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A167-98B1-447A-9C3C-92567CDF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E074-D25D-438C-8A64-44CFAE42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AA2E-A07C-49F1-960F-1292518D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BAC4-57FD-4A13-BCD3-67EB9266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657B-143D-45AB-83E5-2B3AD96B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11B0-A6EF-48E6-B316-8CB0D984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A12E-7AAE-4229-9DBD-A265BF32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prstGeom prst="pie">
                <a:avLst/>
              </a:pr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0302-8C71-4D1C-B477-8D17362CDD72}" type="datetime3">
              <a:rPr b="0" lang="en-US" sz="900" spc="-1" strike="noStrike">
                <a:solidFill>
                  <a:srgbClr val="404040"/>
                </a:solidFill>
                <a:latin typeface="Verdana"/>
              </a:rPr>
              <a:t>July 30, 2026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EFEE-C43C-4C73-9AE7-737B67148483}" type="slidenum">
              <a:rPr b="0" lang="en-US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prstGeom prst="pie">
                <a:avLst/>
              </a:pr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63360" y="1426680"/>
              <a:ext cx="1102680" cy="1097280"/>
              <a:chOff x="5463360" y="1426680"/>
              <a:chExt cx="1102680" cy="10972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3360" y="1426680"/>
                <a:ext cx="1102680" cy="109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41200" y="1604160"/>
                <a:ext cx="751680" cy="74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30040" y="1402920"/>
              <a:ext cx="852480" cy="848160"/>
              <a:chOff x="5630040" y="1402920"/>
              <a:chExt cx="852480" cy="84816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30040" y="1402920"/>
                <a:ext cx="852480" cy="84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71880" y="1542960"/>
                <a:ext cx="57456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2680" y="1871640"/>
              <a:ext cx="631800" cy="628560"/>
              <a:chOff x="5242680" y="1871640"/>
              <a:chExt cx="631800" cy="62856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2680" y="1871640"/>
                <a:ext cx="631800" cy="62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3560" y="1980360"/>
                <a:ext cx="4165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9720" y="1788480"/>
              <a:ext cx="518400" cy="522000"/>
              <a:chOff x="5409720" y="1788480"/>
              <a:chExt cx="518400" cy="52200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9720" y="1788480"/>
                <a:ext cx="518400" cy="52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501880" y="1883160"/>
                <a:ext cx="338400" cy="33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5600"/>
              <a:ext cx="291960" cy="290520"/>
              <a:chOff x="4718160" y="2055600"/>
              <a:chExt cx="291960" cy="29052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5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8280" y="211500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101280" y="993600"/>
              <a:ext cx="291960" cy="290520"/>
              <a:chOff x="6101280" y="993600"/>
              <a:chExt cx="291960" cy="29052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101280" y="993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61040" y="105372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1880" y="1871640"/>
              <a:ext cx="232200" cy="231120"/>
              <a:chOff x="5051880" y="1871640"/>
              <a:chExt cx="232200" cy="23112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1880" y="1871640"/>
                <a:ext cx="232200" cy="23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103360" y="19227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8920" y="1058760"/>
              <a:ext cx="232200" cy="237240"/>
              <a:chOff x="6118920" y="1058760"/>
              <a:chExt cx="232200" cy="23724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8920" y="1058760"/>
                <a:ext cx="232200" cy="23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8600" y="11109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FD0D-2DE3-4B07-8FBE-9FA6CBCECB22}" type="datetime3">
              <a:rPr b="0" lang="en-US" sz="900" spc="-1" strike="noStrike">
                <a:solidFill>
                  <a:srgbClr val="404040"/>
                </a:solidFill>
                <a:latin typeface="Verdana"/>
              </a:rPr>
              <a:t>July 30, 2026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6631-EBC2-4FFB-9424-C01D082601EF}" type="slidenum">
              <a:rPr b="0" lang="en-US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571320"/>
            <a:ext cx="81360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МОЛЕНСКОЕ ОБЛАСТНОЕ ГОСУДАРСТВЕННОЕ БЮДЖЕТ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яземский социально-реабилитационный центр для несовершеннолетних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ГАРМОНИЯ»</a:t>
            </a:r>
            <a:br>
              <a:rPr sz="1800"/>
            </a:b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611280" y="2349360"/>
            <a:ext cx="7848360" cy="26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РМИРОВАНИЕ И РАЗВИТИЕ У ДЕТЕЙ ПО МЕТОДИКЕ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.Н. НОВИКОВОЙ-ИВАНЦОВОЙ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Прямоугольник 5"/>
          <p:cNvSpPr/>
          <p:nvPr/>
        </p:nvSpPr>
        <p:spPr>
          <a:xfrm>
            <a:off x="611280" y="4294080"/>
            <a:ext cx="82818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мотивация, формирование и развитие речи детей, имеющих нарушения в развитии реч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  В. А. Ребро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типа «Прятки»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игры созданы и разработаны моей коллегой Ю.И. Новоселовой (МДОУ №3 компенсирующего вида г. Можайска)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97" name="Picture 2" descr="K:\Новосёлова Юлия\слоговая1\слоговая1\прятки\Слайд3.JPG"/>
          <p:cNvPicPr/>
          <p:nvPr/>
        </p:nvPicPr>
        <p:blipFill>
          <a:blip r:embed="rId1"/>
          <a:stretch/>
        </p:blipFill>
        <p:spPr>
          <a:xfrm>
            <a:off x="539640" y="1484280"/>
            <a:ext cx="3888000" cy="2916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K:\Новосёлова Юлия\слоговая1\слоговая1\прятки\Слайд2.JPG"/>
          <p:cNvPicPr/>
          <p:nvPr/>
        </p:nvPicPr>
        <p:blipFill>
          <a:blip r:embed="rId2"/>
          <a:stretch/>
        </p:blipFill>
        <p:spPr>
          <a:xfrm>
            <a:off x="4500720" y="3284640"/>
            <a:ext cx="3743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569440" cy="47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обые потребности данной категории детей определяются:</a:t>
            </a:r>
            <a:br>
              <a:rPr sz="2400"/>
            </a:b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)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требность в обучении и воспитании различным формам коммуникации (вербальным и невербальным), особенно дети с низким уровнем речевого развития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) необходимость в специальном обучении основам языкового анализа и синтеза, фонематических процессов и звукопроизношения, просодики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) потребностью в формировании навыков чтения и письма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) особым индивидуально-дифференцированным подходом к формированию познавательных и образовательных (по возможности) умений и навыков.</a:t>
            </a:r>
            <a:br>
              <a:rPr sz="2000"/>
            </a:br>
            <a:br>
              <a:rPr sz="1600"/>
            </a:b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лавная цель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ормирование и систематическое совершенствование полноценных языковых средств общения и мышления у воспитанников центра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1640" y="620280"/>
            <a:ext cx="41259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ледует обратить внимание, что у многих детей нет координации в артикуляции они могут посмотреть на нас и сделать что-то губами и языком.</a:t>
            </a:r>
            <a:br>
              <a:rPr sz="2000"/>
            </a:br>
            <a:r>
              <a:rPr b="0" lang="ru-RU" sz="1400" spc="-1" strike="noStrike">
                <a:solidFill>
                  <a:srgbClr val="404040"/>
                </a:solidFill>
                <a:latin typeface="Verdana"/>
              </a:rPr>
              <a:t>	</a:t>
            </a:r>
            <a:br>
              <a:rPr sz="1400"/>
            </a:br>
            <a:endParaRPr b="0" lang="en-US" sz="1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73" name="Рисунок 2" descr="IMG_20190527_082420.jpg"/>
          <p:cNvPicPr/>
          <p:nvPr/>
        </p:nvPicPr>
        <p:blipFill>
          <a:blip r:embed="rId1"/>
          <a:stretch/>
        </p:blipFill>
        <p:spPr>
          <a:xfrm>
            <a:off x="642960" y="857160"/>
            <a:ext cx="3716280" cy="27878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K:\Веста\IMG_20190527_082448.jpg"/>
          <p:cNvPicPr/>
          <p:nvPr/>
        </p:nvPicPr>
        <p:blipFill>
          <a:blip r:embed="rId2"/>
          <a:stretch/>
        </p:blipFill>
        <p:spPr>
          <a:xfrm>
            <a:off x="4572000" y="2924280"/>
            <a:ext cx="3745080" cy="280836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3"/>
          <p:cNvSpPr/>
          <p:nvPr/>
        </p:nvSpPr>
        <p:spPr>
          <a:xfrm>
            <a:off x="826920" y="3768840"/>
            <a:ext cx="338472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го, чтобы наши дети начали говорить, я в своей работе использую методику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 Н. Новиковой-Иванцовой «От звука к слову». </a:t>
            </a: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Novikova_Ivancova_-_Melodiya_1.mp3" descr=""/>
          <p:cNvPicPr/>
          <p:nvPr/>
        </p:nvPicPr>
        <p:blipFill>
          <a:blip r:embed="rId3"/>
          <a:stretch/>
        </p:blipFill>
        <p:spPr>
          <a:xfrm>
            <a:off x="1116000" y="5589720"/>
            <a:ext cx="447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409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C:\Documents and Settings\Пользователь\Рабочий стол\IMG_20190527_082516.jpg"/>
          <p:cNvPicPr/>
          <p:nvPr/>
        </p:nvPicPr>
        <p:blipFill>
          <a:blip r:embed="rId1"/>
          <a:stretch/>
        </p:blipFill>
        <p:spPr>
          <a:xfrm>
            <a:off x="-14325480" y="-1074420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C:\Documents and Settings\Пользователь\Рабочий стол\IMG_20190527_082516.jpg"/>
          <p:cNvPicPr/>
          <p:nvPr/>
        </p:nvPicPr>
        <p:blipFill>
          <a:blip r:embed="rId2"/>
          <a:stretch/>
        </p:blipFill>
        <p:spPr>
          <a:xfrm>
            <a:off x="-5286240" y="-20645280"/>
            <a:ext cx="2755800" cy="2066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C:\Documents and Settings\Пользователь\Рабочий стол\IMG_20190527_082516.jpg"/>
          <p:cNvPicPr/>
          <p:nvPr/>
        </p:nvPicPr>
        <p:blipFill>
          <a:blip r:embed="rId3"/>
          <a:stretch/>
        </p:blipFill>
        <p:spPr>
          <a:xfrm>
            <a:off x="-17716680" y="-8286840"/>
            <a:ext cx="2754360" cy="2067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K:\фото\IMG_20190527_082516.jpg"/>
          <p:cNvPicPr/>
          <p:nvPr/>
        </p:nvPicPr>
        <p:blipFill>
          <a:blip r:embed="rId4"/>
          <a:stretch/>
        </p:blipFill>
        <p:spPr>
          <a:xfrm>
            <a:off x="4092480" y="2921040"/>
            <a:ext cx="4759560" cy="330048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4"/>
          <p:cNvSpPr/>
          <p:nvPr/>
        </p:nvSpPr>
        <p:spPr>
          <a:xfrm>
            <a:off x="468360" y="750960"/>
            <a:ext cx="835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евание попевок направлено на формирован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мико-мелодико-интонационной основы, базы языка у неговорящих дете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овано пропевать попевк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ряженно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женно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Novikova_Ivancova_-_Melodiya_1.mp3" descr=""/>
          <p:cNvPicPr/>
          <p:nvPr/>
        </p:nvPicPr>
        <p:blipFill>
          <a:blip r:embed="rId5"/>
          <a:stretch/>
        </p:blipFill>
        <p:spPr>
          <a:xfrm>
            <a:off x="684360" y="56116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5409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K:\Веста\IMG_20190527_082803.jpg"/>
          <p:cNvPicPr/>
          <p:nvPr/>
        </p:nvPicPr>
        <p:blipFill>
          <a:blip r:embed="rId1"/>
          <a:stretch/>
        </p:blipFill>
        <p:spPr>
          <a:xfrm>
            <a:off x="611280" y="396720"/>
            <a:ext cx="3564000" cy="2671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K:\Веста\IMG_20190527_082751.jpg"/>
          <p:cNvPicPr/>
          <p:nvPr/>
        </p:nvPicPr>
        <p:blipFill>
          <a:blip r:embed="rId2"/>
          <a:stretch/>
        </p:blipFill>
        <p:spPr>
          <a:xfrm>
            <a:off x="4859280" y="396720"/>
            <a:ext cx="3564000" cy="267192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5"/>
          <p:cNvSpPr/>
          <p:nvPr/>
        </p:nvSpPr>
        <p:spPr>
          <a:xfrm>
            <a:off x="301680" y="3075120"/>
            <a:ext cx="844704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ледующем этапе работы над фразой даются семь наиболее доступных пониманию детей и часто употребляемых глаголов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дёт, бежит, сидит, спит, едет, плывет, летит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работ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глагол отрабатывается указанными шестью игрушками и картинка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батывается не только проговаривание, но и понимание глагол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проводятся в порядке, данном на листе: слева направо, сверху вниз, затем, порядок нахождения, закрывания и открывания картинок меняетс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ёнок мотивируется на вслушивание, понимание инструкций взросл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новый глагол дифференцируется со всеми пройденны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ая работа по дифференциации глаголов способствует осознанию ребёнком их значени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3213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ю слоговой структуры слова.</a:t>
            </a:r>
            <a:br>
              <a:rPr sz="2400"/>
            </a:b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чить детей слитно, плавно произносить слова сложной слоговой структуры изолированно, в словосочетаниях и предложениях, соблюдая количество слогов, типы слогов, их последовательность и ударность в слове. 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87" name="Picture 2" descr="K:\Веста\IMG_20190527_085338.jpg"/>
          <p:cNvPicPr/>
          <p:nvPr/>
        </p:nvPicPr>
        <p:blipFill>
          <a:blip r:embed="rId1"/>
          <a:stretch/>
        </p:blipFill>
        <p:spPr>
          <a:xfrm>
            <a:off x="1403280" y="333360"/>
            <a:ext cx="2160720" cy="2879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K:\Веста\IMG_20190527_085344.jpg"/>
          <p:cNvPicPr/>
          <p:nvPr/>
        </p:nvPicPr>
        <p:blipFill>
          <a:blip r:embed="rId2"/>
          <a:stretch/>
        </p:blipFill>
        <p:spPr>
          <a:xfrm>
            <a:off x="5580000" y="333360"/>
            <a:ext cx="2160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ясь в направлении формирования, развития и коррекции речи широко использую мелкие игрушки, далее-карточки с фишками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90" name="Picture 3" descr="K:\Новосёлова Юлия\слоговая1\слоговая1\Слайд1.JPG"/>
          <p:cNvPicPr/>
          <p:nvPr/>
        </p:nvPicPr>
        <p:blipFill>
          <a:blip r:embed="rId1"/>
          <a:stretch/>
        </p:blipFill>
        <p:spPr>
          <a:xfrm>
            <a:off x="755640" y="1341360"/>
            <a:ext cx="763272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92" name="Picture 2" descr="K:\Новосёлова Юлия\слоговая1\слоговая1\Слайд3.JPG"/>
          <p:cNvPicPr/>
          <p:nvPr/>
        </p:nvPicPr>
        <p:blipFill>
          <a:blip r:embed="rId1"/>
          <a:stretch/>
        </p:blipFill>
        <p:spPr>
          <a:xfrm>
            <a:off x="971640" y="378000"/>
            <a:ext cx="7235640" cy="54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льно-печатные игры и пособия как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йди предмет по тени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налогии им)</a:t>
            </a:r>
            <a:br>
              <a:rPr sz="2400"/>
            </a:b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94" name="Picture 2" descr="K:\Новосёлова Юлия\слоговая1\слоговая1\лото тени\Слайд2.JPG"/>
          <p:cNvPicPr/>
          <p:nvPr/>
        </p:nvPicPr>
        <p:blipFill>
          <a:blip r:embed="rId1"/>
          <a:stretch/>
        </p:blipFill>
        <p:spPr>
          <a:xfrm>
            <a:off x="4495680" y="2443320"/>
            <a:ext cx="4079880" cy="3058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K:\Новосёлова Юлия\слоговая1\слоговая1\лото тени\Слайд3.JPG"/>
          <p:cNvPicPr/>
          <p:nvPr/>
        </p:nvPicPr>
        <p:blipFill>
          <a:blip r:embed="rId2"/>
          <a:stretch/>
        </p:blipFill>
        <p:spPr>
          <a:xfrm>
            <a:off x="341280" y="1484280"/>
            <a:ext cx="41274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6T18:54:48Z</dcterms:created>
  <dc:creator>Пользователь</dc:creator>
  <dc:description/>
  <dc:language>en-US</dc:language>
  <cp:lastModifiedBy>Пользователь</cp:lastModifiedBy>
  <dcterms:modified xsi:type="dcterms:W3CDTF">2002-06-27T00:00:26Z</dcterms:modified>
  <cp:revision>28</cp:revision>
  <dc:subject/>
  <dc:title>СМОЛЕНСКОЕ ОБЛАСТНОЕ ГОСУДАРСТВЕННОЕ БЮДЖЕТНОЕ УЧРЕЖДЕНИЕ Вяземский социально-реабилитационный центр для несовершеннолетних «ГАРМОНИЯ»</dc:title>
</cp:coreProperties>
</file>