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6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10.png" ContentType="image/png"/>
  <Override PartName="/ppt/media/image2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E31-E8F2-4BFA-98C0-CB789B87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7E8-4AEA-4BD1-B11A-3488A9B0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DE4-FDDF-4178-9849-695C0DBE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A3C-98AE-44AE-91CF-862CD8A5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7172-5B3F-43AC-A786-D3F68DB3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C8C6-E4FD-459A-98F5-09CB774C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13DA-55FA-4564-98BF-E4AF52CC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6448-21D4-455E-BA1A-74ACCC01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A051-2F93-4675-BE33-A6C1495C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88CD-ACA5-4CFE-B67B-296950ED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6BC4-83B4-4055-BE20-A10542E9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E9B-3C0C-4AC3-ABEA-7D2512A8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2CE5-BA41-4512-9B56-05C6DD8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B74-5E14-4CF5-A3A1-E8C8592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6ED-5132-4116-AE51-78ED22D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404-0CA6-4892-A3BB-43945B03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677-184C-4AA2-BEA9-E99DF488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1D0-4912-4A21-A8B3-1DF23B01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230-1A00-48A9-9946-BE931607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5C1-78CF-4E1F-A107-814940FA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DAC-9F2B-4B33-B7FF-546676E3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1AD-D6B0-4C66-8AAC-0E38F44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84A-AB1E-41CE-BFCD-C487227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693-CA76-4AB9-838D-AD5280D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BB8F-7DF5-4D97-AC7D-CC41BBE4A7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2D9A-554C-4BCD-9DA7-C7152C9AE8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26920" y="2205000"/>
            <a:ext cx="7632720" cy="2160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2637000"/>
            <a:ext cx="6337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ы ми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62040" y="1413000"/>
            <a:ext cx="7772400" cy="5256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41" name=""/>
          <p:cNvSpPr/>
          <p:nvPr/>
        </p:nvSpPr>
        <p:spPr>
          <a:xfrm flipH="1">
            <a:off x="4140000" y="3716280"/>
            <a:ext cx="718920" cy="576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3500280"/>
            <a:ext cx="1584360" cy="28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Ц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347640" y="2492280"/>
            <a:ext cx="144360" cy="10810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2205000"/>
            <a:ext cx="10810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Ч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140000" y="5157720"/>
            <a:ext cx="1223640" cy="716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5013360"/>
            <a:ext cx="216036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Демокра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Республ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он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7640" y="333360"/>
            <a:ext cx="655344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836720" y="693720"/>
            <a:ext cx="5975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утриконтинентальные: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2. По площади 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0440" y="4076640"/>
            <a:ext cx="4034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на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ита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разил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70440" y="4219200"/>
            <a:ext cx="2586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ндор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атикан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нак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- Мари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хтенштей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626920" y="2347920"/>
            <a:ext cx="151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2276640"/>
            <a:ext cx="151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99160" y="3139920"/>
            <a:ext cx="259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раны - кар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93720" y="3211560"/>
            <a:ext cx="24498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раны - гиг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60280"/>
            <a:ext cx="8229600" cy="1013040"/>
          </a:xfrm>
          <a:prstGeom prst="rect">
            <a:avLst/>
          </a:prstGeom>
          <a:solidFill>
            <a:srgbClr val="99ccff"/>
          </a:solidFill>
          <a:ln w="3492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Группировка стран</a:t>
            </a: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2400" cy="4692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573440" y="2637000"/>
            <a:ext cx="136692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2421000"/>
            <a:ext cx="1150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ан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84640"/>
            <a:ext cx="100800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и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3213000"/>
            <a:ext cx="86364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76360" y="4437000"/>
            <a:ext cx="93492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Брази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47640" y="476280"/>
            <a:ext cx="669780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24000" y="620640"/>
            <a:ext cx="60483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раны - гиганты: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2400" cy="4619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348000" y="3933720"/>
            <a:ext cx="71640" cy="2872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27280" y="3573360"/>
            <a:ext cx="165744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Лихтенштей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11640" y="5013360"/>
            <a:ext cx="86364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Вати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634920" y="5084640"/>
            <a:ext cx="576360" cy="21600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4437000"/>
            <a:ext cx="93672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Андор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07640" y="4581360"/>
            <a:ext cx="73080" cy="360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16360" y="4292640"/>
            <a:ext cx="158436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Сан-Ма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64000" y="4581360"/>
            <a:ext cx="144360" cy="360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60280"/>
            <a:ext cx="6551640" cy="1224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692360" y="620640"/>
            <a:ext cx="619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ы - карлики: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268360" y="4652640"/>
            <a:ext cx="576360" cy="576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35280" y="5229360"/>
            <a:ext cx="107928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Мона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3. По численности населе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ны - гиган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крогосудар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516720" y="4653000"/>
            <a:ext cx="1619280" cy="1305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68360" y="404640"/>
            <a:ext cx="8229600" cy="1140120"/>
          </a:xfrm>
          <a:prstGeom prst="rect">
            <a:avLst/>
          </a:prstGeom>
          <a:solidFill>
            <a:srgbClr val="99ccff"/>
          </a:solidFill>
          <a:ln w="3492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Группировка стран</a:t>
            </a: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62040" y="1413000"/>
            <a:ext cx="7772400" cy="5184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580000" y="3357720"/>
            <a:ext cx="86364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и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76720" y="3860640"/>
            <a:ext cx="7192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7640" y="2997360"/>
            <a:ext cx="93672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1640" y="4581360"/>
            <a:ext cx="129672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95640" y="4724280"/>
            <a:ext cx="115236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Брази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58920" y="333360"/>
            <a:ext cx="669600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0560" y="404640"/>
            <a:ext cx="590580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раны - гиганты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1116000" y="2492280"/>
            <a:ext cx="266400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Респуб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9640" y="2492280"/>
            <a:ext cx="27370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Монар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771640" y="1197000"/>
            <a:ext cx="1152720" cy="1152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1197000"/>
            <a:ext cx="865440" cy="12952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3789360"/>
            <a:ext cx="4248360" cy="28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Форма государств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равления, при кото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се органы государствен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ласти либо избираю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либо формируются общенациональ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учреждениями (парламентом), а граж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дане обладают личными и политическ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ра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16360" y="3860640"/>
            <a:ext cx="4248360" cy="273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Форма государственного правл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при которой верхов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принадлежит одному лицу , монарх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Единодержав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333360"/>
            <a:ext cx="6335640" cy="9349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63640" y="404640"/>
            <a:ext cx="575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а правления: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77840" y="69840"/>
            <a:ext cx="8788320" cy="67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3213000"/>
            <a:ext cx="2376720" cy="1511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547640" y="333360"/>
            <a:ext cx="6769440" cy="1224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64000" y="3284640"/>
            <a:ext cx="2376360" cy="1511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9640" y="3284640"/>
            <a:ext cx="2484360" cy="1584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564000" y="3787920"/>
            <a:ext cx="2376360" cy="2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дустриальные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8360" y="3860640"/>
            <a:ext cx="1871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грарные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732720" y="3645000"/>
            <a:ext cx="2171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индустриальны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1628640"/>
            <a:ext cx="0" cy="1656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403280" y="1628640"/>
            <a:ext cx="1440000" cy="15130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1628640"/>
            <a:ext cx="1008000" cy="1440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4000" y="5300640"/>
            <a:ext cx="2340000" cy="12970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еликобр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Герм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84720" y="479592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472428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740720" y="486900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5157720"/>
            <a:ext cx="1944720" cy="12970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Неп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Руа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08360" y="5229360"/>
            <a:ext cx="1943280" cy="1296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Рос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Белорус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ловак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Чех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556000" y="62064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хозяйств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5157720"/>
            <a:ext cx="2158920" cy="141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18200" y="1844640"/>
            <a:ext cx="302580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86680" y="49528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916360" y="3860640"/>
            <a:ext cx="2857320" cy="2810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6360" y="333360"/>
            <a:ext cx="6624720" cy="1224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81080" y="692280"/>
            <a:ext cx="568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 Угадайк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529160" y="3048120"/>
            <a:ext cx="85680" cy="761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 rot="5400000">
            <a:off x="3456000" y="1807920"/>
            <a:ext cx="143964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0920" y="1628640"/>
            <a:ext cx="2187360" cy="1671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территория, которая име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енные государственные границы и живет по определенным закона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404640"/>
            <a:ext cx="6480000" cy="1152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627280" y="692280"/>
            <a:ext cx="5473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 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086600" cy="1447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аны мир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411280" y="1341360"/>
            <a:ext cx="1368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1268280"/>
            <a:ext cx="122400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4076640"/>
            <a:ext cx="208764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4005360"/>
            <a:ext cx="1944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357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24720" y="335772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2349360"/>
            <a:ext cx="2735280" cy="10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Независимые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276640"/>
            <a:ext cx="25192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олониальны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завис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ccff"/>
          </a:solidFill>
          <a:ln w="34920">
            <a:solidFill>
              <a:srgbClr val="003b7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Группировка стран</a:t>
            </a: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Географическое положе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луостров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стров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раны-архипелаг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нутриконтиненталь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морск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318440" cy="544500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3203640" y="2421000"/>
            <a:ext cx="136836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Норв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4941720"/>
            <a:ext cx="107964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сп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4869000"/>
            <a:ext cx="129708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т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2637000"/>
            <a:ext cx="1079640" cy="28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Шве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76360" y="189000"/>
            <a:ext cx="698508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835280" y="404640"/>
            <a:ext cx="62640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atin typeface="Arial"/>
              </a:rPr>
              <a:t>Полуостровные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263700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5157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50846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48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5373720"/>
            <a:ext cx="136836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Португ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2040" y="1557360"/>
            <a:ext cx="7772400" cy="5300640"/>
            <a:chOff x="662040" y="1557360"/>
            <a:chExt cx="7772400" cy="53006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2040" y="1557360"/>
              <a:ext cx="7772400" cy="5300640"/>
            </a:xfrm>
            <a:prstGeom prst="rect">
              <a:avLst/>
            </a:prstGeom>
            <a:ln w="9360">
              <a:solidFill>
                <a:srgbClr val="003b76"/>
              </a:solidFill>
              <a:miter/>
            </a:ln>
          </p:spPr>
        </p:pic>
        <p:sp>
          <p:nvSpPr>
            <p:cNvPr id="202" name=""/>
            <p:cNvSpPr txBox="1"/>
            <p:nvPr/>
          </p:nvSpPr>
          <p:spPr>
            <a:xfrm>
              <a:off x="662040" y="1557360"/>
              <a:ext cx="7772400" cy="530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419640" y="2924280"/>
            <a:ext cx="504720" cy="50472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2708280"/>
            <a:ext cx="11527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у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427640" y="4005000"/>
            <a:ext cx="576000" cy="4316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4508640"/>
            <a:ext cx="107964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Гаи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292720" y="3284640"/>
            <a:ext cx="216000" cy="6476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068640"/>
            <a:ext cx="28083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Доминиканская республ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3860640"/>
            <a:ext cx="647640" cy="21600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89360"/>
            <a:ext cx="11527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Яма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404640"/>
            <a:ext cx="6480000" cy="10796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24000" y="692280"/>
            <a:ext cx="63356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тровные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3284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371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71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378936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8302320" cy="5300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flipH="1">
            <a:off x="4859280" y="3789360"/>
            <a:ext cx="433440" cy="79200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3716280"/>
            <a:ext cx="1584360" cy="21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Филипп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940360" y="2133720"/>
            <a:ext cx="432000" cy="3585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2492280"/>
            <a:ext cx="12970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Япо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940000" y="5373720"/>
            <a:ext cx="360360" cy="79200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5373720"/>
            <a:ext cx="172728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333360"/>
            <a:ext cx="6840360" cy="10796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476360" y="333360"/>
            <a:ext cx="655164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раны - архипелаги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26920" y="1224000"/>
            <a:ext cx="7772400" cy="551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2626920" y="2158920"/>
            <a:ext cx="792360" cy="8654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2087640"/>
            <a:ext cx="180036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Венесуэ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997080" y="2376360"/>
            <a:ext cx="718920" cy="9352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2303640"/>
            <a:ext cx="129708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Гай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00720" y="2879640"/>
            <a:ext cx="287280" cy="5032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2664000"/>
            <a:ext cx="129564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Сури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284720" y="3598920"/>
            <a:ext cx="1800000" cy="12254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3382920"/>
            <a:ext cx="216072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Брази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262080"/>
            <a:ext cx="7993080" cy="1079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24000" y="549360"/>
            <a:ext cx="5472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орские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01:24Z</dcterms:created>
  <dc:creator>user 3800</dc:creator>
  <dc:description/>
  <dc:language>en-US</dc:language>
  <cp:lastModifiedBy>Alexey</cp:lastModifiedBy>
  <dcterms:modified xsi:type="dcterms:W3CDTF">2010-10-23T17:48:57Z</dcterms:modified>
  <cp:revision>17</cp:revision>
  <dc:subject/>
  <dc:title>Слайд 1</dc:title>
</cp:coreProperties>
</file>