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9.png" ContentType="image/png"/>
  <Override PartName="/ppt/media/image6.gif" ContentType="image/gif"/>
  <Override PartName="/ppt/media/image11.png" ContentType="image/png"/>
  <Override PartName="/ppt/media/image7.jpeg" ContentType="image/jpeg"/>
  <Override PartName="/ppt/media/image18.png" ContentType="image/png"/>
  <Override PartName="/ppt/media/image10.png" ContentType="image/png"/>
  <Override PartName="/ppt/media/image2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2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6BE-2DB4-4317-997F-3646C6A3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6E65-322B-40C8-BB2B-86F9DFB5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C58-C051-4B6E-A8AF-C8901983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F906-A896-4A60-A289-EFCB517A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4411-DBEB-4CA4-B5AB-502E4C29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C1B3-6145-42D9-B1F6-D16E464E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1964-B4B8-46B9-85B6-B62EF1EE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F82C-EC27-4764-8F18-CE15672C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A527-4EB5-4056-A733-E5940969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3FC0-2794-4C5F-A862-1011E85D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A2A5-2957-4FE6-B948-92F674FC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B97-CE15-4EDD-B003-97706D8D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6801-0CE4-4FB0-A7D6-AEA45193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D80A-FE34-4C21-903E-6AB9DF5F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B39B-52D5-4C55-BE43-E43F5392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7FBF-E781-4D94-AEC3-F16A519D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2E64-4D77-4394-87AB-1F81BC30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773E-1878-43A2-BF30-EC120381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166E-BD2F-4D1E-A41B-99013AA9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5FB-4F50-4C36-A04C-19F6E016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170-81A0-4D14-A8AD-B001DF0E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01E-482B-4EB0-9E39-5A86AF5F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9344-67AA-40E0-ABD7-0EE6F7A6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E568-2389-4E3B-902B-6C50ED9F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C9AD-840C-40CD-87FA-0E463E028A2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DD7B-5525-4637-95C3-34B35906705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26920" y="2205000"/>
            <a:ext cx="7632720" cy="216072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2637000"/>
            <a:ext cx="6337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аны мир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62040" y="1413000"/>
            <a:ext cx="7772400" cy="5256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41" name=""/>
          <p:cNvSpPr/>
          <p:nvPr/>
        </p:nvSpPr>
        <p:spPr>
          <a:xfrm flipH="1">
            <a:off x="4140000" y="3716280"/>
            <a:ext cx="718920" cy="57636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59280" y="3500280"/>
            <a:ext cx="1584360" cy="287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Ц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347640" y="2492280"/>
            <a:ext cx="144360" cy="108108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59280" y="2205000"/>
            <a:ext cx="108108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Ч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140000" y="5157720"/>
            <a:ext cx="1223640" cy="7164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5013360"/>
            <a:ext cx="216036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Демократ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Республ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Кон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47640" y="333360"/>
            <a:ext cx="6553440" cy="100800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836720" y="693720"/>
            <a:ext cx="59752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нутриконтинентальные: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01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2. По площади 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0440" y="4076640"/>
            <a:ext cx="40341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ос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ана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ита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Ш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разил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770440" y="4219200"/>
            <a:ext cx="25862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ндор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1250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атикан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1250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онак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1250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н- Марин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1250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ихтенштейн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626920" y="2347920"/>
            <a:ext cx="151308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40360" y="2276640"/>
            <a:ext cx="1511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99160" y="3139920"/>
            <a:ext cx="2592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раны - карл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93720" y="3211560"/>
            <a:ext cx="24498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раны - гига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260280"/>
            <a:ext cx="8229600" cy="1013040"/>
          </a:xfrm>
          <a:prstGeom prst="rect">
            <a:avLst/>
          </a:prstGeom>
          <a:solidFill>
            <a:srgbClr val="99ccff"/>
          </a:solidFill>
          <a:ln w="3492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Группировка стран</a:t>
            </a: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72400" cy="4692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573440" y="2637000"/>
            <a:ext cx="1366920" cy="21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Рос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0000" y="2421000"/>
            <a:ext cx="115092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Кана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3284640"/>
            <a:ext cx="1008000" cy="21564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Кит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00000" y="3213000"/>
            <a:ext cx="86364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СШ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76360" y="4437000"/>
            <a:ext cx="93492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Брази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47640" y="476280"/>
            <a:ext cx="6697800" cy="100800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124000" y="620640"/>
            <a:ext cx="604836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траны - гиганты: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2400" cy="46198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348000" y="3933720"/>
            <a:ext cx="71640" cy="28728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27280" y="3573360"/>
            <a:ext cx="165744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Лихтенштей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211640" y="5013360"/>
            <a:ext cx="86364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Ватик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634920" y="5084640"/>
            <a:ext cx="576360" cy="21600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19280" y="4437000"/>
            <a:ext cx="93672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Андор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907640" y="4581360"/>
            <a:ext cx="73080" cy="36036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16360" y="4292640"/>
            <a:ext cx="158436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Сан-Мар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64000" y="4581360"/>
            <a:ext cx="144360" cy="36036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260280"/>
            <a:ext cx="6551640" cy="122400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692360" y="620640"/>
            <a:ext cx="6192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ы - карлики: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268360" y="4652640"/>
            <a:ext cx="576360" cy="57636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35280" y="5229360"/>
            <a:ext cx="1079280" cy="215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Мона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3. По численности населени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аны - гиган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икрогосударст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516720" y="4653000"/>
            <a:ext cx="1619280" cy="1305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68360" y="404640"/>
            <a:ext cx="8229600" cy="1140120"/>
          </a:xfrm>
          <a:prstGeom prst="rect">
            <a:avLst/>
          </a:prstGeom>
          <a:solidFill>
            <a:srgbClr val="99ccff"/>
          </a:solidFill>
          <a:ln w="3492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Группировка стран</a:t>
            </a: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62040" y="1413000"/>
            <a:ext cx="7772400" cy="5184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580000" y="3357720"/>
            <a:ext cx="863640" cy="215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Кит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76720" y="3860640"/>
            <a:ext cx="71928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Ин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47640" y="2997360"/>
            <a:ext cx="936720" cy="215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СШ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51640" y="4581360"/>
            <a:ext cx="129672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Индонез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95640" y="4724280"/>
            <a:ext cx="115236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Брази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58920" y="333360"/>
            <a:ext cx="6696000" cy="100800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0560" y="404640"/>
            <a:ext cx="5905800" cy="7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траны - гиганты: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1116000" y="2492280"/>
            <a:ext cx="2664000" cy="115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Республ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19640" y="2492280"/>
            <a:ext cx="2737080" cy="12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Монарх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2771640" y="1197000"/>
            <a:ext cx="1152720" cy="115236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27640" y="1197000"/>
            <a:ext cx="865440" cy="129528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9280" y="3789360"/>
            <a:ext cx="4248360" cy="28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Форма государствен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правления, при котор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все органы государствен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власти либо избираютс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либо формируются общенациональ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учреждениями (парламентом), а граж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дане обладают личными и политически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Times New Roman"/>
              </a:rPr>
              <a:t>прав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16360" y="3860640"/>
            <a:ext cx="4248360" cy="2737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Форма государственного правлен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при которой верховная в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принадлежит одному лицу , монарх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Единодержав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03280" y="333360"/>
            <a:ext cx="6335640" cy="93492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763640" y="404640"/>
            <a:ext cx="575964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орма правления: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77840" y="69840"/>
            <a:ext cx="8788320" cy="671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79280" y="3213000"/>
            <a:ext cx="2376720" cy="151128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547640" y="333360"/>
            <a:ext cx="6769440" cy="122400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64000" y="3284640"/>
            <a:ext cx="2376360" cy="151128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59640" y="3284640"/>
            <a:ext cx="2484360" cy="158436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564000" y="3787920"/>
            <a:ext cx="2376360" cy="2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дустриальные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68360" y="3860640"/>
            <a:ext cx="1871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грарные</a:t>
            </a:r>
            <a:endParaRPr b="0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732720" y="3645000"/>
            <a:ext cx="21715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тиндустриальные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"/>
          <p:cNvSpPr/>
          <p:nvPr/>
        </p:nvSpPr>
        <p:spPr>
          <a:xfrm>
            <a:off x="4932360" y="1628640"/>
            <a:ext cx="0" cy="1656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403280" y="1628640"/>
            <a:ext cx="1440000" cy="151308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64360" y="1628640"/>
            <a:ext cx="1008000" cy="1440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04000" y="5300640"/>
            <a:ext cx="2340000" cy="129708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СШ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Великобрит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Фра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Герм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84720" y="4795920"/>
            <a:ext cx="50472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472428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740720" y="4869000"/>
            <a:ext cx="50472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5157720"/>
            <a:ext cx="1944720" cy="129708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Неп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Руан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08360" y="5229360"/>
            <a:ext cx="1943280" cy="129672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Росс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Белорусс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Словак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Чех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556000" y="620640"/>
            <a:ext cx="48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хозяйству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1728720" cy="1460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50920" y="5157720"/>
            <a:ext cx="2158920" cy="1413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118200" y="1844640"/>
            <a:ext cx="3025800" cy="1440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286680" y="495288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2916360" y="3860640"/>
            <a:ext cx="2857320" cy="2810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76360" y="333360"/>
            <a:ext cx="6624720" cy="122400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81080" y="692280"/>
            <a:ext cx="568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 Угадайка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4529160" y="3048120"/>
            <a:ext cx="85680" cy="761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 rot="5400000">
            <a:off x="3456000" y="1807920"/>
            <a:ext cx="1439640" cy="19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?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0920" y="1628640"/>
            <a:ext cx="2187360" cy="16718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то территория, которая имее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пределенные государственные границы и живет по определенным закона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404640"/>
            <a:ext cx="6480000" cy="115272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627280" y="692280"/>
            <a:ext cx="5473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ана 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916360" y="4005360"/>
            <a:ext cx="3657600" cy="24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086600" cy="1447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траны мир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411280" y="1341360"/>
            <a:ext cx="136872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1268280"/>
            <a:ext cx="1224000" cy="8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47640" y="4076640"/>
            <a:ext cx="208764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1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3640" y="4005360"/>
            <a:ext cx="194472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335772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24720" y="3357720"/>
            <a:ext cx="0" cy="50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32000" y="2349360"/>
            <a:ext cx="2735280" cy="1081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Независимые госуда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56360" y="2276640"/>
            <a:ext cx="251928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Колониальные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зависи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9ccff"/>
          </a:solidFill>
          <a:ln w="34920">
            <a:solidFill>
              <a:srgbClr val="003b76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Группировка стран</a:t>
            </a: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Географическое положение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луостров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стров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траны-архипелаг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нутриконтиненталь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иморски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7318440" cy="5445000"/>
          </a:xfrm>
          <a:prstGeom prst="rect">
            <a:avLst/>
          </a:prstGeom>
          <a:ln w="9360">
            <a:solidFill>
              <a:srgbClr val="003b76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3203640" y="2421000"/>
            <a:ext cx="136836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Норве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24000" y="4941720"/>
            <a:ext cx="107964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Исп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4869000"/>
            <a:ext cx="1297080" cy="21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Ита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32360" y="2637000"/>
            <a:ext cx="1079640" cy="288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Шве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76360" y="189000"/>
            <a:ext cx="6985080" cy="100800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835280" y="404640"/>
            <a:ext cx="6264000" cy="6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atin typeface="Arial"/>
              </a:rPr>
              <a:t>Полуостровные: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263700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88000" y="27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5157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76360" y="508464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95640" y="486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5373720"/>
            <a:ext cx="136836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Португа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62040" y="1557360"/>
            <a:ext cx="7772400" cy="5300640"/>
            <a:chOff x="662040" y="1557360"/>
            <a:chExt cx="7772400" cy="530064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662040" y="1557360"/>
              <a:ext cx="7772400" cy="5300640"/>
            </a:xfrm>
            <a:prstGeom prst="rect">
              <a:avLst/>
            </a:prstGeom>
            <a:ln w="9360">
              <a:solidFill>
                <a:srgbClr val="003b76"/>
              </a:solidFill>
              <a:miter/>
            </a:ln>
          </p:spPr>
        </p:pic>
        <p:sp>
          <p:nvSpPr>
            <p:cNvPr id="202" name=""/>
            <p:cNvSpPr txBox="1"/>
            <p:nvPr/>
          </p:nvSpPr>
          <p:spPr>
            <a:xfrm>
              <a:off x="662040" y="1557360"/>
              <a:ext cx="7772400" cy="530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419640" y="2924280"/>
            <a:ext cx="504720" cy="50472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48000" y="2708280"/>
            <a:ext cx="115272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Ку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427640" y="4005000"/>
            <a:ext cx="576000" cy="43164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08360" y="4508640"/>
            <a:ext cx="1079640" cy="21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Гаи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292720" y="3284640"/>
            <a:ext cx="216000" cy="64764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3068640"/>
            <a:ext cx="280836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Доминиканская республ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0000" y="3860640"/>
            <a:ext cx="647640" cy="21600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3789360"/>
            <a:ext cx="115272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Яма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95640" y="404640"/>
            <a:ext cx="6480000" cy="107964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24000" y="692280"/>
            <a:ext cx="633564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стровные: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40360" y="32846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2720" y="3716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3716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84720" y="378936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8302320" cy="5300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 flipH="1">
            <a:off x="4859280" y="3789360"/>
            <a:ext cx="433440" cy="79200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92720" y="3716280"/>
            <a:ext cx="1584360" cy="217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Филипп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940360" y="2133720"/>
            <a:ext cx="432000" cy="35856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27640" y="2492280"/>
            <a:ext cx="12970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Япо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940000" y="5373720"/>
            <a:ext cx="360360" cy="79200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00720" y="5373720"/>
            <a:ext cx="172728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Индонез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333360"/>
            <a:ext cx="6840360" cy="107964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476360" y="333360"/>
            <a:ext cx="655164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траны - архипелаги: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26920" y="1224000"/>
            <a:ext cx="7772400" cy="5516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H="1">
            <a:off x="2626920" y="2158920"/>
            <a:ext cx="792360" cy="86544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48000" y="2087640"/>
            <a:ext cx="180036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Венесуэ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997080" y="2376360"/>
            <a:ext cx="718920" cy="93528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16360" y="2303640"/>
            <a:ext cx="1297080" cy="21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Гай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500720" y="2879640"/>
            <a:ext cx="287280" cy="50328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16360" y="2664000"/>
            <a:ext cx="1295640" cy="21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Сурин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284720" y="3598920"/>
            <a:ext cx="1800000" cy="1225440"/>
          </a:xfrm>
          <a:prstGeom prst="line">
            <a:avLst/>
          </a:prstGeom>
          <a:ln w="936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3382920"/>
            <a:ext cx="2160720" cy="43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Times New Roman"/>
              </a:rPr>
              <a:t>Брази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1280" y="262080"/>
            <a:ext cx="7993080" cy="107928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124000" y="549360"/>
            <a:ext cx="54723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морские: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7:01:24Z</dcterms:created>
  <dc:creator>user 3800</dc:creator>
  <dc:description/>
  <dc:language>en-US</dc:language>
  <cp:lastModifiedBy>Alexey</cp:lastModifiedBy>
  <dcterms:modified xsi:type="dcterms:W3CDTF">2010-10-23T17:48:57Z</dcterms:modified>
  <cp:revision>17</cp:revision>
  <dc:subject/>
  <dc:title>Слайд 1</dc:title>
</cp:coreProperties>
</file>