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7774-BB33-4AA8-A142-70A61986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D207-EA8F-4EF0-8C41-BB9DFF73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F100-8C0E-48C2-9BA8-E38BB99D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0169-E523-46DE-8E16-90CB158E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F0D1-339D-4C2C-BAE5-255D1F8D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0E07-46AD-400A-89EB-BA85477F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CB76-C47C-4F78-BAB5-B63BEC5B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6E3F-7391-4516-85A8-CDCDF79B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D38-4D9F-42A8-9413-81EE0C16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4010-3A1A-4D22-851C-8595DBF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EFD5-7BA1-4096-80A3-D760FE0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A976-F590-4344-AD4C-865692B8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F1A8-9E4C-44B6-96E9-AABBED5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DC8-AFB8-4CF1-8629-2877FB03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4352-4A44-47DE-8645-4BDF90DF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D872-9CE8-46D5-A4C6-27CAE38D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3355-3D8B-4C30-9078-8717150D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201D-2E21-430F-9F83-B337C7B7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E5D7-ADA8-46DF-8FF2-8D4AC60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FC1C-1F51-4CE0-B234-CFABA32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2593-D682-46CD-97B5-B1DDAEBD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8D3A-4A87-4DD4-8350-C72AB4E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60AA-12C3-4D11-9CAB-4B6930B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66A6-9352-41CD-B106-CDE687D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5F8-4D05-47D2-8304-FE1884D37A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959-D6F4-48F8-BAB5-5032139D21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Garamond"/>
              </a:rPr>
              <a:t>АНАТОМИЯ И ФИЗИОЛОГИЯ КОЖ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Физиология кож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Предупреждение механических поврежден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снижение их силы за счет подкожно-жировой клетчатки, плотности эпидермиса, упругости дерм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Защита от химических воздейств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ислотами, щелочами, красками. Кожный жир  смазывая кожу препятствует ее размоканию, образованию на ней трещ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защищает от радиационных воздейств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инфракрасных, ультрафиолетовых лучей и др.). Красящее вещество кожи — пигмент — препятствует вредному влиянию солнечных лучей: загар защищает кожу от их усиленного действ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поврежденная кожа препятствует проникновению микробов. Она способна также вырабатывать защитные вещества против различных инфекционных заболеваний. Среда кожи кислая (рН-5,0-6,0) нейтрализует химические вещества и их повреждающее действ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Кожа регулирует обмен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тепл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между организмом и внешней средой. Раздражение нервов вызывает расширение или сужение сосудов. При сужении тепло задерживается в организме, при расширении происходит большая отдача тепла. В теплоотдаче значительную роль играют потовые железы. В среднем человек выделяет от 600 до 900 см3 пота в сутки, объем может увеличиться до 4 л и даже более. Испарение пота  с поверхности кожи вызывает понижение температуры тела. При понижении внешней температуры теплоотдача снижается, при повышении усилива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отность эпидермиса, упругость кожи и подкожной жировой клетчатки предупреждает возможность механических повреждений и снижает их силу. Кожа вырабатывает пот и кожное сало. Кожный жир, смазывая кожу, препятствует ее размоканию и образованию трещин и ссадин, что защищает кожу от вредных влияний воды и различных химических соединени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Тургор кожи (тонус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Тургор кожи (тонус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ляет собой внутреннее давление клеток + напряженность клеточных мембран. Именно тонус дермы указывает на способность кожных покровов сопротивляться механическому воздействию (надавливание, оттягивание), качество водного балан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Для проверки тургор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но захватить участок эпителия, подержать его пару секунд, отпустить. Если дерма расправится очень быстро, значить ее тонус в хорошем состоянии. Если же на расправление потребуется больше времени, значит есть некоторые пробле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выполняет рол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выделительного орга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Пот состоит на 98% из воды, остальные составляют соль, мочевина, мочевая кислота. Сальные железы выделяют за неделю от 100 до 300 г кожного сала. В состав кожного сала входят жирные кислоты, жиры, соли, альбум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участвует в дыхании. Она поглощает 1/180 часть О2 и выделяет 1/70 часть СО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активно участвует в обмене веществ: водном, солевом белковом, углеводном, жиров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орган чувств в ней заложены нервные окончания- рецепторы (на 1см2 100 нервных окончаний, а общее число 1 млн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104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11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4343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aramond"/>
              </a:rPr>
              <a:t>АНАТОМИЯ КОЖИ  (СТРОЕНИЕ КОЖИ)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aramond"/>
              </a:rPr>
              <a:t>СХЕМАТИЧЕСКИЙ РАЗРЕЗ КОЖИ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Garamond"/>
              </a:rPr>
              <a:t>СЛОИ КОЖ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Надкожица (эпидермис) состоит из 5 слоев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зародышевый или основной сл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 шиповид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зернист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прозрачный или стекловидный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или блестящ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рогов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Собственно кожа(дерма) состоит из 2 сло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сосочков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-сетчат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Подкожная жировая клетчатка (гиподерм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Garamond"/>
              </a:rPr>
              <a:t>Зародышевый или основной слой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stratum basale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стоит из одного ряда цилиндрических клеток между которыми есть узкие щелевые пространства, межклеточеые канальц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базальном слое расположены кератоциты-основной ростковый элемент эпидермиса из которых образуются клетки всех вышележащих слоев. В протоплазме клеток  (меланоцитов) образуется  пигмент меланин под влиянием фермента тирозиназы, активность которого зависит от присутствия меди. Стимулирует пигментообразование деятельность эндокринных желез, ультрафиолетовые лучи, ионизирующая радиация, некоторые медикаментозные средства , витамин С и др. витами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98320" y="1881360"/>
            <a:ext cx="375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Шиповидный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tratum spinos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остоит из 5-10 рядов клеток кубической формы, между отростками клеток образуются щели, в них протекает лимфа, несущая питательные вещества в клетки и уносящая из них  отработанные продукты Клетки друг с другом соприкасаются  протоплазматическими отростк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98320" y="1881360"/>
            <a:ext cx="375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Зернисты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tratum  granules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стоит от  1 до 2-4 (ладони, подошвы ) рядов клеток, вытянутых параллельно поверхности эпидермиса, с постепенно уменьшающимися ядрами. В протоплазме содержится большое количество зернышек: белковое вещество- кератогиалин близкое по своей структуре к ДНК. Наличие зернышек первый видимый этап начинающегося ороговения клеток  эпидерми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7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озрачный или стекловидный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ли блестящи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лой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tratum lucidum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клетки его содержат белковое  вещество, напоминающее капли масла – эледин сильно преломляющее свет (елей-масло). С блестящим слоем связана непроницаемость  эпидермиса для воды и электол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7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54440" cy="3962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оговой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stratum corneum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клетки (роговые чешуйки) этого слоя  не содержат ядер,  пропитаны роговым  веществом  - кератином. В наружной части роговой слой менее компактен, отдельные пластинки здесь отстают от его общей массы, т.е. наблюдается процесс физиологического шелушения. На различных участках кожного покрова толщина рогового слоя разнообразна: наиболее выражена  она на коже ладоней и подошв, наименее – на коже век и наружных половых органов у мужч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обственно кожа (дерм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Сосочковый сл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 нем расположены нежные волок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Сетчатый  сл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расположены более плотные пучки,  а также расположены потовые и сальные железы, а также воло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отность   и упругость  собственно кожи зависит от наличия эластических волок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1524240" cy="289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167652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1828800" cy="289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5257800" y="19810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7238880" y="1981080"/>
            <a:ext cx="1524240" cy="2895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aramond"/>
              </a:rPr>
              <a:t>ТАКТИЛЬНЫЕ, ЧУВСТВИТЕЛЬНЫЕ РЕЦЕПТО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9"/>
          <p:cNvSpPr/>
          <p:nvPr/>
        </p:nvSpPr>
        <p:spPr>
          <a:xfrm flipV="1" rot="10816800">
            <a:off x="599040" y="5328720"/>
            <a:ext cx="77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Garamond"/>
              </a:rPr>
              <a:t>рецепторы осязания, давления и вибрации, удара, холода, бол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C-админ</dc:creator>
  <dc:description/>
  <dc:language>en-US</dc:language>
  <cp:lastModifiedBy>Преподаватель</cp:lastModifiedBy>
  <dcterms:modified xsi:type="dcterms:W3CDTF">2020-12-05T11:01:45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