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A2BE-DDF3-42EE-9114-65D83E22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D31B-D701-4F90-A11A-5FCB73B9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ECD9-7EBB-4B48-8428-E6DFD074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7D96-AEA9-444D-8DAD-5BF5AC3E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AFCB-888E-42E0-B045-22D26899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1CC4-BAE1-456C-B9E2-5BC6324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F3D0-A572-48AA-970D-E21E03FD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39F9-AEC0-4A7B-8C5F-DCC0B46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7D9E-AB74-46FB-A6B8-77CAE9D0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44D2-4847-4DF6-B539-1592787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B318-722E-4C1E-BA85-624805F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9F7E-3E62-411F-A0AC-E3FC747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DE20-9C9E-4725-8D19-596263C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394F-87A1-4639-9775-ED003B7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C8E8-8191-45CE-A0BC-D4DB76A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90D6-CF60-413A-AA4E-4ABDD05A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F615-7640-4897-8C0A-0DB0D999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8F5A-3D72-43B9-8CF5-13BB91E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3356-BC6E-49FF-BF6E-8294CFC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FF8C-8C52-476F-87EA-DA0A7B5D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2721-C579-4F52-8082-385DBE4B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E404-4C27-4C31-A3EC-84B9E33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4745-13CB-4AD7-89CB-22E4A48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DAF4-3E80-4890-A199-F9FBC7E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1C8-658C-45FB-AAEC-C58DE0D5A6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661-44F6-456B-B67E-3FEC1BB329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Garamond"/>
              </a:rPr>
              <a:t>АНАТОМИЯ И ФИЗИОЛОГИЯ КОЖ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Физиология кож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Предупреждение механических поврежден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снижение их силы за счет подкожно-жировой клетчатки, плотности эпидермиса, упругости дерм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Защита от химических воздейств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ислотами, щелочами, красками. Кожный жир  смазывая кожу препятствует ее размоканию, образованию на ней трещ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защищает от радиационных воздейств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инфракрасных, ультрафиолетовых лучей и др.). Красящее вещество кожи — пигмент — препятствует вредному влиянию солнечных лучей: загар защищает кожу от их усиленного действ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поврежденная кожа препятствует проникновению микробов. Она способна также вырабатывать защитные вещества против различных инфекционных заболеваний. Среда кожи кислая (рН-5,0-6,0) нейтрализует химические вещества и их повреждающее действ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Кожа регулирует обмен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тепл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между организмом и внешней средой. Раздражение нервов вызывает расширение или сужение сосудов. При сужении тепло задерживается в организме, при расширении происходит большая отдача тепла. В теплоотдаче значительную роль играют потовые железы. В среднем человек выделяет от 600 до 900 см3 пота в сутки, объем может увеличиться до 4 л и даже более. Испарение пота  с поверхности кожи вызывает понижение температуры тела. При понижении внешней температуры теплоотдача снижается, при повышении усилива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отность эпидермиса, упругость кожи и подкожной жировой клетчатки предупреждает возможность механических повреждений и снижает их силу. Кожа вырабатывает пот и кожное сало. Кожный жир, смазывая кожу, препятствует ее размоканию и образованию трещин и ссадин, что защищает кожу от вредных влияний воды и различных химических соединени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Тургор кожи (тонус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Тургор кожи (тонус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ляет собой внутреннее давление клеток + напряженность клеточных мембран. Именно тонус дермы указывает на способность кожных покровов сопротивляться механическому воздействию (надавливание, оттягивание), качество водного балан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Для проверки тургор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жно захватить участок эпителия, подержать его пару секунд, отпустить. Если дерма расправится очень быстро, значить ее тонус в хорошем состоянии. Если же на расправление потребуется больше времени, значит есть некоторые пробле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выполняет рол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выделительного орга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Пот состоит на 98% из воды, остальные составляют соль, мочевина, мочевая кислота. Сальные железы выделяют за неделю от 100 до 300 г кожного сала. В состав кожного сала входят жирные кислоты, жиры, соли, альбум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участвует в дыхании. Она поглощает 1/180 часть О2 и выделяет 1/70 часть СО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активно участвует в обмене веществ: водном, солевом белковом, углеводном, жиров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жа орган чувств в ней заложены нервные окончания- рецепторы (на 1см2 100 нервных окончаний, а общее число 1 млн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104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11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4343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aramond"/>
              </a:rPr>
              <a:t>АНАТОМИЯ КОЖИ  (СТРОЕНИЕ КОЖИ)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Garamond"/>
              </a:rPr>
              <a:t>СХЕМАТИЧЕСКИЙ РАЗРЕЗ КОЖИ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Garamond"/>
              </a:rPr>
              <a:t>СЛОИ КОЖ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Надкожица (эпидермис) состоит из 5 слоев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зародышевый или основной сл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 шиповид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зернист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прозрачный или стекловидный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или блестящ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рогов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Собственно кожа(дерма) состоит из 2 сло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сосочков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-сетчат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.Подкожная жировая клетчатка (гиподерм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Garamond"/>
              </a:rPr>
              <a:t>Зародышевый или основной слой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stratum basale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стоит из одного ряда цилиндрических клеток между которыми есть узкие щелевые пространства, межклеточеые канальц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базальном слое расположены кератоциты-основной ростковый элемент эпидермиса из которых образуются клетки всех вышележащих слоев. В протоплазме клеток  (меланоцитов) образуется  пигмент меланин под влиянием фермента тирозиназы, активность которого зависит от присутствия меди. Стимулирует пигментообразование деятельность эндокринных желез, ультрафиолетовые лучи, ионизирующая радиация, некоторые медикаментозные средства , витамин С и др. витами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98320" y="1881360"/>
            <a:ext cx="375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Шиповидный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tratum spinos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остоит из 5-10 рядов клеток кубической формы, между отростками клеток образуются щели, в них протекает лимфа, несущая питательные вещества в клетки и уносящая из них  отработанные продукты Клетки друг с другом соприкасаются  протоплазматическими отростк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98320" y="1881360"/>
            <a:ext cx="37562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Зернисты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tratum  granules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стоит от  1 до 2-4 (ладони, подошвы ) рядов клеток, вытянутых параллельно поверхности эпидермиса, с постепенно уменьшающимися ядрами. В протоплазме содержится большое количество зернышек: белковое вещество- кератогиалин близкое по своей структуре к ДНК. Наличие зернышек первый видимый этап начинающегося ороговения клеток  эпидерми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7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озрачный или стекловидный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ли блестящи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лой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tratum lucidum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клетки его содержат белковое  вещество, напоминающее капли масла – эледин сильно преломляющее свет (елей-масло). С блестящим слоем связана непроницаемость  эпидермиса для воды и электол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75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54440" cy="3962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ЛОИ ЭПИДЕРМИ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9112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оговой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stratum corneum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клетки (роговые чешуйки) этого слоя  не содержат ядер,  пропитаны роговым  веществом  - кератином. В наружной части роговой слой менее компактен, отдельные пластинки здесь отстают от его общей массы, т.е. наблюдается процесс физиологического шелушения. На различных участках кожного покрова толщина рогового слоя разнообразна: наиболее выражена  она на коже ладоней и подошв, наименее – на коже век и наружных половых органов у мужч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aramond"/>
              </a:rPr>
              <a:t>Собственно кожа (дерм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Сосочковый сл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 нем расположены нежные волок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Garamond"/>
              </a:rPr>
              <a:t>Сетчатый  сл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расположены более плотные пучки,  а также расположены потовые и сальные железы, а также воло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отность   и упругость  собственно кожи зависит от наличия эластических волок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1524240" cy="289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167652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1828800" cy="289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5257800" y="19810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7238880" y="1981080"/>
            <a:ext cx="1524240" cy="2895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aramond"/>
              </a:rPr>
              <a:t>ТАКТИЛЬНЫЕ, ЧУВСТВИТЕЛЬНЫЕ РЕЦЕПТО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9"/>
          <p:cNvSpPr/>
          <p:nvPr/>
        </p:nvSpPr>
        <p:spPr>
          <a:xfrm flipV="1" rot="10816800">
            <a:off x="599040" y="5328720"/>
            <a:ext cx="77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Garamond"/>
              </a:rPr>
              <a:t>рецепторы осязания, давления и вибрации, удара, холода, бол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C-админ</dc:creator>
  <dc:description/>
  <dc:language>en-US</dc:language>
  <cp:lastModifiedBy>Преподаватель</cp:lastModifiedBy>
  <dcterms:modified xsi:type="dcterms:W3CDTF">2020-12-05T11:01:45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