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041-8C80-4C18-A54F-9ACD3C9E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391-CF16-46D3-9089-0A6D454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A31-549C-412C-8E69-B58C7C41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AC0-7B3E-4C3F-9CBE-FA607A04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F54D-96B5-4278-AAE1-97A39460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AF0-A2AC-4839-8CE8-842D91F3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DB25-8BCA-4427-A772-CDCBEFBD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F7E6-F9BC-4800-BDB1-EAA79F58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B100-B722-4660-8933-8A9B4D92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8091-8B55-4842-A866-231A8A2B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288B-3404-466B-A40E-057F8F3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4E5-A00D-41B3-B324-8BA96445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74D5-7046-4803-8D17-C23D6B4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15E5-3A21-4AE1-A802-BE00810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1E57-2BD2-429D-91A1-758C6F70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4CC8-4485-4DAB-9974-8A4AF261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4E1E-131D-4F89-915B-3B102672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7EBD-554E-483A-B9BB-766ED87B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9AD1D-F389-4D0D-9A01-9AE23ED5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DB4E-630A-42E2-A045-397C4D20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6870-BECB-4D2B-97A1-B07F6770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7FA9-CFCE-4ADE-85A0-F1280D11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8C9-066A-4DF2-9C55-4D77C909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353F-0945-46F8-8CDC-BEEE6EBC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5A04-AEF8-4617-94D9-FA0FA21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32B5-DBDB-40D4-8F8A-F92731F1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4558-628F-4A44-89D9-037533E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DB1B-1219-463A-94D8-197904C2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4539-57B4-4A77-BCC7-C909FE10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6D03-7E35-4D57-BD14-C16A33C7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B1DD-7108-4ECE-9973-86B8AC14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C553-53C0-4E7D-9DBA-B5152BAF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61E1-B7D0-4F77-84AA-CE923E6B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DC3-899E-4153-B51B-3A87E929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EE8A-BC1A-4DC8-9280-DA660CDB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C6BF-F511-4685-A3C7-5470D353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7A7A-6800-4522-84ED-3B220F8B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A2BC-27DE-4003-B1DF-06FD141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B835-E17D-4E24-AE3C-7CF58AAC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863A-4D4A-4482-9FC3-E5B752B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4236-13A4-4C8C-8609-ECAE99D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9785-73A3-4B93-AD66-BF81FD17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8457-B985-4522-93FD-6AF05FDB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33E-C77B-4936-AD79-54D7DDBB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3FB-3D08-4C78-94D6-3F81A6C9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8CB-9EB2-4C34-86C3-B5F4F987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CA9-F981-4156-8C53-DF407E7A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A2B-E4A0-428B-BB3F-DB8D84F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7AA763-4029-4FED-B910-A717A924040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229804-1A23-41BF-9530-E75E663ABFB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53A7FA-B999-4088-BB3C-90753A22204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DE754D-8469-489D-89A2-4E82D74EAC7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>
                <a:solidFill>
                  <a:srgbClr val="0070c0"/>
                </a:solidFill>
                <a:latin typeface="Calibri"/>
              </a:rPr>
              <a:t>Вычислите: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10-конечная звезда 4"/>
          <p:cNvSpPr/>
          <p:nvPr/>
        </p:nvSpPr>
        <p:spPr>
          <a:xfrm>
            <a:off x="1907640" y="980640"/>
            <a:ext cx="136764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0-конечная звезда 5"/>
          <p:cNvSpPr/>
          <p:nvPr/>
        </p:nvSpPr>
        <p:spPr>
          <a:xfrm>
            <a:off x="5364000" y="908640"/>
            <a:ext cx="136764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0-конечная звезда 6"/>
          <p:cNvSpPr/>
          <p:nvPr/>
        </p:nvSpPr>
        <p:spPr>
          <a:xfrm>
            <a:off x="6948360" y="3213000"/>
            <a:ext cx="136764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0-конечная звезда 8"/>
          <p:cNvSpPr/>
          <p:nvPr/>
        </p:nvSpPr>
        <p:spPr>
          <a:xfrm>
            <a:off x="5652000" y="5589360"/>
            <a:ext cx="165600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6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0-конечная звезда 9"/>
          <p:cNvSpPr/>
          <p:nvPr/>
        </p:nvSpPr>
        <p:spPr>
          <a:xfrm>
            <a:off x="1043640" y="5013000"/>
            <a:ext cx="165600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3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0-конечная звезда 10"/>
          <p:cNvSpPr/>
          <p:nvPr/>
        </p:nvSpPr>
        <p:spPr>
          <a:xfrm>
            <a:off x="683640" y="2997000"/>
            <a:ext cx="136764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9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2-конечная звезда 13"/>
          <p:cNvSpPr/>
          <p:nvPr/>
        </p:nvSpPr>
        <p:spPr>
          <a:xfrm>
            <a:off x="3636000" y="3069000"/>
            <a:ext cx="1583640" cy="1511640"/>
          </a:xfrm>
          <a:prstGeom prst="star32">
            <a:avLst>
              <a:gd name="adj" fmla="val 375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3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право 15"/>
          <p:cNvSpPr/>
          <p:nvPr/>
        </p:nvSpPr>
        <p:spPr>
          <a:xfrm>
            <a:off x="5292000" y="3501000"/>
            <a:ext cx="151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16"/>
          <p:cNvSpPr/>
          <p:nvPr/>
        </p:nvSpPr>
        <p:spPr>
          <a:xfrm rot="18335400">
            <a:off x="4663080" y="2252160"/>
            <a:ext cx="151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право 17"/>
          <p:cNvSpPr/>
          <p:nvPr/>
        </p:nvSpPr>
        <p:spPr>
          <a:xfrm rot="2809200">
            <a:off x="4713840" y="4813560"/>
            <a:ext cx="151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лево 18"/>
          <p:cNvSpPr/>
          <p:nvPr/>
        </p:nvSpPr>
        <p:spPr>
          <a:xfrm rot="2810400">
            <a:off x="2747880" y="2271240"/>
            <a:ext cx="1595520" cy="719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лево 20"/>
          <p:cNvSpPr/>
          <p:nvPr/>
        </p:nvSpPr>
        <p:spPr>
          <a:xfrm rot="300000">
            <a:off x="2010960" y="3217320"/>
            <a:ext cx="1595520" cy="719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лево 21"/>
          <p:cNvSpPr/>
          <p:nvPr/>
        </p:nvSpPr>
        <p:spPr>
          <a:xfrm rot="19720800">
            <a:off x="2338200" y="4511520"/>
            <a:ext cx="1595520" cy="719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3"/>
          <p:cNvSpPr/>
          <p:nvPr/>
        </p:nvSpPr>
        <p:spPr>
          <a:xfrm>
            <a:off x="1115640" y="2169000"/>
            <a:ext cx="3384000" cy="18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(16,83+1,35)•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с одним вырезанным скругленным углом 4"/>
          <p:cNvSpPr/>
          <p:nvPr/>
        </p:nvSpPr>
        <p:spPr>
          <a:xfrm>
            <a:off x="4788000" y="2421000"/>
            <a:ext cx="1872000" cy="1367640"/>
          </a:xfrm>
          <a:prstGeom prst="snipRoundRect">
            <a:avLst>
              <a:gd name="adj1" fmla="val 16667"/>
              <a:gd name="adj2" fmla="val 16667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18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m3rlin\Desktop\Документы школы\аннимации для презентаций\фото\смайлики\2783.gif"/>
          <p:cNvPicPr/>
          <p:nvPr/>
        </p:nvPicPr>
        <p:blipFill>
          <a:blip r:embed="rId1"/>
          <a:stretch/>
        </p:blipFill>
        <p:spPr>
          <a:xfrm>
            <a:off x="6446520" y="2557440"/>
            <a:ext cx="1018800" cy="1095120"/>
          </a:xfrm>
          <a:prstGeom prst="rect">
            <a:avLst/>
          </a:prstGeom>
          <a:ln w="0">
            <a:noFill/>
          </a:ln>
        </p:spPr>
      </p:pic>
      <p:sp>
        <p:nvSpPr>
          <p:cNvPr id="220" name="Скругленный прямоугольник 7"/>
          <p:cNvSpPr/>
          <p:nvPr/>
        </p:nvSpPr>
        <p:spPr>
          <a:xfrm>
            <a:off x="4725720" y="2174040"/>
            <a:ext cx="2739960" cy="187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523880" y="304920"/>
            <a:ext cx="5976720" cy="4312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Georgi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657600" y="1219320"/>
            <a:ext cx="3047760" cy="301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333300"/>
                </a:solidFill>
                <a:latin typeface="Georgia"/>
              </a:rPr>
              <a:t>«1818 года, 28 октября, в понедельник, родился сын Иван, ростом 12 вершков, в Орле, в своем доме, в 12 часов у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cture 6"/>
          <p:cNvSpPr/>
          <p:nvPr/>
        </p:nvSpPr>
        <p:spPr>
          <a:xfrm>
            <a:off x="228600" y="1219320"/>
            <a:ext cx="3366360" cy="46479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icture 8"/>
          <p:cNvSpPr/>
          <p:nvPr/>
        </p:nvSpPr>
        <p:spPr>
          <a:xfrm>
            <a:off x="6781680" y="1752480"/>
            <a:ext cx="2208600" cy="33523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3657600" y="4572000"/>
            <a:ext cx="28191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ru-RU" sz="2000" spc="-1" strike="noStrike">
                <a:solidFill>
                  <a:srgbClr val="333300"/>
                </a:solidFill>
                <a:latin typeface="Georgia"/>
              </a:rPr>
              <a:t>(</a:t>
            </a:r>
            <a:r>
              <a:rPr b="0" i="1" lang="ru-RU" sz="2000" spc="-1" strike="noStrike">
                <a:solidFill>
                  <a:srgbClr val="333300"/>
                </a:solidFill>
                <a:latin typeface="Georgia"/>
              </a:rPr>
              <a:t>Из памятной книжки Варвары Петровн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1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755640" y="1628640"/>
            <a:ext cx="7488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 сколько лет со дня рожд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нится И.С.Тургеневу, если 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  1818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03440" y="1052640"/>
            <a:ext cx="784836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Miama Nueva"/>
              </a:rPr>
              <a:t>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             </a:t>
            </a: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Игра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Правильные и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неправиль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              </a:t>
            </a: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дроб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Таблица 4"/>
          <p:cNvGraphicFramePr/>
          <p:nvPr/>
        </p:nvGraphicFramePr>
        <p:xfrm>
          <a:off x="1043640" y="1196640"/>
          <a:ext cx="7272360" cy="3456000"/>
        </p:xfrm>
        <a:graphic>
          <a:graphicData uri="http://schemas.openxmlformats.org/drawingml/2006/table">
            <a:tbl>
              <a:tblPr/>
              <a:tblGrid>
                <a:gridCol w="2787120"/>
                <a:gridCol w="2061360"/>
                <a:gridCol w="2424240"/>
              </a:tblGrid>
              <a:tr h="16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/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м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82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8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Таблица 4"/>
          <p:cNvGraphicFramePr/>
          <p:nvPr/>
        </p:nvGraphicFramePr>
        <p:xfrm>
          <a:off x="1043640" y="1196640"/>
          <a:ext cx="7272360" cy="3456000"/>
        </p:xfrm>
        <a:graphic>
          <a:graphicData uri="http://schemas.openxmlformats.org/drawingml/2006/table">
            <a:tbl>
              <a:tblPr/>
              <a:tblGrid>
                <a:gridCol w="2787120"/>
                <a:gridCol w="2061360"/>
                <a:gridCol w="2424240"/>
              </a:tblGrid>
              <a:tr h="16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/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м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8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Таблица 4"/>
          <p:cNvGraphicFramePr/>
          <p:nvPr/>
        </p:nvGraphicFramePr>
        <p:xfrm>
          <a:off x="1043640" y="1196640"/>
          <a:ext cx="7272360" cy="3456000"/>
        </p:xfrm>
        <a:graphic>
          <a:graphicData uri="http://schemas.openxmlformats.org/drawingml/2006/table">
            <a:tbl>
              <a:tblPr/>
              <a:tblGrid>
                <a:gridCol w="2787120"/>
                <a:gridCol w="2061360"/>
                <a:gridCol w="2424240"/>
              </a:tblGrid>
              <a:tr h="16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/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м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,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8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Таблица 4"/>
          <p:cNvGraphicFramePr/>
          <p:nvPr/>
        </p:nvGraphicFramePr>
        <p:xfrm>
          <a:off x="1043640" y="1196640"/>
          <a:ext cx="7272360" cy="3456000"/>
        </p:xfrm>
        <a:graphic>
          <a:graphicData uri="http://schemas.openxmlformats.org/drawingml/2006/table">
            <a:tbl>
              <a:tblPr/>
              <a:tblGrid>
                <a:gridCol w="2787120"/>
                <a:gridCol w="2061360"/>
                <a:gridCol w="2424240"/>
              </a:tblGrid>
              <a:tr h="16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/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м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,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683640" y="1917000"/>
            <a:ext cx="741636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Что нового узнали сегодня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то хорошо понял тему и может поделиться своими зна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ому нужно ещё потренир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 Какое у вас настроение сей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1835640" y="980640"/>
            <a:ext cx="5328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619640" y="1772640"/>
            <a:ext cx="561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9fc0ff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9fc0ff"/>
                </a:solidFill>
                <a:latin typeface="Calibri"/>
              </a:rPr>
              <a:t>Задача от И.С. Турген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5940000" y="980640"/>
            <a:ext cx="2160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6.0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547640" y="2637000"/>
            <a:ext cx="6336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лассн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3640" y="1700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Умножение десятичной дроби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а натуральное числ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Выполните умножение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3"/>
          <p:cNvSpPr/>
          <p:nvPr/>
        </p:nvSpPr>
        <p:spPr>
          <a:xfrm>
            <a:off x="1050480" y="1156680"/>
            <a:ext cx="1151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4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4"/>
          <p:cNvSpPr/>
          <p:nvPr/>
        </p:nvSpPr>
        <p:spPr>
          <a:xfrm>
            <a:off x="2699640" y="2925000"/>
            <a:ext cx="1295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5"/>
          <p:cNvSpPr/>
          <p:nvPr/>
        </p:nvSpPr>
        <p:spPr>
          <a:xfrm>
            <a:off x="5076000" y="3645000"/>
            <a:ext cx="1295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1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6"/>
          <p:cNvSpPr/>
          <p:nvPr/>
        </p:nvSpPr>
        <p:spPr>
          <a:xfrm>
            <a:off x="467640" y="3789000"/>
            <a:ext cx="1367640" cy="100764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2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7"/>
          <p:cNvSpPr/>
          <p:nvPr/>
        </p:nvSpPr>
        <p:spPr>
          <a:xfrm>
            <a:off x="2699640" y="5013000"/>
            <a:ext cx="1656000" cy="100764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13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8"/>
          <p:cNvSpPr/>
          <p:nvPr/>
        </p:nvSpPr>
        <p:spPr>
          <a:xfrm>
            <a:off x="3636000" y="1124640"/>
            <a:ext cx="1367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8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9"/>
          <p:cNvSpPr/>
          <p:nvPr/>
        </p:nvSpPr>
        <p:spPr>
          <a:xfrm>
            <a:off x="7164360" y="4653000"/>
            <a:ext cx="1439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26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0"/>
          <p:cNvSpPr/>
          <p:nvPr/>
        </p:nvSpPr>
        <p:spPr>
          <a:xfrm>
            <a:off x="6372360" y="2277000"/>
            <a:ext cx="1151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трелка вправо 11"/>
          <p:cNvSpPr/>
          <p:nvPr/>
        </p:nvSpPr>
        <p:spPr>
          <a:xfrm rot="19843200">
            <a:off x="1732680" y="3503160"/>
            <a:ext cx="1061640" cy="647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4442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трелка влево 12"/>
          <p:cNvSpPr/>
          <p:nvPr/>
        </p:nvSpPr>
        <p:spPr>
          <a:xfrm rot="2703000">
            <a:off x="2022480" y="2127600"/>
            <a:ext cx="1272240" cy="64764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89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13"/>
          <p:cNvSpPr/>
          <p:nvPr/>
        </p:nvSpPr>
        <p:spPr>
          <a:xfrm>
            <a:off x="2267640" y="1196640"/>
            <a:ext cx="1439640" cy="647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право 14"/>
          <p:cNvSpPr/>
          <p:nvPr/>
        </p:nvSpPr>
        <p:spPr>
          <a:xfrm rot="1467000">
            <a:off x="4854240" y="1819440"/>
            <a:ext cx="1635120" cy="647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664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лево 16"/>
          <p:cNvSpPr/>
          <p:nvPr/>
        </p:nvSpPr>
        <p:spPr>
          <a:xfrm rot="1375200">
            <a:off x="6165720" y="4272480"/>
            <a:ext cx="1136520" cy="64764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574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лево 17"/>
          <p:cNvSpPr/>
          <p:nvPr/>
        </p:nvSpPr>
        <p:spPr>
          <a:xfrm rot="19302600">
            <a:off x="3978360" y="4417920"/>
            <a:ext cx="1324800" cy="64764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3902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Х</a:t>
            </a: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 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право 18"/>
          <p:cNvSpPr/>
          <p:nvPr/>
        </p:nvSpPr>
        <p:spPr>
          <a:xfrm rot="3661200">
            <a:off x="6797160" y="3510360"/>
            <a:ext cx="1635120" cy="782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986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1043640" y="764640"/>
            <a:ext cx="63363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,2                    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,4                     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,8                  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1                      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3,2                  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6,4                   Н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8                     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32                   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040" cy="9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ван Сергеевич Тургене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Documents and Settings\АННА\Мои документы\Мои рисунки\Новая папка (3)\Тургенев.jpg"/>
          <p:cNvPicPr/>
          <p:nvPr/>
        </p:nvPicPr>
        <p:blipFill>
          <a:blip r:embed="rId1"/>
          <a:stretch/>
        </p:blipFill>
        <p:spPr>
          <a:xfrm>
            <a:off x="467640" y="1340640"/>
            <a:ext cx="3464280" cy="46663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4062600" y="1600200"/>
            <a:ext cx="45360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ван Сергеевич Тургенев– русский поэт, прозаик, драматург. Родился Тургенев  в старинной дворянской семье.  Всё своё детство и первые годы юности он провёл в своей усадьбе (Спасское - Лутовиново). Спасское под Орлом - это живописный уголок России, в котором довелось родиться и расти Ивану Тургеневу. И хотя позднее ему довелось увидеть много живописных мест и на родине, и за границей, однако на всю жизнь он сохранил воспоминания о своём родном «гнезд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http://900igr.net/datai/literatura/ZHizn-Turgeneva/0006-005-Spasskoe-Lutovinovo-i-ego-tenistye-lipovye-allei-ego-okrestnosti.jpg"/>
          <p:cNvPicPr/>
          <p:nvPr/>
        </p:nvPicPr>
        <p:blipFill>
          <a:blip r:embed="rId1"/>
          <a:stretch/>
        </p:blipFill>
        <p:spPr>
          <a:xfrm>
            <a:off x="460440" y="260640"/>
            <a:ext cx="8361000" cy="6234480"/>
          </a:xfrm>
          <a:prstGeom prst="rect">
            <a:avLst/>
          </a:prstGeom>
          <a:ln w="28575">
            <a:solidFill>
              <a:srgbClr val="ffc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7640" y="620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Выполнив задание вы узнаете число, месяц     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                   и дату рожде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Скругленный прямоугольник 3"/>
          <p:cNvSpPr/>
          <p:nvPr/>
        </p:nvSpPr>
        <p:spPr>
          <a:xfrm>
            <a:off x="827640" y="2133000"/>
            <a:ext cx="3312000" cy="203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(0,5+0,9)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•</a:t>
            </a: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20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с одним вырезанным скругленным углом 4"/>
          <p:cNvSpPr/>
          <p:nvPr/>
        </p:nvSpPr>
        <p:spPr>
          <a:xfrm>
            <a:off x="4284000" y="2421000"/>
            <a:ext cx="1872000" cy="1367640"/>
          </a:xfrm>
          <a:prstGeom prst="snipRoundRect">
            <a:avLst>
              <a:gd name="adj1" fmla="val 16667"/>
              <a:gd name="adj2" fmla="val 16667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dk1"/>
                </a:solidFill>
                <a:latin typeface="Calibri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m3rlin\Desktop\Документы школы\аннимации для презентаций\фото\смайлики\2783.gif"/>
          <p:cNvPicPr/>
          <p:nvPr/>
        </p:nvPicPr>
        <p:blipFill>
          <a:blip r:embed="rId1"/>
          <a:stretch/>
        </p:blipFill>
        <p:spPr>
          <a:xfrm>
            <a:off x="5873760" y="2925000"/>
            <a:ext cx="1018800" cy="109512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7"/>
          <p:cNvSpPr/>
          <p:nvPr/>
        </p:nvSpPr>
        <p:spPr>
          <a:xfrm>
            <a:off x="4228560" y="2133000"/>
            <a:ext cx="2664000" cy="208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3"/>
          <p:cNvSpPr/>
          <p:nvPr/>
        </p:nvSpPr>
        <p:spPr>
          <a:xfrm>
            <a:off x="899640" y="2133000"/>
            <a:ext cx="3240000" cy="18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(1,83 </a:t>
            </a:r>
            <a:r>
              <a:rPr b="1" lang="ru-RU" sz="2000" spc="-1" strike="noStrike">
                <a:solidFill>
                  <a:schemeClr val="dk1"/>
                </a:solidFill>
                <a:latin typeface="Calibri"/>
              </a:rPr>
              <a:t>• </a:t>
            </a: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4) + 2,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с одним вырезанным скругленным углом 4"/>
          <p:cNvSpPr/>
          <p:nvPr/>
        </p:nvSpPr>
        <p:spPr>
          <a:xfrm>
            <a:off x="4284000" y="2421000"/>
            <a:ext cx="1872000" cy="1367640"/>
          </a:xfrm>
          <a:prstGeom prst="snipRoundRect">
            <a:avLst>
              <a:gd name="adj1" fmla="val 16667"/>
              <a:gd name="adj2" fmla="val 16667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dk1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m3rlin\Desktop\Документы школы\аннимации для презентаций\фото\смайлики\2783.gif"/>
          <p:cNvPicPr/>
          <p:nvPr/>
        </p:nvPicPr>
        <p:blipFill>
          <a:blip r:embed="rId1"/>
          <a:stretch/>
        </p:blipFill>
        <p:spPr>
          <a:xfrm>
            <a:off x="6012000" y="2606760"/>
            <a:ext cx="1018800" cy="1095120"/>
          </a:xfrm>
          <a:prstGeom prst="rect">
            <a:avLst/>
          </a:prstGeom>
          <a:ln w="0">
            <a:noFill/>
          </a:ln>
        </p:spPr>
      </p:pic>
      <p:sp>
        <p:nvSpPr>
          <p:cNvPr id="216" name="Скругленный прямоугольник 7"/>
          <p:cNvSpPr/>
          <p:nvPr/>
        </p:nvSpPr>
        <p:spPr>
          <a:xfrm>
            <a:off x="4284000" y="2213640"/>
            <a:ext cx="2810880" cy="188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  <Words>326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2:39:22Z</dcterms:created>
  <dc:creator>m3rlin</dc:creator>
  <dc:description/>
  <dc:language>en-US</dc:language>
  <cp:lastModifiedBy>Family</cp:lastModifiedBy>
  <dcterms:modified xsi:type="dcterms:W3CDTF">2020-11-02T17:32:07Z</dcterms:modified>
  <cp:revision>46</cp:revision>
  <dc:subject/>
  <dc:title>Умножение десятичной дроби на натуральное числ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