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6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DC5B-04D5-41A4-BFF3-8F36CADFD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0699-AEAA-4716-A6CA-04E042D3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7528-B75C-4B69-872D-7682C0CAE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E5BA-B931-4402-9E4C-2CA917ECF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21B6-0159-408E-8A0C-9D009DCCC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A2FB-500B-48E2-894E-956CAE95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33FB1-A174-4D28-8D1C-411BB53F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E697-1F1C-4404-B9FD-89483A66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2A47A-B8B2-4C43-BA72-9B66DB11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DF6B-923F-4D81-96A9-F4182EF6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F426-FE70-4EB2-B209-460A9C8A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810A-7354-4770-BFA1-E912C45D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9EDA-AA1F-4491-8E52-5F554B2B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A92E-788C-4A53-B268-EF058470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7C36-7049-4205-B7B2-D58F1036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DC98-9DAF-4B81-9C89-A92C7434C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A8D4-D8D9-4428-98F2-EC20DB59B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B5203-47BC-4F8C-B1DA-664431584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0A225-AE4A-40F9-8DEE-84A452F7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C3328-16C4-466F-B5CB-65A26227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22ADB-AB01-47D6-B427-1B68D813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56338-B5A8-4E9A-9B0F-A028ED77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3A9D-A586-4A27-A1A7-E7448E86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E402F-E215-4238-9498-AEB837BB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7A6F8-4495-48BF-9F2F-0FAB6F88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399EB-EA62-42A2-BE2A-E0FEC1EE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E23C5-BD2A-44CC-A9AB-34BD8EFC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78F5D-D958-40B9-8E7D-2028CD23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2994F-171E-44E9-A336-A0FCACD30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18384-6AF4-4A27-9840-40263B371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FAFC2-E896-40B5-9F0F-CE92B052C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8A41C-6BF5-4DB6-AAD2-7C2003FA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EBCA2-89E6-4FA3-876B-E20C80A3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88E1-06E1-4EB9-AE06-80581078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FD273-9846-49A3-B973-7E17EB8D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09A2D-780F-4762-86EB-BC5060BB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0A866-22F8-4365-AD08-20ACB30E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48833-DCD1-46C2-8AB3-042FEE23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875A3-AD42-4E72-A5EA-5CDE0CD9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587C2-A34E-4B23-96D2-0AB85C29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789DA-A6CF-4BE5-B8CC-C83BDFA8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CCB54-E3D1-48C7-9BDA-307F9ABFB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BB9DB-8487-4CCF-9D14-AF1D6C7F4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AE95-C56B-44F5-998D-39BEAA01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89BF-6C13-49CF-A09A-0687FB56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7C36-8175-4289-816B-7B15CB4D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772E-1990-4AD3-8E82-3FF12523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A2A6-25AB-4057-A7B6-27E04BE1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A9A0E3F-D561-4715-B797-9705DC078A0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C9EAA6-E37D-4B9F-B236-9EA3BCC2FB6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FD9859B-5048-4760-96A3-FD2B93D7758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8A5E71B-CE09-4BCC-9731-05CBE53259E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83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5400" spc="-1" strike="noStrike">
                <a:solidFill>
                  <a:srgbClr val="0070c0"/>
                </a:solidFill>
                <a:latin typeface="Calibri"/>
              </a:rPr>
              <a:t>Вычислите:</a:t>
            </a: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10-конечная звезда 4"/>
          <p:cNvSpPr/>
          <p:nvPr/>
        </p:nvSpPr>
        <p:spPr>
          <a:xfrm>
            <a:off x="1907640" y="980640"/>
            <a:ext cx="1367640" cy="1079640"/>
          </a:xfrm>
          <a:prstGeom prst="star10">
            <a:avLst>
              <a:gd name="adj" fmla="val 42533"/>
              <a:gd name="hf" fmla="val 105146"/>
            </a:avLst>
          </a:prstGeom>
          <a:gradFill rotWithShape="0">
            <a:gsLst>
              <a:gs pos="0">
                <a:srgbClr val="2988a1"/>
              </a:gs>
              <a:gs pos="100000">
                <a:srgbClr val="36b0d1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chemeClr val="lt1"/>
                </a:solidFill>
                <a:latin typeface="Calibri"/>
              </a:rPr>
              <a:t>3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10-конечная звезда 5"/>
          <p:cNvSpPr/>
          <p:nvPr/>
        </p:nvSpPr>
        <p:spPr>
          <a:xfrm>
            <a:off x="5364000" y="908640"/>
            <a:ext cx="1367640" cy="1079640"/>
          </a:xfrm>
          <a:prstGeom prst="star10">
            <a:avLst>
              <a:gd name="adj" fmla="val 42533"/>
              <a:gd name="hf" fmla="val 105146"/>
            </a:avLst>
          </a:prstGeom>
          <a:gradFill rotWithShape="0">
            <a:gsLst>
              <a:gs pos="0">
                <a:srgbClr val="2988a1"/>
              </a:gs>
              <a:gs pos="100000">
                <a:srgbClr val="36b0d1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chemeClr val="lt1"/>
                </a:solidFill>
                <a:latin typeface="Calibri"/>
              </a:rPr>
              <a:t>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10-конечная звезда 6"/>
          <p:cNvSpPr/>
          <p:nvPr/>
        </p:nvSpPr>
        <p:spPr>
          <a:xfrm>
            <a:off x="6948360" y="3213000"/>
            <a:ext cx="1367640" cy="1079640"/>
          </a:xfrm>
          <a:prstGeom prst="star10">
            <a:avLst>
              <a:gd name="adj" fmla="val 42533"/>
              <a:gd name="hf" fmla="val 105146"/>
            </a:avLst>
          </a:prstGeom>
          <a:gradFill rotWithShape="0">
            <a:gsLst>
              <a:gs pos="0">
                <a:srgbClr val="2988a1"/>
              </a:gs>
              <a:gs pos="100000">
                <a:srgbClr val="36b0d1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chemeClr val="lt1"/>
                </a:solidFill>
                <a:latin typeface="Calibri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10-конечная звезда 8"/>
          <p:cNvSpPr/>
          <p:nvPr/>
        </p:nvSpPr>
        <p:spPr>
          <a:xfrm>
            <a:off x="5652000" y="5589360"/>
            <a:ext cx="1656000" cy="1079640"/>
          </a:xfrm>
          <a:prstGeom prst="star10">
            <a:avLst>
              <a:gd name="adj" fmla="val 42533"/>
              <a:gd name="hf" fmla="val 105146"/>
            </a:avLst>
          </a:prstGeom>
          <a:gradFill rotWithShape="0">
            <a:gsLst>
              <a:gs pos="0">
                <a:srgbClr val="2988a1"/>
              </a:gs>
              <a:gs pos="100000">
                <a:srgbClr val="36b0d1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chemeClr val="lt1"/>
                </a:solidFill>
                <a:latin typeface="Calibri"/>
              </a:rPr>
              <a:t>6,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10-конечная звезда 9"/>
          <p:cNvSpPr/>
          <p:nvPr/>
        </p:nvSpPr>
        <p:spPr>
          <a:xfrm>
            <a:off x="1043640" y="5013000"/>
            <a:ext cx="1656000" cy="1079640"/>
          </a:xfrm>
          <a:prstGeom prst="star10">
            <a:avLst>
              <a:gd name="adj" fmla="val 42533"/>
              <a:gd name="hf" fmla="val 105146"/>
            </a:avLst>
          </a:prstGeom>
          <a:gradFill rotWithShape="0">
            <a:gsLst>
              <a:gs pos="0">
                <a:srgbClr val="2988a1"/>
              </a:gs>
              <a:gs pos="100000">
                <a:srgbClr val="36b0d1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chemeClr val="lt1"/>
                </a:solidFill>
                <a:latin typeface="Calibri"/>
              </a:rPr>
              <a:t>3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10-конечная звезда 10"/>
          <p:cNvSpPr/>
          <p:nvPr/>
        </p:nvSpPr>
        <p:spPr>
          <a:xfrm>
            <a:off x="683640" y="2997000"/>
            <a:ext cx="1367640" cy="1079640"/>
          </a:xfrm>
          <a:prstGeom prst="star10">
            <a:avLst>
              <a:gd name="adj" fmla="val 42533"/>
              <a:gd name="hf" fmla="val 105146"/>
            </a:avLst>
          </a:prstGeom>
          <a:gradFill rotWithShape="0">
            <a:gsLst>
              <a:gs pos="0">
                <a:srgbClr val="2988a1"/>
              </a:gs>
              <a:gs pos="100000">
                <a:srgbClr val="36b0d1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chemeClr val="lt1"/>
                </a:solidFill>
                <a:latin typeface="Calibri"/>
              </a:rPr>
              <a:t>9,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32-конечная звезда 13"/>
          <p:cNvSpPr/>
          <p:nvPr/>
        </p:nvSpPr>
        <p:spPr>
          <a:xfrm>
            <a:off x="3636000" y="3069000"/>
            <a:ext cx="1583640" cy="1511640"/>
          </a:xfrm>
          <a:prstGeom prst="star32">
            <a:avLst>
              <a:gd name="adj" fmla="val 37500"/>
            </a:avLst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chemeClr val="dk1"/>
                </a:solidFill>
                <a:latin typeface="Calibri"/>
              </a:rPr>
              <a:t>3,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Стрелка вправо 15"/>
          <p:cNvSpPr/>
          <p:nvPr/>
        </p:nvSpPr>
        <p:spPr>
          <a:xfrm>
            <a:off x="5292000" y="3501000"/>
            <a:ext cx="1511640" cy="647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>
            <a:solidFill>
              <a:srgbClr val="4bacc6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chemeClr val="dk1"/>
                </a:solidFill>
                <a:latin typeface="Calibri"/>
              </a:rPr>
              <a:t>х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трелка вправо 16"/>
          <p:cNvSpPr/>
          <p:nvPr/>
        </p:nvSpPr>
        <p:spPr>
          <a:xfrm rot="18335400">
            <a:off x="4663080" y="2252160"/>
            <a:ext cx="1511640" cy="647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>
            <a:solidFill>
              <a:srgbClr val="4bacc6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chemeClr val="dk1"/>
                </a:solidFill>
                <a:latin typeface="Calibri"/>
              </a:rPr>
              <a:t>х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Стрелка вправо 17"/>
          <p:cNvSpPr/>
          <p:nvPr/>
        </p:nvSpPr>
        <p:spPr>
          <a:xfrm rot="2809200">
            <a:off x="4713840" y="4813560"/>
            <a:ext cx="1511640" cy="647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>
            <a:solidFill>
              <a:srgbClr val="4bacc6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chemeClr val="dk1"/>
                </a:solidFill>
                <a:latin typeface="Calibri"/>
              </a:rPr>
              <a:t>х 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Стрелка влево 18"/>
          <p:cNvSpPr/>
          <p:nvPr/>
        </p:nvSpPr>
        <p:spPr>
          <a:xfrm rot="2810400">
            <a:off x="2747880" y="2271240"/>
            <a:ext cx="1595520" cy="7196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>
            <a:solidFill>
              <a:srgbClr val="4bacc6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chemeClr val="dk1"/>
                </a:solidFill>
                <a:latin typeface="Calibri"/>
              </a:rPr>
              <a:t>х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Стрелка влево 20"/>
          <p:cNvSpPr/>
          <p:nvPr/>
        </p:nvSpPr>
        <p:spPr>
          <a:xfrm rot="300000">
            <a:off x="2010960" y="3217320"/>
            <a:ext cx="1595520" cy="7196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>
            <a:solidFill>
              <a:srgbClr val="4bacc6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chemeClr val="dk1"/>
                </a:solidFill>
                <a:latin typeface="Calibri"/>
              </a:rPr>
              <a:t>х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трелка влево 21"/>
          <p:cNvSpPr/>
          <p:nvPr/>
        </p:nvSpPr>
        <p:spPr>
          <a:xfrm rot="19720800">
            <a:off x="2338200" y="4511520"/>
            <a:ext cx="1595520" cy="7196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>
            <a:solidFill>
              <a:srgbClr val="4bacc6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chemeClr val="dk1"/>
                </a:solidFill>
                <a:latin typeface="Calibri"/>
              </a:rPr>
              <a:t>х1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Скругленный прямоугольник 3"/>
          <p:cNvSpPr/>
          <p:nvPr/>
        </p:nvSpPr>
        <p:spPr>
          <a:xfrm>
            <a:off x="1115640" y="2169000"/>
            <a:ext cx="3384000" cy="187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dk1"/>
                </a:solidFill>
                <a:latin typeface="Calibri"/>
              </a:rPr>
              <a:t>(16,83+1,35)•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с одним вырезанным скругленным углом 4"/>
          <p:cNvSpPr/>
          <p:nvPr/>
        </p:nvSpPr>
        <p:spPr>
          <a:xfrm>
            <a:off x="4788000" y="2421000"/>
            <a:ext cx="1872000" cy="1367640"/>
          </a:xfrm>
          <a:prstGeom prst="snipRoundRect">
            <a:avLst>
              <a:gd name="adj1" fmla="val 16667"/>
              <a:gd name="adj2" fmla="val 16667"/>
            </a:avLst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chemeClr val="dk1"/>
                </a:solidFill>
                <a:latin typeface="Calibri"/>
              </a:rPr>
              <a:t>18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C:\Users\m3rlin\Desktop\Документы школы\аннимации для презентаций\фото\смайлики\2783.gif"/>
          <p:cNvPicPr/>
          <p:nvPr/>
        </p:nvPicPr>
        <p:blipFill>
          <a:blip r:embed="rId1"/>
          <a:stretch/>
        </p:blipFill>
        <p:spPr>
          <a:xfrm>
            <a:off x="6446520" y="2557440"/>
            <a:ext cx="1018800" cy="1095120"/>
          </a:xfrm>
          <a:prstGeom prst="rect">
            <a:avLst/>
          </a:prstGeom>
          <a:ln w="0">
            <a:noFill/>
          </a:ln>
        </p:spPr>
      </p:pic>
      <p:sp>
        <p:nvSpPr>
          <p:cNvPr id="220" name="Скругленный прямоугольник 7"/>
          <p:cNvSpPr/>
          <p:nvPr/>
        </p:nvSpPr>
        <p:spPr>
          <a:xfrm>
            <a:off x="4725720" y="2174040"/>
            <a:ext cx="2739960" cy="1872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3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WordArt 4"/>
          <p:cNvSpPr txBox="1"/>
          <p:nvPr/>
        </p:nvSpPr>
        <p:spPr>
          <a:xfrm>
            <a:off x="1523880" y="304920"/>
            <a:ext cx="5976720" cy="43128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endParaRPr b="0" lang="ru-RU" sz="3600" spc="-1" strike="noStrike">
              <a:ln w="0">
                <a:noFill/>
              </a:ln>
              <a:solidFill>
                <a:srgbClr val="729fcf"/>
              </a:solidFill>
              <a:latin typeface="Georgia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657600" y="1219320"/>
            <a:ext cx="3047760" cy="301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333300"/>
                </a:solidFill>
                <a:latin typeface="Georgia"/>
              </a:rPr>
              <a:t>«1818 года, 28 октября, в понедельник, родился сын Иван, ростом 12 вершков, в Орле, в своем доме, в 12 часов утр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icture 6"/>
          <p:cNvSpPr/>
          <p:nvPr/>
        </p:nvSpPr>
        <p:spPr>
          <a:xfrm>
            <a:off x="228600" y="1219320"/>
            <a:ext cx="3366360" cy="464796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190500">
            <a:solidFill>
              <a:srgbClr val="c8c6bd"/>
            </a:solidFill>
            <a:round/>
          </a:ln>
          <a:effectLst>
            <a:outerShdw algn="bl" blurRad="127080" rotWithShape="0">
              <a:srgbClr val="000000"/>
            </a:outerShdw>
          </a:effectLst>
          <a:scene3d>
            <a:camera fov="5400000" prst="perspectiveFront"/>
            <a:lightRig dir="t" rig="threePt">
              <a:rot lat="0" lon="0" rev="19200000"/>
            </a:lightRig>
          </a:scene3d>
          <a:sp3d extrusionH="25400">
            <a:bevelT prst="hardEdge" w="304800" h="152400"/>
            <a:extrusionClr>
              <a:srgbClr val="0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icture 8"/>
          <p:cNvSpPr/>
          <p:nvPr/>
        </p:nvSpPr>
        <p:spPr>
          <a:xfrm>
            <a:off x="6781680" y="1752480"/>
            <a:ext cx="2208600" cy="3352320"/>
          </a:xfrm>
          <a:prstGeom prst="ellipse">
            <a:avLst/>
          </a:prstGeom>
          <a:blipFill rotWithShape="0">
            <a:blip r:embed="rId2"/>
            <a:srcRect/>
            <a:stretch/>
          </a:blipFill>
          <a:ln cap="rnd" w="190500">
            <a:solidFill>
              <a:srgbClr val="c8c6bd"/>
            </a:solidFill>
            <a:round/>
          </a:ln>
          <a:effectLst>
            <a:outerShdw algn="bl" blurRad="127080" rotWithShape="0">
              <a:srgbClr val="000000"/>
            </a:outerShdw>
          </a:effectLst>
          <a:scene3d>
            <a:camera fov="5400000" prst="perspectiveFront"/>
            <a:lightRig dir="t" rig="threePt">
              <a:rot lat="0" lon="0" rev="19200000"/>
            </a:lightRig>
          </a:scene3d>
          <a:sp3d extrusionH="25400">
            <a:bevelT prst="hardEdge" w="304800" h="152400"/>
            <a:extrusionClr>
              <a:srgbClr val="0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5"/>
          <p:cNvSpPr/>
          <p:nvPr/>
        </p:nvSpPr>
        <p:spPr>
          <a:xfrm>
            <a:off x="3657600" y="4572000"/>
            <a:ext cx="281916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ru-RU" sz="2000" spc="-1" strike="noStrike">
                <a:solidFill>
                  <a:srgbClr val="333300"/>
                </a:solidFill>
                <a:latin typeface="Georgia"/>
              </a:rPr>
              <a:t>(</a:t>
            </a:r>
            <a:r>
              <a:rPr b="0" i="1" lang="ru-RU" sz="2000" spc="-1" strike="noStrike">
                <a:solidFill>
                  <a:srgbClr val="333300"/>
                </a:solidFill>
                <a:latin typeface="Georgia"/>
              </a:rPr>
              <a:t>Из памятной книжки Варвары Петровны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310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1"/>
          <p:cNvSpPr/>
          <p:nvPr/>
        </p:nvSpPr>
        <p:spPr>
          <a:xfrm>
            <a:off x="755640" y="1628640"/>
            <a:ext cx="74883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числите сколько лет со дня рождения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олнится И.С.Тургеневу, если он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дился в   1818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1"/>
          <p:cNvSpPr/>
          <p:nvPr/>
        </p:nvSpPr>
        <p:spPr>
          <a:xfrm>
            <a:off x="703440" y="1052640"/>
            <a:ext cx="7848360" cy="39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Miama Nueva"/>
              </a:rPr>
              <a:t>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5400" spc="-1" strike="noStrike">
                <a:solidFill>
                  <a:srgbClr val="000000"/>
                </a:solidFill>
                <a:latin typeface="Miama Nueva"/>
              </a:rPr>
              <a:t>             </a:t>
            </a:r>
            <a:r>
              <a:rPr b="1" lang="ru-RU" sz="5400" spc="-1" strike="noStrike">
                <a:solidFill>
                  <a:srgbClr val="000000"/>
                </a:solidFill>
                <a:latin typeface="Miama Nueva"/>
              </a:rPr>
              <a:t>Игра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5400" spc="-1" strike="noStrike">
                <a:solidFill>
                  <a:srgbClr val="000000"/>
                </a:solidFill>
                <a:latin typeface="Miama Nueva"/>
              </a:rPr>
              <a:t>Правильные и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5400" spc="-1" strike="noStrike">
                <a:solidFill>
                  <a:srgbClr val="000000"/>
                </a:solidFill>
                <a:latin typeface="Miama Nueva"/>
              </a:rPr>
              <a:t>    </a:t>
            </a:r>
            <a:r>
              <a:rPr b="1" lang="ru-RU" sz="5400" spc="-1" strike="noStrike">
                <a:solidFill>
                  <a:srgbClr val="000000"/>
                </a:solidFill>
                <a:latin typeface="Miama Nueva"/>
              </a:rPr>
              <a:t>неправильны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5400" spc="-1" strike="noStrike">
                <a:solidFill>
                  <a:srgbClr val="000000"/>
                </a:solidFill>
                <a:latin typeface="Miama Nueva"/>
              </a:rPr>
              <a:t>              </a:t>
            </a:r>
            <a:r>
              <a:rPr b="1" lang="ru-RU" sz="5400" spc="-1" strike="noStrike">
                <a:solidFill>
                  <a:srgbClr val="000000"/>
                </a:solidFill>
                <a:latin typeface="Miama Nueva"/>
              </a:rPr>
              <a:t>дроб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"/>
                            </p:stCondLst>
                            <p:childTnLst>
                              <p:par>
                                <p:cTn id="3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"/>
                            </p:stCondLst>
                            <p:childTnLst>
                              <p:par>
                                <p:cTn id="3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0"/>
                            </p:stCondLst>
                            <p:childTnLst>
                              <p:par>
                                <p:cTn id="3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Таблица 4"/>
          <p:cNvGraphicFramePr/>
          <p:nvPr/>
        </p:nvGraphicFramePr>
        <p:xfrm>
          <a:off x="1043640" y="1196640"/>
          <a:ext cx="7272360" cy="3456000"/>
        </p:xfrm>
        <a:graphic>
          <a:graphicData uri="http://schemas.openxmlformats.org/drawingml/2006/table">
            <a:tbl>
              <a:tblPr/>
              <a:tblGrid>
                <a:gridCol w="2787120"/>
                <a:gridCol w="2061360"/>
                <a:gridCol w="2424240"/>
              </a:tblGrid>
              <a:tr h="163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(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м/ч)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(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)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км)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1825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ru-RU" sz="4400" spc="-1" strike="noStrike">
                        <a:solidFill>
                          <a:schemeClr val="dk1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ru-RU" sz="4800" spc="-1" strike="noStrike">
                        <a:solidFill>
                          <a:schemeClr val="dk1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Таблица 4"/>
          <p:cNvGraphicFramePr/>
          <p:nvPr/>
        </p:nvGraphicFramePr>
        <p:xfrm>
          <a:off x="1043640" y="1196640"/>
          <a:ext cx="7272360" cy="3456000"/>
        </p:xfrm>
        <a:graphic>
          <a:graphicData uri="http://schemas.openxmlformats.org/drawingml/2006/table">
            <a:tbl>
              <a:tblPr/>
              <a:tblGrid>
                <a:gridCol w="2787120"/>
                <a:gridCol w="2061360"/>
                <a:gridCol w="2424240"/>
              </a:tblGrid>
              <a:tr h="163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(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м/ч)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(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)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км)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1825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4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6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ru-RU" sz="4400" spc="-1" strike="noStrike">
                        <a:solidFill>
                          <a:schemeClr val="dk1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ru-RU" sz="4800" spc="-1" strike="noStrike">
                        <a:solidFill>
                          <a:schemeClr val="dk1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Таблица 4"/>
          <p:cNvGraphicFramePr/>
          <p:nvPr/>
        </p:nvGraphicFramePr>
        <p:xfrm>
          <a:off x="1043640" y="1196640"/>
          <a:ext cx="7272360" cy="3456000"/>
        </p:xfrm>
        <a:graphic>
          <a:graphicData uri="http://schemas.openxmlformats.org/drawingml/2006/table">
            <a:tbl>
              <a:tblPr/>
              <a:tblGrid>
                <a:gridCol w="2787120"/>
                <a:gridCol w="2061360"/>
                <a:gridCol w="2424240"/>
              </a:tblGrid>
              <a:tr h="163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(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м/ч)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(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)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км)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1825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4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6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4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,1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ru-RU" sz="4800" spc="-1" strike="noStrike">
                        <a:solidFill>
                          <a:schemeClr val="dk1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Таблица 4"/>
          <p:cNvGraphicFramePr/>
          <p:nvPr/>
        </p:nvGraphicFramePr>
        <p:xfrm>
          <a:off x="1043640" y="1196640"/>
          <a:ext cx="7272360" cy="3456000"/>
        </p:xfrm>
        <a:graphic>
          <a:graphicData uri="http://schemas.openxmlformats.org/drawingml/2006/table">
            <a:tbl>
              <a:tblPr/>
              <a:tblGrid>
                <a:gridCol w="2787120"/>
                <a:gridCol w="2061360"/>
                <a:gridCol w="2424240"/>
              </a:tblGrid>
              <a:tr h="163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(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м/ч)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(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)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км)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1825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4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6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4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,1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4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69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1"/>
          <p:cNvSpPr/>
          <p:nvPr/>
        </p:nvSpPr>
        <p:spPr>
          <a:xfrm>
            <a:off x="683640" y="1917000"/>
            <a:ext cx="7416360" cy="32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Что нового узнали сегодня на уро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Кто хорошо понял тему и может поделиться своими знания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Кому нужно ещё потренировать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- Какое у вас настроение сейча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"/>
          <p:cNvSpPr/>
          <p:nvPr/>
        </p:nvSpPr>
        <p:spPr>
          <a:xfrm>
            <a:off x="1835640" y="980640"/>
            <a:ext cx="53283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4400" spc="-1" strike="noStrike">
                <a:solidFill>
                  <a:srgbClr val="0070c0"/>
                </a:solidFill>
                <a:latin typeface="Calibri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1"/>
          <p:cNvSpPr/>
          <p:nvPr/>
        </p:nvSpPr>
        <p:spPr>
          <a:xfrm>
            <a:off x="1619640" y="1772640"/>
            <a:ext cx="5616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9fc0ff"/>
                </a:solidFill>
                <a:latin typeface="Calibri"/>
              </a:rPr>
              <a:t>Домашнее зад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9fc0ff"/>
                </a:solidFill>
                <a:latin typeface="Calibri"/>
              </a:rPr>
              <a:t>Задача от И.С. Тургене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2"/>
          <p:cNvSpPr/>
          <p:nvPr/>
        </p:nvSpPr>
        <p:spPr>
          <a:xfrm>
            <a:off x="5940000" y="980640"/>
            <a:ext cx="2160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6.0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1547640" y="2637000"/>
            <a:ext cx="63363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Классная работ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3640" y="170064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1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Умножение десятичной дроби 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на натуральное число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83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0070c0"/>
                </a:solidFill>
                <a:latin typeface="Calibri"/>
              </a:rPr>
              <a:t>Выполните умножение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Овал 3"/>
          <p:cNvSpPr/>
          <p:nvPr/>
        </p:nvSpPr>
        <p:spPr>
          <a:xfrm>
            <a:off x="1050480" y="1156680"/>
            <a:ext cx="1151640" cy="863640"/>
          </a:xfrm>
          <a:prstGeom prst="ellipse">
            <a:avLst/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chemeClr val="dk1"/>
                </a:solidFill>
                <a:latin typeface="Calibri"/>
              </a:rPr>
              <a:t>4,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Овал 4"/>
          <p:cNvSpPr/>
          <p:nvPr/>
        </p:nvSpPr>
        <p:spPr>
          <a:xfrm>
            <a:off x="2699640" y="2925000"/>
            <a:ext cx="1295640" cy="863640"/>
          </a:xfrm>
          <a:prstGeom prst="ellipse">
            <a:avLst/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chemeClr val="dk1"/>
                </a:solidFill>
                <a:latin typeface="Calibri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Овал 5"/>
          <p:cNvSpPr/>
          <p:nvPr/>
        </p:nvSpPr>
        <p:spPr>
          <a:xfrm>
            <a:off x="5076000" y="3645000"/>
            <a:ext cx="1295640" cy="863640"/>
          </a:xfrm>
          <a:prstGeom prst="ellipse">
            <a:avLst/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chemeClr val="dk1"/>
                </a:solidFill>
                <a:latin typeface="Calibri"/>
              </a:rPr>
              <a:t>1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Овал 6"/>
          <p:cNvSpPr/>
          <p:nvPr/>
        </p:nvSpPr>
        <p:spPr>
          <a:xfrm>
            <a:off x="467640" y="3789000"/>
            <a:ext cx="1367640" cy="1007640"/>
          </a:xfrm>
          <a:prstGeom prst="ellipse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chemeClr val="dk1"/>
                </a:solidFill>
                <a:latin typeface="Calibri"/>
              </a:rPr>
              <a:t>2,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Овал 7"/>
          <p:cNvSpPr/>
          <p:nvPr/>
        </p:nvSpPr>
        <p:spPr>
          <a:xfrm>
            <a:off x="2699640" y="5013000"/>
            <a:ext cx="1656000" cy="1007640"/>
          </a:xfrm>
          <a:prstGeom prst="ellipse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chemeClr val="dk1"/>
                </a:solidFill>
                <a:latin typeface="Calibri"/>
              </a:rPr>
              <a:t>13,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Овал 8"/>
          <p:cNvSpPr/>
          <p:nvPr/>
        </p:nvSpPr>
        <p:spPr>
          <a:xfrm>
            <a:off x="3636000" y="1124640"/>
            <a:ext cx="1367640" cy="863640"/>
          </a:xfrm>
          <a:prstGeom prst="ellipse">
            <a:avLst/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chemeClr val="dk1"/>
                </a:solidFill>
                <a:latin typeface="Calibri"/>
              </a:rPr>
              <a:t>8,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Овал 9"/>
          <p:cNvSpPr/>
          <p:nvPr/>
        </p:nvSpPr>
        <p:spPr>
          <a:xfrm>
            <a:off x="7164360" y="4653000"/>
            <a:ext cx="1439640" cy="863640"/>
          </a:xfrm>
          <a:prstGeom prst="ellipse">
            <a:avLst/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chemeClr val="dk1"/>
                </a:solidFill>
                <a:latin typeface="Calibri"/>
              </a:rPr>
              <a:t>26,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Овал 10"/>
          <p:cNvSpPr/>
          <p:nvPr/>
        </p:nvSpPr>
        <p:spPr>
          <a:xfrm>
            <a:off x="6372360" y="2277000"/>
            <a:ext cx="1151640" cy="863640"/>
          </a:xfrm>
          <a:prstGeom prst="ellipse">
            <a:avLst/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chemeClr val="dk1"/>
                </a:solidFill>
                <a:latin typeface="Calibri"/>
              </a:rPr>
              <a:t>8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Стрелка вправо 11"/>
          <p:cNvSpPr/>
          <p:nvPr/>
        </p:nvSpPr>
        <p:spPr>
          <a:xfrm rot="19843200">
            <a:off x="1732680" y="3503160"/>
            <a:ext cx="1061640" cy="64764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4442000"/>
          </a:gradFill>
          <a:ln>
            <a:solidFill>
              <a:srgbClr val="98b85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dk1"/>
                </a:solidFill>
                <a:latin typeface="Calibri"/>
              </a:rPr>
              <a:t>х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Стрелка влево 12"/>
          <p:cNvSpPr/>
          <p:nvPr/>
        </p:nvSpPr>
        <p:spPr>
          <a:xfrm rot="2703000">
            <a:off x="2022480" y="2127600"/>
            <a:ext cx="1272240" cy="64764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89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dk1"/>
                </a:solidFill>
                <a:latin typeface="Calibri"/>
              </a:rPr>
              <a:t>Х0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Стрелка вправо 13"/>
          <p:cNvSpPr/>
          <p:nvPr/>
        </p:nvSpPr>
        <p:spPr>
          <a:xfrm>
            <a:off x="2267640" y="1196640"/>
            <a:ext cx="1439640" cy="64764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>
            <a:solidFill>
              <a:srgbClr val="98b85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dk1"/>
                </a:solidFill>
                <a:latin typeface="Calibri"/>
              </a:rPr>
              <a:t>х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Стрелка вправо 14"/>
          <p:cNvSpPr/>
          <p:nvPr/>
        </p:nvSpPr>
        <p:spPr>
          <a:xfrm rot="1467000">
            <a:off x="4854240" y="1819440"/>
            <a:ext cx="1635120" cy="64764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7664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dk1"/>
                </a:solidFill>
                <a:latin typeface="Calibri"/>
              </a:rPr>
              <a:t>х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Стрелка влево 16"/>
          <p:cNvSpPr/>
          <p:nvPr/>
        </p:nvSpPr>
        <p:spPr>
          <a:xfrm rot="1375200">
            <a:off x="6165720" y="4272480"/>
            <a:ext cx="1136520" cy="64764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7574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dk1"/>
                </a:solidFill>
                <a:latin typeface="Calibri"/>
              </a:rPr>
              <a:t>х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Стрелка влево 17"/>
          <p:cNvSpPr/>
          <p:nvPr/>
        </p:nvSpPr>
        <p:spPr>
          <a:xfrm rot="19302600">
            <a:off x="3978360" y="4417920"/>
            <a:ext cx="1324800" cy="64764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3902000"/>
          </a:gradFill>
          <a:ln>
            <a:solidFill>
              <a:srgbClr val="98b85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dk1"/>
                </a:solidFill>
                <a:latin typeface="Calibri"/>
              </a:rPr>
              <a:t>Х</a:t>
            </a:r>
            <a:r>
              <a:rPr b="1" lang="ru-RU" sz="2800" spc="-1" strike="noStrike">
                <a:solidFill>
                  <a:schemeClr val="dk1"/>
                </a:solidFill>
                <a:latin typeface="Calibri"/>
              </a:rPr>
              <a:t> 0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Стрелка вправо 18"/>
          <p:cNvSpPr/>
          <p:nvPr/>
        </p:nvSpPr>
        <p:spPr>
          <a:xfrm rot="3661200">
            <a:off x="6797160" y="3510360"/>
            <a:ext cx="1635120" cy="78264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9860000"/>
          </a:gradFill>
          <a:ln>
            <a:solidFill>
              <a:srgbClr val="98b85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dk1"/>
                </a:solidFill>
                <a:latin typeface="Calibri"/>
              </a:rPr>
              <a:t>х0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1"/>
          <p:cNvSpPr/>
          <p:nvPr/>
        </p:nvSpPr>
        <p:spPr>
          <a:xfrm>
            <a:off x="1043640" y="764640"/>
            <a:ext cx="6336360" cy="49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,2                     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4,4                     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8,8                     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1                      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3,2                   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6,4                   Н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88                      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32                   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040" cy="99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Иван Сергеевич Тургенев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4" descr="C:\Documents and Settings\АННА\Мои документы\Мои рисунки\Новая папка (3)\Тургенев.jpg"/>
          <p:cNvPicPr/>
          <p:nvPr/>
        </p:nvPicPr>
        <p:blipFill>
          <a:blip r:embed="rId1"/>
          <a:stretch/>
        </p:blipFill>
        <p:spPr>
          <a:xfrm>
            <a:off x="467640" y="1340640"/>
            <a:ext cx="3464280" cy="4666320"/>
          </a:xfrm>
          <a:prstGeom prst="rect">
            <a:avLst/>
          </a:prstGeom>
          <a:ln w="0">
            <a:noFill/>
          </a:ln>
        </p:spPr>
      </p:pic>
      <p:sp>
        <p:nvSpPr>
          <p:cNvPr id="201" name="Прямоугольник 2"/>
          <p:cNvSpPr/>
          <p:nvPr/>
        </p:nvSpPr>
        <p:spPr>
          <a:xfrm>
            <a:off x="4062600" y="1600200"/>
            <a:ext cx="453600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ван Сергеевич Тургенев– русский поэт, прозаик, драматург. Родился Тургенев  в старинной дворянской семье.  Всё своё детство и первые годы юности он провёл в своей усадьбе (Спасское - Лутовиново). Спасское под Орлом - это живописный уголок России, в котором довелось родиться и расти Ивану Тургеневу. И хотя позднее ему довелось увидеть много живописных мест и на родине, и за границей, однако на всю жизнь он сохранил воспоминания о своём родном «гнезд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AutoShape 8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AutoShape 10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6" descr="http://900igr.net/datai/literatura/ZHizn-Turgeneva/0006-005-Spasskoe-Lutovinovo-i-ego-tenistye-lipovye-allei-ego-okrestnosti.jpg"/>
          <p:cNvPicPr/>
          <p:nvPr/>
        </p:nvPicPr>
        <p:blipFill>
          <a:blip r:embed="rId1"/>
          <a:stretch/>
        </p:blipFill>
        <p:spPr>
          <a:xfrm>
            <a:off x="460440" y="260640"/>
            <a:ext cx="8361000" cy="6234480"/>
          </a:xfrm>
          <a:prstGeom prst="rect">
            <a:avLst/>
          </a:prstGeom>
          <a:ln w="28575">
            <a:solidFill>
              <a:srgbClr val="ffc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7640" y="620640"/>
            <a:ext cx="74883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>
              <a:lnSpc>
                <a:spcPct val="100000"/>
              </a:lnSpc>
              <a:buNone/>
            </a:pP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Выполнив задание вы узнаете число, месяц     </a:t>
            </a:r>
            <a:br>
              <a:rPr sz="2800"/>
            </a:b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                   и дату рождения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Скругленный прямоугольник 3"/>
          <p:cNvSpPr/>
          <p:nvPr/>
        </p:nvSpPr>
        <p:spPr>
          <a:xfrm>
            <a:off x="827640" y="2133000"/>
            <a:ext cx="3312000" cy="2031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chemeClr val="dk1"/>
                </a:solidFill>
                <a:latin typeface="Calibri"/>
              </a:rPr>
              <a:t>(0,5+0,9) </a:t>
            </a: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•</a:t>
            </a:r>
            <a:r>
              <a:rPr b="1" lang="ru-RU" sz="3600" spc="-1" strike="noStrike">
                <a:solidFill>
                  <a:schemeClr val="dk1"/>
                </a:solidFill>
                <a:latin typeface="Calibri"/>
              </a:rPr>
              <a:t>20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с одним вырезанным скругленным углом 4"/>
          <p:cNvSpPr/>
          <p:nvPr/>
        </p:nvSpPr>
        <p:spPr>
          <a:xfrm>
            <a:off x="4284000" y="2421000"/>
            <a:ext cx="1872000" cy="1367640"/>
          </a:xfrm>
          <a:prstGeom prst="snipRoundRect">
            <a:avLst>
              <a:gd name="adj1" fmla="val 16667"/>
              <a:gd name="adj2" fmla="val 16667"/>
            </a:avLst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chemeClr val="dk1"/>
                </a:solidFill>
                <a:latin typeface="Calibri"/>
              </a:rPr>
              <a:t>2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C:\Users\m3rlin\Desktop\Документы школы\аннимации для презентаций\фото\смайлики\2783.gif"/>
          <p:cNvPicPr/>
          <p:nvPr/>
        </p:nvPicPr>
        <p:blipFill>
          <a:blip r:embed="rId1"/>
          <a:stretch/>
        </p:blipFill>
        <p:spPr>
          <a:xfrm>
            <a:off x="5873760" y="2925000"/>
            <a:ext cx="1018800" cy="1095120"/>
          </a:xfrm>
          <a:prstGeom prst="rect">
            <a:avLst/>
          </a:prstGeom>
          <a:ln w="0">
            <a:noFill/>
          </a:ln>
        </p:spPr>
      </p:pic>
      <p:sp>
        <p:nvSpPr>
          <p:cNvPr id="212" name="Скругленный прямоугольник 7"/>
          <p:cNvSpPr/>
          <p:nvPr/>
        </p:nvSpPr>
        <p:spPr>
          <a:xfrm>
            <a:off x="4228560" y="2133000"/>
            <a:ext cx="2664000" cy="2088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7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Скругленный прямоугольник 3"/>
          <p:cNvSpPr/>
          <p:nvPr/>
        </p:nvSpPr>
        <p:spPr>
          <a:xfrm>
            <a:off x="899640" y="2133000"/>
            <a:ext cx="3240000" cy="187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chemeClr val="dk1"/>
                </a:solidFill>
                <a:latin typeface="Calibri"/>
              </a:rPr>
              <a:t>(1,83 </a:t>
            </a:r>
            <a:r>
              <a:rPr b="1" lang="ru-RU" sz="2000" spc="-1" strike="noStrike">
                <a:solidFill>
                  <a:schemeClr val="dk1"/>
                </a:solidFill>
                <a:latin typeface="Calibri"/>
              </a:rPr>
              <a:t>• </a:t>
            </a:r>
            <a:r>
              <a:rPr b="1" lang="ru-RU" sz="3600" spc="-1" strike="noStrike">
                <a:solidFill>
                  <a:schemeClr val="dk1"/>
                </a:solidFill>
                <a:latin typeface="Calibri"/>
              </a:rPr>
              <a:t>4) + 2,6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с одним вырезанным скругленным углом 4"/>
          <p:cNvSpPr/>
          <p:nvPr/>
        </p:nvSpPr>
        <p:spPr>
          <a:xfrm>
            <a:off x="4284000" y="2421000"/>
            <a:ext cx="1872000" cy="1367640"/>
          </a:xfrm>
          <a:prstGeom prst="snipRoundRect">
            <a:avLst>
              <a:gd name="adj1" fmla="val 16667"/>
              <a:gd name="adj2" fmla="val 16667"/>
            </a:avLst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chemeClr val="dk1"/>
                </a:solidFill>
                <a:latin typeface="Calibri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C:\Users\m3rlin\Desktop\Документы школы\аннимации для презентаций\фото\смайлики\2783.gif"/>
          <p:cNvPicPr/>
          <p:nvPr/>
        </p:nvPicPr>
        <p:blipFill>
          <a:blip r:embed="rId1"/>
          <a:stretch/>
        </p:blipFill>
        <p:spPr>
          <a:xfrm>
            <a:off x="6012000" y="2606760"/>
            <a:ext cx="1018800" cy="1095120"/>
          </a:xfrm>
          <a:prstGeom prst="rect">
            <a:avLst/>
          </a:prstGeom>
          <a:ln w="0">
            <a:noFill/>
          </a:ln>
        </p:spPr>
      </p:pic>
      <p:sp>
        <p:nvSpPr>
          <p:cNvPr id="216" name="Скругленный прямоугольник 7"/>
          <p:cNvSpPr/>
          <p:nvPr/>
        </p:nvSpPr>
        <p:spPr>
          <a:xfrm>
            <a:off x="4284000" y="2213640"/>
            <a:ext cx="2810880" cy="188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5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  <Words>326</Words>
  <Paragraphs>9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12:39:22Z</dcterms:created>
  <dc:creator>m3rlin</dc:creator>
  <dc:description/>
  <dc:language>en-US</dc:language>
  <cp:lastModifiedBy>Family</cp:lastModifiedBy>
  <dcterms:modified xsi:type="dcterms:W3CDTF">2020-11-02T17:32:07Z</dcterms:modified>
  <cp:revision>46</cp:revision>
  <dc:subject/>
  <dc:title>Умножение десятичной дроби на натуральное числ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9</vt:r8>
  </property>
</Properties>
</file>