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5E7-B62A-4507-AB0F-27841E87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3E0-B09B-4557-B21E-F75AF7B2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42C-349E-414C-8C57-567C99FF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205-5B6B-45E3-96A3-4C26C988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9F4-7CC0-4C7C-AB3D-FFFF7D45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81A-7920-4FA6-8454-67474563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812-CC3C-48B6-9A54-302A0520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5CF-09B0-446A-9A42-A42D00F3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F4E-7281-492E-AF77-5CEAAD83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5FC-2105-4BBA-BFDB-2A98221A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0C8-CCA0-43BE-9E6C-253319D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567-A8A5-4B6B-A297-5E988E0F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21A9-1297-4D91-A2A7-A991BC605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24280" y="152280"/>
            <a:ext cx="2006640" cy="144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280" y="1371600"/>
            <a:ext cx="64771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жде чем приводить своего ребенка на секцию, не поленитесь –  нанесите визит на занятия к тренеру. Приходить лучше без ребенка. Посмотрите, как проводится тренировка: прежде всего обратите </a:t>
            </a:r>
            <a:r>
              <a:rPr b="0" i="1" lang="ru-RU" sz="1400" spc="-1" strike="noStrike">
                <a:solidFill>
                  <a:srgbClr val="ff3300"/>
                </a:solidFill>
                <a:latin typeface="Arial"/>
              </a:rPr>
              <a:t>внимание на настроение дете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нимаются ли ребята с удовольствием, или наоборот – напряженно. Должна ощущаться доброжелательная рабочая обстановка, в которой у детей, что называется, «горят глаза». </a:t>
            </a:r>
            <a:r>
              <a:rPr b="0" i="1" lang="ru-RU" sz="1400" spc="-1" strike="noStrike">
                <a:solidFill>
                  <a:srgbClr val="ff3300"/>
                </a:solidFill>
                <a:latin typeface="Arial"/>
              </a:rPr>
              <a:t>Бойтесь тренерского сюсюкания с воспитанниками, однако еще более опасайтесь хождения детей «по струнке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лжна быть дисциплина, а не «муштра». </a:t>
            </a:r>
            <a:r>
              <a:rPr b="0" i="1" lang="ru-RU" sz="1400" spc="-1" strike="noStrike">
                <a:solidFill>
                  <a:srgbClr val="ff3300"/>
                </a:solidFill>
                <a:latin typeface="Arial"/>
              </a:rPr>
              <a:t>Оцените ритм занят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 хорошего тренера они всегда проходят в резвом темпе, однако упражнения обязательно перемежаются расслабляющими играми или эмоциональными эстафетами. Разумеется, </a:t>
            </a:r>
            <a:r>
              <a:rPr b="0" i="1" lang="ru-RU" sz="1400" spc="-1" strike="noStrike">
                <a:solidFill>
                  <a:srgbClr val="ff3300"/>
                </a:solidFill>
                <a:latin typeface="Arial"/>
              </a:rPr>
              <a:t>не упустите из виду внешний вид трен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одтянутость и аккуратность в одежде – почти всегда гарантия серьезного и уважительного отношения к своей раб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42840" y="4419360"/>
            <a:ext cx="3962520" cy="25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говорите с родителями детей, которые занимаются у этого тренера давно. Не ограничивайте свой круг общения только мамами или только отцами.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Выслушайте мнения обоих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Уточняйте,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пунктуален ли он, часто ли шутит, умеет ли разумно сочетать политику «кнута и пряника», быстро ли запоминает имена новых воспитанник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все это идет в плюс претенденту. Поинтересуйтесь также послужным списком тренера, то есть результатами выступления его воспитанников в соревновани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00200" y="304920"/>
            <a:ext cx="33526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выбрать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80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орошего тренера</a:t>
            </a:r>
            <a:endParaRPr b="0" lang="en-US" sz="1800" spc="1" strike="noStrike">
              <a:ln w="22320">
                <a:solidFill>
                  <a:srgbClr val="000080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990720"/>
            <a:ext cx="3733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ходите на тренировку,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на разведку.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2120" y="4800600"/>
            <a:ext cx="2333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говорите с людьми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5334120"/>
            <a:ext cx="2514600" cy="19047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48" name=""/>
          <p:cNvSpPr txBox="1"/>
          <p:nvPr/>
        </p:nvSpPr>
        <p:spPr>
          <a:xfrm>
            <a:off x="380880" y="7467480"/>
            <a:ext cx="32004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говорите с самим тренером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00600" y="7543800"/>
            <a:ext cx="1676520" cy="1344600"/>
          </a:xfrm>
          <a:prstGeom prst="rect">
            <a:avLst/>
          </a:prstGeom>
          <a:ln w="41400">
            <a:solidFill>
              <a:srgbClr val="00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0" y="7696080"/>
            <a:ext cx="45720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отвечает с раздражением, подчеркнуто холодно или невежливо – скорее всего, в процессе занятий будут проблемы и у ребенка. Обстоятельно расспросите наставника об условиях приема в школу, режиме тренировок и критериях отбо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1828800"/>
            <a:ext cx="45720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шие расстояния утомительны. Первыми устают от дальних поездок на тренировку отнюдь не дети – взрослые. Именно со стороны взрослых провоцируются прогулы, а в дальнейшем – отказ от занятий. Поэтому помните на поездку в спортивную секцию нужно тратить не более 40-50 мин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396252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Учесть состояние здоров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я здорового ребенка открыты двери всех спортивных секций, чего не скажешь о детях со слабым здоровьем. Но в этом случае необходимо искать вид спорта, подходящий конкретному ребен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Учесть его индивидуальные особенности  физического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Учесть характер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635520"/>
            <a:ext cx="4191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ходить на тренировку, понаблюдать со сторо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говорить с родителями детей, посещающих сек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говорить с самим трене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228600"/>
            <a:ext cx="5256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oadway BT"/>
              </a:rPr>
              <a:t>Как выбрать для ребенка </a:t>
            </a:r>
            <a:endParaRPr b="1" lang="en-US" sz="1800" spc="1" strike="noStrike">
              <a:ln w="1584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oadway BT"/>
              <a:ea typeface="Broadway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oadway BT"/>
              </a:rPr>
              <a:t>спортивную секцию?</a:t>
            </a:r>
            <a:endParaRPr b="1" lang="en-US" sz="1800" spc="1" strike="noStrike">
              <a:ln w="1584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oadway BT"/>
              <a:ea typeface="Broadway B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371600"/>
            <a:ext cx="381024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вет первый: секция рядом с домом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828800"/>
            <a:ext cx="42670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962520"/>
            <a:ext cx="4419720" cy="2133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09680" y="3505320"/>
            <a:ext cx="434340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вет второй: учесть индивидуальные особенности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629400"/>
            <a:ext cx="373392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6095880"/>
            <a:ext cx="419112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вет третий: выбирайте хорошого тренер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8153280"/>
            <a:ext cx="594360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бирайте хорошо всем известную школу, 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никому не известные секции!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2160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4313160"/>
            <a:ext cx="1609560" cy="1109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 rot="20515200">
            <a:off x="5105520" y="2249280"/>
            <a:ext cx="1382760" cy="788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48320" y="6572160"/>
            <a:ext cx="16002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09-12-26T11:38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