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820-FDFF-4B0A-95B4-0995D276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CF0-4219-4F10-B18C-CFA20246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630-6AFA-40E1-AA1B-DE46CEF4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F88-324B-47F9-A680-BFBB1B52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C4C-5BAE-4D2E-A9A0-93466188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A7B-CCD2-49F6-B038-29B1601E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7A0-E71C-42B6-880F-C9E230EC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004-81D0-4E83-97E0-FE3211AD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262-2C5E-4526-B1B7-6BCE0CE7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9E5-223F-4F85-8D21-CFDE1B82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B40-3437-46EF-AA85-FECB1C9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372-8467-498C-991D-B48E3667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FF8D-B402-4E56-930F-D23E8B7AC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24280" y="152280"/>
            <a:ext cx="2006640" cy="144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1371600"/>
            <a:ext cx="64771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жде чем приводить своего ребенка на секцию, не поленитесь –  нанесите визит на занятия к тренеру. Приходить лучше без ребенка. Посмотрите, как проводится тренировка: прежде всего обратите </a:t>
            </a: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внимание на настроение дете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нимаются ли ребята с удовольствием, или наоборот – напряженно. Должна ощущаться доброжелательная рабочая обстановка, в которой у детей, что называется, «горят глаза». </a:t>
            </a: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Бойтесь тренерского сюсюкания с воспитанниками, однако еще более опасайтесь хождения детей «по струнке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лжна быть дисциплина, а не «муштра». </a:t>
            </a: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Оцените ритм занят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 хорошего тренера они всегда проходят в резвом темпе, однако упражнения обязательно перемежаются расслабляющими играми или эмоциональными эстафетами. Разумеется, </a:t>
            </a: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не упустите из виду внешний вид трен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одтянутость и аккуратность в одежде – почти всегда гарантия серьезного и уважительного отношения к свое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2840" y="4419360"/>
            <a:ext cx="3962520" cy="25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говорите с родителями детей, которые занимаются у этого тренера давно. Не ограничивайте свой круг общения только мамами или только отцами.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Выслушайте мнения обоих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Уточняйте,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пунктуален ли он, часто ли шутит, умеет ли разумно сочетать политику «кнута и пряника», быстро ли запоминает имена новых воспитанник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все это идет в плюс претенденту. Поинтересуйтесь также послужным списком тренера, то есть результатами выступления его воспитанников в соревновани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00200" y="304920"/>
            <a:ext cx="335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выбрать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орошего тренера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990720"/>
            <a:ext cx="3733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ходите на тренировку,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на разведку.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4800600"/>
            <a:ext cx="2333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говорите с людьми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5334120"/>
            <a:ext cx="2514600" cy="1904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48" name=""/>
          <p:cNvSpPr txBox="1"/>
          <p:nvPr/>
        </p:nvSpPr>
        <p:spPr>
          <a:xfrm>
            <a:off x="380880" y="7467480"/>
            <a:ext cx="32004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говорите с самим тренером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00600" y="7543800"/>
            <a:ext cx="1676520" cy="1344600"/>
          </a:xfrm>
          <a:prstGeom prst="rect">
            <a:avLst/>
          </a:prstGeom>
          <a:ln w="4140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7696080"/>
            <a:ext cx="45720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отвечает с раздражением, подчеркнуто холодно или невежливо – скорее всего, в процессе занятий будут проблемы и у ребенка. Обстоятельно расспросите наставника об условиях приема в школу, режиме тренировок и критериях отбо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1828800"/>
            <a:ext cx="45720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шие расстояния утомительны. Первыми устают от дальних поездок на тренировку отнюдь не дети – взрослые. Именно со стороны взрослых провоцируются прогулы, а в дальнейшем – отказ от занятий. Поэтому помните на поездку в спортивную секцию нужно тратить не более 40-50 мин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396252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Учесть состояние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я здорового ребенка открыты двери всех спортивных секций, чего не скажешь о детях со слабым здоровьем. Но в этом случае необходимо искать вид спорта, подходящий конкретному ребен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Учесть его индивидуальные особенности  физического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Учесть характер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635520"/>
            <a:ext cx="4191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ходить на тренировку, понаблюдать со стор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говорить с родителями детей, посещающих сек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говорить с самим трене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228600"/>
            <a:ext cx="525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oadway BT"/>
              </a:rPr>
              <a:t>Как выбрать для ребенка </a:t>
            </a:r>
            <a:endParaRPr b="1" lang="en-US" sz="1800" spc="1" strike="noStrike">
              <a:ln w="1584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oadway BT"/>
              <a:ea typeface="Broadway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oadway BT"/>
              </a:rPr>
              <a:t>спортивную секцию?</a:t>
            </a:r>
            <a:endParaRPr b="1" lang="en-US" sz="1800" spc="1" strike="noStrike">
              <a:ln w="1584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oadway BT"/>
              <a:ea typeface="Broadway B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371600"/>
            <a:ext cx="38102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вет первый: секция рядом с домом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828800"/>
            <a:ext cx="42670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962520"/>
            <a:ext cx="4419720" cy="2133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09680" y="3505320"/>
            <a:ext cx="434340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вет второй: учесть индивидуальные особенности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629400"/>
            <a:ext cx="373392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6095880"/>
            <a:ext cx="419112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вет третий: выбирайте хорошого трене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8153280"/>
            <a:ext cx="594360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бирайте хорошо всем известную школу, 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никому не известные секции!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2160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4313160"/>
            <a:ext cx="1609560" cy="1109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rot="20515200">
            <a:off x="5105520" y="2249280"/>
            <a:ext cx="1382760" cy="788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8320" y="6572160"/>
            <a:ext cx="1600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09-12-26T11:38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