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59E-1F68-4686-A158-A2B5EAAC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A7C-47A2-4004-80BD-635618A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1A1-505F-4C4D-A54C-75C1FAB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FF3-2504-4E8F-9D57-7DD883D2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D33-FD83-4DEA-904C-D2E748DD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B2E-A327-4E9F-845D-66F8385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4C8-27AC-44C1-A54E-B71DB8C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C6D-C599-460B-9124-6328A7BC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DB4-9BBC-4C7F-B11D-33226A0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E98-B87A-4D11-842D-8FB3D44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8EC-16B6-4D34-8F0E-4A415EC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489-556A-4408-9405-DB096E0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8C8-2F75-43E2-ABAF-6F7ACC688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User\Desktop\картинки\0_122904_b675b064_L.png"/>
          <p:cNvPicPr/>
          <p:nvPr/>
        </p:nvPicPr>
        <p:blipFill>
          <a:blip r:embed="rId2"/>
          <a:stretch/>
        </p:blipFill>
        <p:spPr>
          <a:xfrm>
            <a:off x="0" y="0"/>
            <a:ext cx="7093080" cy="5275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Comic Sans MS"/>
              </a:rPr>
              <a:t>Дети и родители играют вместе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картинки\0_7d983_8ff05cca_orig.png"/>
          <p:cNvPicPr/>
          <p:nvPr/>
        </p:nvPicPr>
        <p:blipFill>
          <a:blip r:embed="rId3"/>
          <a:stretch/>
        </p:blipFill>
        <p:spPr>
          <a:xfrm>
            <a:off x="6443640" y="4724280"/>
            <a:ext cx="1657440" cy="163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User\Desktop\картинки\0_7d983_8ff05cca_orig.png"/>
          <p:cNvPicPr/>
          <p:nvPr/>
        </p:nvPicPr>
        <p:blipFill>
          <a:blip r:embed="rId4"/>
          <a:stretch/>
        </p:blipFill>
        <p:spPr>
          <a:xfrm>
            <a:off x="7667640" y="5445000"/>
            <a:ext cx="115560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324000" y="189000"/>
            <a:ext cx="806436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е родители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ть не хотите ли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ый рассказ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как много игр у нас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и с работы и забот – 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домашних полон рот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стрюлях пусто, значит ужин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ам приготовить нужно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рапузы под ногами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ют, мешая папе, маме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как же всю семью занять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осто надо поиграть!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месте веселиться,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само собой решится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ут Т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f3ptty4lah.png"/>
          <p:cNvPicPr/>
          <p:nvPr/>
        </p:nvPicPr>
        <p:blipFill>
          <a:blip r:embed="rId2"/>
          <a:stretch/>
        </p:blipFill>
        <p:spPr>
          <a:xfrm>
            <a:off x="4030560" y="4494240"/>
            <a:ext cx="5113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179280" y="26028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о родители слышат от своих детей знакомую просьбу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а, папа, поиграйте со мной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колько радости получают малыши, когда взрослые, преодолевая усталость, занятость, отложив в сторону домашние дела, соглашаются поигр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гра для ребенка – это не только удовольствие и радость, что само по себе очень важно: игра оказывает на малыша всестороннее действ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у ребенка развивают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способности, умение устанавливать с партнерами (сверстниками или взрослыми) определенные взаимоотнош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ах воспитывается сознате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, дети приучаются к соблюдению правил, справедливости, умению контролировать свои поступки, объективно оценивать поступки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огромного разнообразия игр особое место занимают    подвижные игры. Подвижные игры – лучшее лекарство для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«двигательного голода» - гиподина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340000" y="1197000"/>
            <a:ext cx="5761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му вниманию предлагаются подвижные игры, в которые можно играть с детьми от трех до семи лет в домашних условиях, в небольшом поме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Users\User\Desktop\картинки\0_122905_f8d2b3ab_orig.png"/>
          <p:cNvPicPr/>
          <p:nvPr/>
        </p:nvPicPr>
        <p:blipFill>
          <a:blip r:embed="rId2"/>
          <a:stretch/>
        </p:blipFill>
        <p:spPr>
          <a:xfrm>
            <a:off x="-684360" y="0"/>
            <a:ext cx="324036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50920" y="0"/>
            <a:ext cx="7850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Четыре стих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ковый или резиновый мяч диаметром 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(папа и ребенок, старший брат и ребенок и т.д.) становятся на расстоянии 1,5-2 м друг от друга. В руках у мамы мяч. Она объясняет ребенку, что четыре стихии – это земля, вода, воздух и огонь, на земле живут звери, в воде – рыбы, в воздухе –птицы, в огне не живет ник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бросает ребенку мяч и произносит, например, слово «земля». Ребенок сразу же кидает мяч обратно маме и называет какого-либо зверя, например зайца. Если мама скажет «огонь!» и бросит ребенку мяч, то ловить его нельзя, от мяча нужно уверну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Мама кидает ребенку мяч несколько раз подряд (3-5), постепенно ускоряя тем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ли ребенок даст неправильный ответ или затруднится с ответом, то о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ам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ются ролями ( и наоборо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 мере овладения правилами игры первый водящ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тся по счита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5508720" y="4078440"/>
            <a:ext cx="36352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50920" y="0"/>
            <a:ext cx="78501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авернись в лент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длиной 4-6 мет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прикрепляют концы ленты к своему поясу и расходятся на всю ее длину к краям комнаты. Мама команду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мы с тобой круж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месте веселитьс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мы играть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ки начинают кружиться, стараясь как можно быстрее обвить ленту вокруг себ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дает игрок , намотавший на себя больше лент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перн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3995640" y="4149720"/>
            <a:ext cx="188460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User\Desktop\картинки\e4a5ea0df42a.png"/>
          <p:cNvPicPr/>
          <p:nvPr/>
        </p:nvPicPr>
        <p:blipFill>
          <a:blip r:embed="rId3"/>
          <a:stretch/>
        </p:blipFill>
        <p:spPr>
          <a:xfrm>
            <a:off x="5940360" y="4365720"/>
            <a:ext cx="208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250920" y="0"/>
            <a:ext cx="78501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рыгает – не прыга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(10х10 см) с изображением зверей, птиц и предм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ребенок становятся друг против друга на небольшом расстоянии. Мама называет зверей, птиц и предметы, которые «прыгают или не прыгают». Если она называет то, что прыгает (например, лягушка), ребенок должен подпрыгнуть вверх на двух ногах; если назовет то, что не прыгает, ребенок должен присесть. Опустить руки вниз, касаясь пола кончиками пальцев. Объяснив ребенку правила игры, мама начинает произносить названия зверей, птиц и предметов, одновременно с этим показывая картин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ей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одпрыгив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исед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Users\User\Desktop\картинки\e4a5ea0df42a.png"/>
          <p:cNvPicPr/>
          <p:nvPr/>
        </p:nvPicPr>
        <p:blipFill>
          <a:blip r:embed="rId2"/>
          <a:stretch/>
        </p:blipFill>
        <p:spPr>
          <a:xfrm>
            <a:off x="4500720" y="3500280"/>
            <a:ext cx="3865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Users\User\Desktop\картинки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1886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м занимайтесь, почаще улыбайте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– это свято, семья – это счасть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ружба и здоровье в сем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могут позавидовать вс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ditki.com.ua/wp-content/uploads/2014/09/3a.png"/>
          <p:cNvPicPr/>
          <p:nvPr/>
        </p:nvPicPr>
        <p:blipFill>
          <a:blip r:embed="rId2"/>
          <a:stretch/>
        </p:blipFill>
        <p:spPr>
          <a:xfrm>
            <a:off x="5508720" y="3357720"/>
            <a:ext cx="3936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8:14:36Z</dcterms:created>
  <dc:creator>User</dc:creator>
  <dc:description/>
  <dc:language>en-US</dc:language>
  <cp:lastModifiedBy>User</cp:lastModifiedBy>
  <dcterms:modified xsi:type="dcterms:W3CDTF">2020-12-06T09:39:07Z</dcterms:modified>
  <cp:revision>69</cp:revision>
  <dc:subject/>
  <dc:title>Слайд 1</dc:title>
</cp:coreProperties>
</file>