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6C2-8B70-45D6-A96E-8C96505C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E53-622E-4307-A520-1F0CDC72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2CB-F884-4F87-92C4-036100DC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0DC-14BB-41ED-BEA2-A8311C7E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E27-3F8F-43E2-8A11-7AD591A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6C4-3458-4B31-8BED-52DDF0DC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292-F092-401F-BBCC-D54C0D3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FDC-AE61-4DC7-B0A7-58F74672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61-4521-4674-9B3C-11D0174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B8B-F7E8-4B8C-81F5-36AF3D6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B9F-EAF5-4C24-808A-FE0F130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DFF-E4DD-4A84-AA8E-FFCCD8B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F7F5-B34A-4E42-BBCE-1E7DBF52B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500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Bookman Old Style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250920" y="255600"/>
            <a:ext cx="8713800" cy="640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316160" y="2133720"/>
            <a:ext cx="696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ЛЬ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«ЛЕТНИЕ ВИДЫ СПОР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641040" y="620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359520" y="4941720"/>
            <a:ext cx="22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ова М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76"/>
            </a:gs>
            <a:gs pos="5000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147760" y="115920"/>
            <a:ext cx="484848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147760" y="549360"/>
            <a:ext cx="48484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147760" y="333360"/>
            <a:ext cx="48484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76869"/>
            </a:gs>
            <a:gs pos="5000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147760" y="189000"/>
            <a:ext cx="48484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147760" y="260280"/>
            <a:ext cx="484848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01:20Z</dcterms:created>
  <dc:creator>Марина А.</dc:creator>
  <dc:description/>
  <dc:language>en-US</dc:language>
  <cp:lastModifiedBy>1</cp:lastModifiedBy>
  <dcterms:modified xsi:type="dcterms:W3CDTF">2020-12-06T19:14:55Z</dcterms:modified>
  <cp:revision>18</cp:revision>
  <dc:subject/>
  <dc:title>ДЕНЬ ПОБЕДЫ</dc:title>
</cp:coreProperties>
</file>