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E98-8C1B-4762-87C8-0679D641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BC2-89D4-4F45-AC59-DDD6D229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870-8451-4E51-B035-40501A58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8B7-22D4-4C0B-8994-BCBACF96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E7FE-DA61-435D-A567-36DB6E60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0D89-2731-4CF4-91EF-E45515A0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EEEB-E9BF-4AD9-960A-9D419126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766B-5E7A-49CD-9DB0-D60176CD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5E72-D919-4C8A-9664-59FD9226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04E3-6DB3-4D01-A7D1-A812CE2A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153A-9C38-472C-8D56-08DABC9D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1A4-D2FF-465E-84F0-90821A80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F77B-AA0D-4155-86CA-248F1A5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5B98-ADE7-45BC-A521-B53AB476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98DA-4C1A-4179-A764-BC2F8999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8F15-39F6-4B85-9F7B-31D23354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373C-048E-4F9C-9937-66F25A80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613A-6209-4E39-9D01-BCE2B8AF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4E404-9AE0-4499-B40B-7D979B1B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B68DD-75AA-4C48-82E9-DA2A53AD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C91C-0BCC-47BE-B156-03A5C42D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0D61-DCFD-4B8E-913D-F556AA3F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E71-7DB8-4FDD-AB2C-FD5A3764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AE62-435C-40FA-827F-4E03AF4E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D66A-DED1-4845-B460-B5377114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E2187-3A4A-433A-8BCD-BCBBADBB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2D983-9F14-4F95-82AD-B705E4F4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C80D-7B2A-4302-A0DB-7945E18F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FD50-7912-4718-A0D1-386FD2E6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A4AB-A65C-4F17-832B-A9D2CE39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9AD72-F7E7-4080-985B-D804670C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AD27-D61F-43AA-887F-03C868F3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806EB-DB4C-4795-BB8B-B1308DBB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CCC-EE7F-4BDE-AB1E-A63B07E2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9542-37CE-4A8D-B32C-F37749C3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BFCF4-3B4C-4EC9-A790-F5F61F0A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5C69F-802F-4E58-87FE-F4208598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23E0-CA26-476B-B797-AB68C41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204D-51FF-4EC1-8A3A-7E79FFAD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5F89-9D0A-497E-9C47-D0139C9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6320-9505-4D6B-87B8-ED5793EF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2B534-5D4F-493A-BADE-46E11407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4E03E-8AA7-4AE7-BCF6-12D58216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34D9A-D9C5-4716-B72B-1D0D1963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F71-E5B2-4C72-9A6F-4055B48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BBFC3-293A-4BB9-9AE3-6669E0B2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17C64-5CB3-4B61-B4F7-8F4AD3BB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FDC20-9AA3-4BA6-B921-00619E45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FCBAF-39A2-415D-B66C-5F499DA8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CB2A5-37AA-4D9A-944E-3C21BEEB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CCF5D-B994-4C7C-BE69-4950CCAC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B9A42-8DE0-4973-88A2-9AFC7775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F7212-3C84-40A6-BD8E-2AFCC8C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024CE-7756-47AF-97A6-9A1212DD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6933-3180-4385-807E-F8939D32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F52-E199-4A24-BECC-710417C8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59A05-B732-444B-B4FD-9B759D11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45A50-2955-4C24-B1CE-5B282832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32018-780E-45B8-9DAF-BDF8B28B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3F9DA-546D-40B0-82FC-2B438BFC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97EA6-59F3-4239-96A9-FF35DDBA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E84A3-BBFC-46DF-B2B1-E6532AD9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2E9A5-FB05-44D4-92A6-97B7D2DA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D2385-0D00-4615-9C08-4D92F70C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F1017-FF48-4ED4-B4E8-B92A29C7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A4376-2E2A-4114-94D6-64877E5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BDE-08C7-48E3-956D-4F0C25A3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3EC7B-46B7-40FE-A725-0EDDF568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A364F-40E3-4E7E-9AE9-78AD8132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D539E-8EF2-41E0-BEF2-813248C1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DF3-665C-40A4-949C-C88D2AA1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F9D-2199-4591-9FB4-7220BBF0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FCDC-9D90-4DAA-9AC6-EC0D4183052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A72-894C-47C3-AABF-235D800C35B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A3E7-E1A2-4C6D-BB7E-BFC61FC3E50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149A-14E1-4D07-8593-956A91643F9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DC2D-BAE7-4FED-B281-2D419B0DD53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2356-DD5B-4309-A66E-9BB197E989C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10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1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7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4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slide.ru/documents_3/bc4fe5003d64db82d3521da33243b1c2/img9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182600" y="231840"/>
            <a:ext cx="6639120" cy="2004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55640" y="2637000"/>
            <a:ext cx="7415280" cy="3463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ечная 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тро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термальная 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ная 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дроэнерге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s://myslide.ru/documents_3/bc4fe5003d64db82d3521da33243b1c2/img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s://myslide.ru/documents_3/bc4fe5003d64db82d3521da33243b1c2/img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s://myslide.ru/documents_3/bc4fe5003d64db82d3521da33243b1c2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https://myslide.ru/documents_3/bc4fe5003d64db82d3521da33243b1c2/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s://myslide.ru/documents_3/bc4fe5003d64db82d3521da33243b1c2/img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s://myslide.ru/documents_3/bc4fe5003d64db82d3521da33243b1c2/img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333684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https://myslide.ru/documents_3/bc4fe5003d64db82d3521da33243b1c2/im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7" descr=""/>
          <p:cNvPicPr/>
          <p:nvPr/>
        </p:nvPicPr>
        <p:blipFill>
          <a:blip r:embed="rId1"/>
          <a:stretch/>
        </p:blipFill>
        <p:spPr>
          <a:xfrm>
            <a:off x="1298520" y="-19080"/>
            <a:ext cx="6954840" cy="2043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26560" y="2852640"/>
            <a:ext cx="831708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6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троэнергетика Ветроэнергетика — отрасль энергетики, специализирующаяся на преобразовании кинетической энергии воздушных масс в атмосфере в электрическую, механическую, тепловую или в любую другую форму энергии, удобную для использования в народном хозяйстве. Такое преобразование может осуществляться такими агрегатами, как ветрогенератор (для получения электрической энергии), ветряная мельница (для преобразования в механическую энергию), парус (для использования в транспорте) и други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https://go1.imgsmail.ru/imgpreview?key=6354c59001459e06&amp;mb=imgdb_preview_479"/>
          <p:cNvPicPr/>
          <p:nvPr/>
        </p:nvPicPr>
        <p:blipFill>
          <a:blip r:embed="rId2"/>
          <a:stretch/>
        </p:blipFill>
        <p:spPr>
          <a:xfrm>
            <a:off x="684360" y="4076640"/>
            <a:ext cx="4032000" cy="2529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http://s3.hostingkartinok.com/uploads/images/2013/10/1d089d7b7d1a465dd8c1ac4d9a6f2994.jpg"/>
          <p:cNvPicPr/>
          <p:nvPr/>
        </p:nvPicPr>
        <p:blipFill>
          <a:blip r:embed="rId3"/>
          <a:stretch/>
        </p:blipFill>
        <p:spPr>
          <a:xfrm>
            <a:off x="5003640" y="4076640"/>
            <a:ext cx="3924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3"/>
          <p:cNvSpPr/>
          <p:nvPr/>
        </p:nvSpPr>
        <p:spPr>
          <a:xfrm>
            <a:off x="2286000" y="13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2" descr="https://myslide.ru/documents_3/bc4fe5003d64db82d3521da33243b1c2/img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s://myslide.ru/documents_3/bc4fe5003d64db82d3521da33243b1c2/img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s://myslide.ru/documents_3/bc4fe5003d64db82d3521da33243b1c2/img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s://myslide.ru/documents_3/bc4fe5003d64db82d3521da33243b1c2/img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s://myslide.ru/documents_3/bc4fe5003d64db82d3521da33243b1c2/im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https://myslide.ru/documents_3/bc4fe5003d64db82d3521da33243b1c2/img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3T16:28:36Z</dcterms:created>
  <dc:creator>Ф-Центр</dc:creator>
  <dc:description/>
  <dc:language>en-US</dc:language>
  <cp:lastModifiedBy>Ф-Центр</cp:lastModifiedBy>
  <dcterms:modified xsi:type="dcterms:W3CDTF">2018-11-13T16:58:44Z</dcterms:modified>
  <cp:revision>3</cp:revision>
  <dc:subject/>
  <dc:title>Слайд 1</dc:title>
</cp:coreProperties>
</file>