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106-202D-4495-AEC9-0C74ECC5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BBE-35C7-499B-8BDE-8FE70DC6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3AC4-A0A3-4255-BA39-94FBEF83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74B-7952-4D03-A0DB-7289ECDA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ACDB-21A1-4746-A8E3-8E08A337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6C6D-6E78-4960-AF7D-E60FF506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2107-22CA-4FA9-9A3F-37484CBA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5632-3629-4AC4-AE5C-EF977367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E50F-1F0C-44A1-A67E-3DBB0CF6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4164-CBCB-4B8F-9A19-0F28DF3E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DAE4-B8BF-4AC7-AADB-5E1538AD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797-A1F8-41C6-A34F-6A4BE601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D744-86A6-458C-A2C3-D90C1638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A21F-6F44-4275-B3D3-EF016B28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19C0-7F9C-423E-AA2F-92B3085E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FB07-A6C4-48B0-AC39-EB71E57A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A3DA-A23A-4759-825F-B9F5AAF2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968C-E6E3-4898-AC7E-ED115199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96605-67CB-432D-845E-8604A2AB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695B7-0710-4CAA-AF6F-E6B21277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6499B-B1D1-43D1-A107-4AF8626D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66FB-7FD1-4755-94A2-BC2C4E2A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1DD-8113-4D2B-A355-EA057740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053F6-5A3E-4ED4-8275-070E32BA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5E7F-5316-48AA-8703-3E95C520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4FBFE-EC77-425F-A156-1AB33C04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4F276-88A5-41FF-85B8-E2E3E122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F7675-333C-4660-9497-B0A24E36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90D75-4A77-4FD1-8C0F-65333C50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B741F-8F59-421F-A16B-8ED099AB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13AD2-1530-46E4-AA45-32EFF06C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A426A-F0BF-4C72-BAAA-1BF0789B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23DF0-5D08-49A6-890B-23E67E29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443-8D26-4974-9130-03DDE62B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6B32-D4B0-4383-ABA3-D1DC413F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C3D7B-9E35-4D1B-BFC0-07AA27A4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E110A-9338-479C-9B0F-63FBA3BA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9DE31-B498-42CD-A24D-8F650AF6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3F490-04CE-4BDB-A12A-706C01F4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4419E-418B-424A-B97E-6DAFD169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3679A-F0B4-4181-97DE-37A76461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32997-38F8-475D-A8DB-85C30A2E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1140E-E737-46D1-BEAC-A6827823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6CD77-03D9-4595-B3B5-9B87ADFF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D6A-FC68-4F54-9488-C5AF5553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1A44E-3847-484A-BB24-65D5013C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28F80-27BB-4425-837E-C0017F40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C74F6-C183-4A03-B1E7-B6D46221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DD945-8F55-4D00-BA4F-E86DF002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0B96E-37E3-4F2B-B95B-27ADD54B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5EAC3-9F72-42EF-9C74-CF211C48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FC833-AAD8-4384-AFBA-476F9ABD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BBCF4-2AD8-4AE6-8A00-FA6F74D4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6C781-CFC4-4CA9-AFAC-A498E435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904C8-4F01-4C22-8420-971434BA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C0F-64F7-4BF1-ADE8-F2322676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7189B-AE6B-4CA8-9DA6-420C1F15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30E6A-A939-43F6-A53F-ED8149A2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6A3C7-35EA-4415-88D5-36A204CF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00899-A5C4-4978-9DDA-7A3DD1E7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C0159-2A14-4AF2-80D5-4A863CFC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D11B3-5A73-43CE-BE9B-CA87D7C8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AFC65-EA26-482E-A09D-2E34D542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4ABB2-AAB3-46A7-8CFF-480C1DD6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5FC3B-A90C-4E18-A266-64E1E30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43B63-B6A2-4574-B881-B0813D8B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7F1-C02B-4C61-BEF4-EAF708B9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ED5FE-EF6B-4B14-84A8-89C51FD9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15B46-6EA0-4D80-91BC-4D09BCB4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6C319-7DE9-4007-9403-0E2906C1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96E-2074-4B7B-83E1-81A53B85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8AA-6019-40DA-AB2A-D04B14A2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1384-5EDA-4AF4-8302-C97EAA2BEB3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0D14-53DD-436D-8B5A-3A3A140D4F5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EAE0-9339-4DC2-9A21-3686F8EDB6D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69F6-9099-4CE8-B255-A3FC0269882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96FF-1621-4091-AF64-71CECBADEEF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2BF7-A014-4FA0-9394-DD42286FD7A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10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11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6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7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3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4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9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182600" y="231840"/>
            <a:ext cx="6639120" cy="2004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755640" y="2637000"/>
            <a:ext cx="7415280" cy="3463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нечная энерге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троэнерге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оэнерге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отермальная энерге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ная энерге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дроэнерге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https://myslide.ru/documents_3/bc4fe5003d64db82d3521da33243b1c2/img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s://myslide.ru/documents_3/bc4fe5003d64db82d3521da33243b1c2/img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https://myslide.ru/documents_3/bc4fe5003d64db82d3521da33243b1c2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https://myslide.ru/documents_3/bc4fe5003d64db82d3521da33243b1c2/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s://myslide.ru/documents_3/bc4fe5003d64db82d3521da33243b1c2/img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s://myslide.ru/documents_3/bc4fe5003d64db82d3521da33243b1c2/img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3336840"/>
            <a:ext cx="6480000" cy="230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https://myslide.ru/documents_3/bc4fe5003d64db82d3521da33243b1c2/img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7" descr=""/>
          <p:cNvPicPr/>
          <p:nvPr/>
        </p:nvPicPr>
        <p:blipFill>
          <a:blip r:embed="rId1"/>
          <a:stretch/>
        </p:blipFill>
        <p:spPr>
          <a:xfrm>
            <a:off x="1298520" y="-19080"/>
            <a:ext cx="6954840" cy="2043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826560" y="2852640"/>
            <a:ext cx="8317080" cy="10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6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троэнергетика Ветроэнергетика — отрасль энергетики, специализирующаяся на преобразовании кинетической энергии воздушных масс в атмосфере в электрическую, механическую, тепловую или в любую другую форму энергии, удобную для использования в народном хозяйстве. Такое преобразование может осуществляться такими агрегатами, как ветрогенератор (для получения электрической энергии), ветряная мельница (для преобразования в механическую энергию), парус (для использования в транспорте) и други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" descr="https://go1.imgsmail.ru/imgpreview?key=6354c59001459e06&amp;mb=imgdb_preview_479"/>
          <p:cNvPicPr/>
          <p:nvPr/>
        </p:nvPicPr>
        <p:blipFill>
          <a:blip r:embed="rId2"/>
          <a:stretch/>
        </p:blipFill>
        <p:spPr>
          <a:xfrm>
            <a:off x="684360" y="4076640"/>
            <a:ext cx="4032000" cy="2529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http://s3.hostingkartinok.com/uploads/images/2013/10/1d089d7b7d1a465dd8c1ac4d9a6f2994.jpg"/>
          <p:cNvPicPr/>
          <p:nvPr/>
        </p:nvPicPr>
        <p:blipFill>
          <a:blip r:embed="rId3"/>
          <a:stretch/>
        </p:blipFill>
        <p:spPr>
          <a:xfrm>
            <a:off x="5003640" y="4076640"/>
            <a:ext cx="3924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3"/>
          <p:cNvSpPr/>
          <p:nvPr/>
        </p:nvSpPr>
        <p:spPr>
          <a:xfrm>
            <a:off x="2286000" y="13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2" descr="https://myslide.ru/documents_3/bc4fe5003d64db82d3521da33243b1c2/img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s://myslide.ru/documents_3/bc4fe5003d64db82d3521da33243b1c2/img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https://myslide.ru/documents_3/bc4fe5003d64db82d3521da33243b1c2/img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ttps://myslide.ru/documents_3/bc4fe5003d64db82d3521da33243b1c2/img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s://myslide.ru/documents_3/bc4fe5003d64db82d3521da33243b1c2/img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https://myslide.ru/documents_3/bc4fe5003d64db82d3521da33243b1c2/img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3T16:28:36Z</dcterms:created>
  <dc:creator>Ф-Центр</dc:creator>
  <dc:description/>
  <dc:language>en-US</dc:language>
  <cp:lastModifiedBy>Ф-Центр</cp:lastModifiedBy>
  <dcterms:modified xsi:type="dcterms:W3CDTF">2018-11-13T16:58:44Z</dcterms:modified>
  <cp:revision>3</cp:revision>
  <dc:subject/>
  <dc:title>Слайд 1</dc:title>
</cp:coreProperties>
</file>