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FAB-4A2A-40C2-B913-0B18AD9F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817-8E49-434C-8736-80108CB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1B4-95C4-42F9-908D-51C6545B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3D9-FA83-4195-9938-3B2579D9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810-7510-478E-96F8-5EB9783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A5C-B31A-4A70-8D1E-88519857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203-C0F9-4368-B50B-361C6943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A4E-2DA9-458C-82AF-EDDCAB6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459-3C7E-4B8B-B1A6-146C873A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E85-6C61-44BB-9BB7-D0EE73C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DFC-1F0C-44E8-84AF-FAAE902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CFE-7A45-4BFB-BE9B-DFC6948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2817-89FE-44DF-8F17-C27A6AFBF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772400" cy="516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по рассказу Антона Павловича Чех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ошадиная фамил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1143000"/>
            <a:ext cx="6400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рассказом Чехова «Лошадиная фамил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Дать понятие комического и способов его проявления в художественном произвед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Выявить отличительные признаки юмористического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ска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большое эпическое произведение, рассказывающее об одном случае из жизни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севдон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ымышленное имя пис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м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есёлый см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ро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крытый смех, усм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ати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мех недово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арказ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лой см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23:23Z</dcterms:created>
  <dc:creator>Евгения</dc:creator>
  <dc:description/>
  <dc:language>en-US</dc:language>
  <cp:lastModifiedBy>Ноут</cp:lastModifiedBy>
  <dcterms:modified xsi:type="dcterms:W3CDTF">2020-12-06T14:18:57Z</dcterms:modified>
  <cp:revision>19</cp:revision>
  <dc:subject/>
  <dc:title>Урок по теме: А.П. Чехов 1860-1904 «Лошадиная фамилия»</dc:title>
</cp:coreProperties>
</file>