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F91-095A-42FA-BA8E-FE07062C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5A2-97D6-4023-8DF7-47894C7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F9A-39E4-4D47-B2F5-B9FE3C92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EEE-7B04-4FD6-B368-737BDAC8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D25-4D92-4AA8-88C0-5171A96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257-36D7-4A7F-9CE8-002D7EF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329-49D8-462C-A9D0-DF36B3A3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F5A-7CC8-4C6D-A497-EA21FDB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5D2-0AA2-4B10-BC9C-69535A0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1A9-1C0E-4BC4-A124-E8EBA8D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188-BC38-4125-A1AE-2F7E2C3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421-9C5C-4BFB-9A27-E406CBC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429-CCB3-4851-AF56-837D0D8A7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772400" cy="516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о рассказу Антона Павловича Чех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1143000"/>
            <a:ext cx="6400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рассказом Чехова «Лошадиная фамил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Дать понятие комического и способов его проявления в художественном произвед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Выявить отличительные признаки юмористического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ка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большое эпическое произведение, рассказывающее об одном случае из жизни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севдо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ымышленное имя пис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м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есёлый см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ро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крытый смех, усм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ти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мех недово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рка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лой см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23:23Z</dcterms:created>
  <dc:creator>Евгения</dc:creator>
  <dc:description/>
  <dc:language>en-US</dc:language>
  <cp:lastModifiedBy>Ноут</cp:lastModifiedBy>
  <dcterms:modified xsi:type="dcterms:W3CDTF">2020-12-06T14:18:57Z</dcterms:modified>
  <cp:revision>19</cp:revision>
  <dc:subject/>
  <dc:title>Урок по теме: А.П. Чехов 1860-1904 «Лошадиная фамилия»</dc:title>
</cp:coreProperties>
</file>