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2.jpeg" ContentType="image/jpeg"/>
  <Override PartName="/ppt/media/image13.png" ContentType="image/png"/>
  <Override PartName="/ppt/media/image11.png" ContentType="image/png"/>
  <Override PartName="/ppt/media/image19.jpeg" ContentType="image/jpeg"/>
  <Override PartName="/ppt/media/image7.jpeg" ContentType="image/jpeg"/>
  <Override PartName="/ppt/media/image6.jpeg" ContentType="image/jpeg"/>
  <Override PartName="/ppt/media/image10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4.png" ContentType="image/png"/>
  <Override PartName="/ppt/media/image1.jpeg" ContentType="image/jpeg"/>
  <Override PartName="/ppt/media/image2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58794-2B10-4558-A348-0D160B80B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A85E3-5CD2-4276-8954-8A26CBF02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A2E5C-7C85-4C7B-8517-6C18F5057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1E2B9-4AE5-4E30-8AF1-16064DADF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2CCAF-340E-4123-87C2-7C7844CDF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E749C-17A6-4720-8CAA-F5BDC93F4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26F75-09AB-47FB-B246-BED7B7B41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BF5AA-1B5E-4600-B334-6FDFCA373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F96A3-41BF-488E-BDA0-4359D4C1D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7F2C8-5979-440C-8742-36F74415F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C14F3-86F6-4508-B30D-758F1D074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5090B-742A-4596-A7AB-D388EDBD6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5C670-FD96-4A9F-B8E9-4F58289A3F6E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artyuhova-al_ona-215-fizkul_tminutkamuzofon.com_.mp3/" TargetMode="External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Объект 3" descr="Описание: D:\ФОТО\КУРСЫ\Городец-вид с Волги.jpg"/>
          <p:cNvPicPr/>
          <p:nvPr/>
        </p:nvPicPr>
        <p:blipFill>
          <a:blip r:embed="rId1"/>
          <a:stretch/>
        </p:blipFill>
        <p:spPr>
          <a:xfrm>
            <a:off x="4367160" y="3860640"/>
            <a:ext cx="3762360" cy="2352960"/>
          </a:xfrm>
          <a:prstGeom prst="rect">
            <a:avLst/>
          </a:prstGeom>
          <a:ln w="0">
            <a:noFill/>
          </a:ln>
        </p:spPr>
      </p:pic>
      <p:pic>
        <p:nvPicPr>
          <p:cNvPr id="42" name="Рисунок 4" descr="Описание: D:\ФОТО\КУРСЫ\старый городец.JPG"/>
          <p:cNvPicPr/>
          <p:nvPr/>
        </p:nvPicPr>
        <p:blipFill>
          <a:blip r:embed="rId2"/>
          <a:stretch/>
        </p:blipFill>
        <p:spPr>
          <a:xfrm>
            <a:off x="4197240" y="557280"/>
            <a:ext cx="4003920" cy="3081240"/>
          </a:xfrm>
          <a:prstGeom prst="rect">
            <a:avLst/>
          </a:prstGeom>
          <a:ln w="0">
            <a:noFill/>
          </a:ln>
        </p:spPr>
      </p:pic>
      <p:sp>
        <p:nvSpPr>
          <p:cNvPr id="43" name="TextBox 5"/>
          <p:cNvSpPr/>
          <p:nvPr/>
        </p:nvSpPr>
        <p:spPr>
          <a:xfrm>
            <a:off x="4638600" y="176040"/>
            <a:ext cx="30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ид старинного гор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Прямоугольник 6"/>
          <p:cNvSpPr/>
          <p:nvPr/>
        </p:nvSpPr>
        <p:spPr>
          <a:xfrm>
            <a:off x="311040" y="692280"/>
            <a:ext cx="38862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Есть на Волге город древний,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 названью Городец. 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лавится по всей России 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воей росписью, творец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спускаются букеты, 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Ярко красками горя, 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Чудо -птицы там порхают, 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удто в сказку нас зовя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Если взглянешь на дощечки, 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ы увидишь чудеса! 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ородецкие узоры 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онко вывела рука!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ородецкий конь бежит,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ся земля под ним дрожит! 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тицы яркие летают, 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 кувшинки расцветают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https://ds04.infourok.ru/uploads/ex/00db/000ff2e2-b943e3b2/img11.jpg"/>
          <p:cNvPicPr/>
          <p:nvPr/>
        </p:nvPicPr>
        <p:blipFill>
          <a:blip r:embed="rId1"/>
          <a:stretch/>
        </p:blipFill>
        <p:spPr>
          <a:xfrm>
            <a:off x="755640" y="3895560"/>
            <a:ext cx="3024360" cy="22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Гордецкая роспись1-2"/>
          <p:cNvPicPr/>
          <p:nvPr/>
        </p:nvPicPr>
        <p:blipFill>
          <a:blip r:embed="rId1"/>
          <a:stretch/>
        </p:blipFill>
        <p:spPr>
          <a:xfrm>
            <a:off x="2355840" y="3789360"/>
            <a:ext cx="1982880" cy="30560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7640" y="115920"/>
            <a:ext cx="7124760" cy="151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  <a:ea typeface="Trebuchet MS"/>
              </a:rPr>
              <a:t>1. Нанесение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  <a:ea typeface="Trebuchet MS"/>
              </a:rPr>
              <a:t>рисун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Гордецкая роспись1-3"/>
          <p:cNvPicPr/>
          <p:nvPr/>
        </p:nvPicPr>
        <p:blipFill>
          <a:blip r:embed="rId1"/>
          <a:stretch/>
        </p:blipFill>
        <p:spPr>
          <a:xfrm>
            <a:off x="2374920" y="3573360"/>
            <a:ext cx="2097000" cy="325908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7640" y="115560"/>
            <a:ext cx="7124760" cy="92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  <a:ea typeface="Trebuchet MS"/>
              </a:rPr>
              <a:t>2. Замалево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Гордецкая роспись1-4"/>
          <p:cNvPicPr/>
          <p:nvPr/>
        </p:nvPicPr>
        <p:blipFill>
          <a:blip r:embed="rId1"/>
          <a:stretch/>
        </p:blipFill>
        <p:spPr>
          <a:xfrm>
            <a:off x="2381400" y="3933720"/>
            <a:ext cx="1868400" cy="29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Гордецкая роспись1-5"/>
          <p:cNvPicPr/>
          <p:nvPr/>
        </p:nvPicPr>
        <p:blipFill>
          <a:blip r:embed="rId1"/>
          <a:stretch/>
        </p:blipFill>
        <p:spPr>
          <a:xfrm>
            <a:off x="2406600" y="3789360"/>
            <a:ext cx="1946160" cy="303516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8920" y="189000"/>
            <a:ext cx="712476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  <a:ea typeface="Trebuchet MS"/>
              </a:rPr>
              <a:t>3. Тенев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Гордецкая роспись1-6"/>
          <p:cNvPicPr/>
          <p:nvPr/>
        </p:nvPicPr>
        <p:blipFill>
          <a:blip r:embed="rId1"/>
          <a:stretch/>
        </p:blipFill>
        <p:spPr>
          <a:xfrm>
            <a:off x="2387520" y="3933720"/>
            <a:ext cx="1862280" cy="29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Гордецкая роспись1-7"/>
          <p:cNvPicPr/>
          <p:nvPr/>
        </p:nvPicPr>
        <p:blipFill>
          <a:blip r:embed="rId1"/>
          <a:stretch/>
        </p:blipFill>
        <p:spPr>
          <a:xfrm>
            <a:off x="2368440" y="3789360"/>
            <a:ext cx="1971720" cy="306216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124760" cy="92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  <a:ea typeface="Trebuchet MS"/>
              </a:rPr>
              <a:t>4. Ожив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Гордецкая роспись1-"/>
          <p:cNvPicPr/>
          <p:nvPr/>
        </p:nvPicPr>
        <p:blipFill>
          <a:blip r:embed="rId1"/>
          <a:stretch/>
        </p:blipFill>
        <p:spPr>
          <a:xfrm>
            <a:off x="2374920" y="4437000"/>
            <a:ext cx="1549440" cy="241452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78920" y="189000"/>
            <a:ext cx="712476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  <a:ea typeface="Trebuchet MS"/>
              </a:rPr>
              <a:t>5. Украеш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Прямоугольник 1"/>
          <p:cNvSpPr/>
          <p:nvPr/>
        </p:nvSpPr>
        <p:spPr>
          <a:xfrm>
            <a:off x="2050920" y="2205000"/>
            <a:ext cx="4572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Arial"/>
              </a:rPr>
              <a:t>Спасибо за внимани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42560" y="93600"/>
            <a:ext cx="7116840" cy="266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262626"/>
                </a:solidFill>
                <a:latin typeface="Calibri"/>
                <a:ea typeface="Trebuchet MS"/>
              </a:rPr>
              <a:t>Городецкая роспись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2268000" y="5711400"/>
            <a:ext cx="7116840" cy="86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1547640" y="2813040"/>
            <a:ext cx="618516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512640" y="3525840"/>
            <a:ext cx="2140200" cy="24955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" descr=""/>
          <p:cNvPicPr/>
          <p:nvPr/>
        </p:nvPicPr>
        <p:blipFill>
          <a:blip r:embed="rId2"/>
          <a:stretch/>
        </p:blipFill>
        <p:spPr>
          <a:xfrm>
            <a:off x="4572000" y="3525840"/>
            <a:ext cx="2376360" cy="24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  <a:ea typeface="Trebuchet MS"/>
            </a:endParaRPr>
          </a:p>
        </p:txBody>
      </p:sp>
      <p:pic>
        <p:nvPicPr>
          <p:cNvPr id="51" name="Picture 2" descr="C:\Users\вера\Pictures\096ce9aef5d7b3118b8cf050edad654f.jpg"/>
          <p:cNvPicPr/>
          <p:nvPr/>
        </p:nvPicPr>
        <p:blipFill>
          <a:blip r:embed="rId1"/>
          <a:stretch/>
        </p:blipFill>
        <p:spPr>
          <a:xfrm>
            <a:off x="1077840" y="4005360"/>
            <a:ext cx="326412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4446720" y="981000"/>
            <a:ext cx="458928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4" descr="C:\Users\вера\Pictures\0_5a298_45cf510_XL.jpg"/>
          <p:cNvPicPr/>
          <p:nvPr/>
        </p:nvPicPr>
        <p:blipFill>
          <a:blip r:embed="rId1"/>
          <a:stretch/>
        </p:blipFill>
        <p:spPr>
          <a:xfrm>
            <a:off x="1476360" y="549360"/>
            <a:ext cx="5918040" cy="593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10920" y="676440"/>
            <a:ext cx="752292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Trebuchet MS"/>
              </a:rPr>
              <a:t>Музей-мастерская по росписи в г. Городец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Объект 3" descr="Описание: D:\ФОТО\КУРСЫ\музей в Городце.jpg"/>
          <p:cNvPicPr/>
          <p:nvPr/>
        </p:nvPicPr>
        <p:blipFill>
          <a:blip r:embed="rId1"/>
          <a:stretch/>
        </p:blipFill>
        <p:spPr>
          <a:xfrm>
            <a:off x="4716360" y="1031760"/>
            <a:ext cx="3095640" cy="2468520"/>
          </a:xfrm>
          <a:prstGeom prst="rect">
            <a:avLst/>
          </a:prstGeom>
          <a:ln w="0">
            <a:noFill/>
          </a:ln>
        </p:spPr>
      </p:pic>
      <p:sp>
        <p:nvSpPr>
          <p:cNvPr id="56" name="Прямоугольник 1"/>
          <p:cNvSpPr/>
          <p:nvPr/>
        </p:nvSpPr>
        <p:spPr>
          <a:xfrm>
            <a:off x="611280" y="1628640"/>
            <a:ext cx="360036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спись, которая ныне называется городецкой, родилась в XVIIIв. в Поволжье, в деревнях, расположенных на берегах чистой и светлой речки Узоры. Свои изделия крестьяне отвозили продавать на ярмарку в село Городец. Поэтому роспись, выполненная на этих изделиях, получила название Городецкая. 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D:\123.png"/>
          <p:cNvPicPr/>
          <p:nvPr/>
        </p:nvPicPr>
        <p:blipFill>
          <a:blip r:embed="rId2"/>
          <a:stretch/>
        </p:blipFill>
        <p:spPr>
          <a:xfrm>
            <a:off x="5003640" y="3471840"/>
            <a:ext cx="2376720" cy="33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92440" y="4899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Calibri"/>
              <a:ea typeface="Trebuchet MS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23640" y="4220640"/>
            <a:ext cx="8569080" cy="263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работы по росписи желательно иметь три кисти: беличью художественную (№ 2 или № 3), колонковую художественную (№ 1 или № 2) и флейц (№ 2 или № 3). Флейц — это плоская кисточка из мягкого волоса, которая используется для подмалевок и наведения рамок. Для детей, которые только начинают делать первые шаги в городецкой росписи, лучше использовать гуашь, самый обычный набор из 12 штук. Так, как Городецкая роспись многослойная, а гуашевые краски быстро сохнут, их можно накладывать одну на другую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2"/>
          <a:stretch/>
        </p:blipFill>
        <p:spPr>
          <a:xfrm>
            <a:off x="395280" y="189000"/>
            <a:ext cx="8280360" cy="40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Гордецкая роспись1-"/>
          <p:cNvPicPr/>
          <p:nvPr/>
        </p:nvPicPr>
        <p:blipFill>
          <a:blip r:embed="rId1"/>
          <a:stretch/>
        </p:blipFill>
        <p:spPr>
          <a:xfrm>
            <a:off x="2374920" y="6480"/>
            <a:ext cx="4394160" cy="684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7238880" cy="843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00ff"/>
                </a:solidFill>
                <a:uFillTx/>
                <a:latin typeface="Calibri"/>
                <a:ea typeface="Trebuchet MS"/>
                <a:hlinkClick r:id="rId1"/>
              </a:rPr>
              <a:t>Физкультминут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Рисунок 3" descr=""/>
          <p:cNvPicPr/>
          <p:nvPr/>
        </p:nvPicPr>
        <p:blipFill>
          <a:blip r:embed="rId2"/>
          <a:stretch/>
        </p:blipFill>
        <p:spPr>
          <a:xfrm>
            <a:off x="1871640" y="1341360"/>
            <a:ext cx="6068880" cy="4533840"/>
          </a:xfrm>
          <a:prstGeom prst="rect">
            <a:avLst/>
          </a:prstGeom>
          <a:ln w="0">
            <a:noFill/>
          </a:ln>
        </p:spPr>
      </p:pic>
      <p:pic>
        <p:nvPicPr>
          <p:cNvPr id="65" name="artyuhova-al_ona-215-fizkul_tminutkamuzofon.com_.mp3" descr=""/>
          <p:cNvPicPr/>
          <p:nvPr/>
        </p:nvPicPr>
        <p:blipFill>
          <a:blip r:embed="rId3"/>
          <a:stretch/>
        </p:blipFill>
        <p:spPr>
          <a:xfrm>
            <a:off x="826920" y="569592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65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72136" fill="hold"/>
                                        <p:tgtEl>
                                          <p:spTgt spid="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1T07:36:00Z</dcterms:created>
  <dc:creator>sk</dc:creator>
  <dc:description/>
  <dc:language>en-US</dc:language>
  <cp:lastModifiedBy>Пользователь Windows</cp:lastModifiedBy>
  <dcterms:modified xsi:type="dcterms:W3CDTF">2020-12-06T07:26:57Z</dcterms:modified>
  <cp:revision>27</cp:revision>
  <dc:subject/>
  <dc:title>Слайд 1</dc:title>
</cp:coreProperties>
</file>