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FFA-BAFF-4C78-AAA5-9EC34605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A35-C1CF-445A-A861-71ED6A10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06B-F6B7-4855-9CA3-1F9F59C0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97F-91B2-48AC-B884-F31DB1A4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283-3348-4CA0-AC31-5B4FE85E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AE6-5D1D-4E2D-8AE4-1E785D38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4E5-A001-485A-95ED-635E6B6E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C34-2A9E-4FA1-BEC9-02EAC42A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264-BDE0-4436-8ABA-78E36248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46B-C27D-4F12-B54E-73F220B0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072-9689-4160-8101-4E3CE113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979-0CF9-4CEB-BD9E-72E8CF7B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0F97-D37B-4722-AA77-EBEF4D2413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rtyuhova-al_ona-215-fizkul_tminutkamuzofon.com_.mp3/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3" descr="Описание: D:\ФОТО\КУРСЫ\Городец-вид с Волги.jpg"/>
          <p:cNvPicPr/>
          <p:nvPr/>
        </p:nvPicPr>
        <p:blipFill>
          <a:blip r:embed="rId1"/>
          <a:stretch/>
        </p:blipFill>
        <p:spPr>
          <a:xfrm>
            <a:off x="4367160" y="3860640"/>
            <a:ext cx="3762360" cy="23529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Описание: D:\ФОТО\КУРСЫ\старый городец.JPG"/>
          <p:cNvPicPr/>
          <p:nvPr/>
        </p:nvPicPr>
        <p:blipFill>
          <a:blip r:embed="rId2"/>
          <a:stretch/>
        </p:blipFill>
        <p:spPr>
          <a:xfrm>
            <a:off x="4197240" y="557280"/>
            <a:ext cx="4003920" cy="3081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4638600" y="1760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старинного 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311040" y="692280"/>
            <a:ext cx="3886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на Волге город древний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названью Городец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авится по всей России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й росписью, творец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ускаются букеты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ко красками горя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до -птицы там порхают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то в сказку нас зов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зглянешь на дощечки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увидишь чудеса!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ецкие узоры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нко вывела рука!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ецкий конь бежи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я земля под ним дрожит!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ы яркие летают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кувшинки расцветаю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s://ds04.infourok.ru/uploads/ex/00db/000ff2e2-b943e3b2/img11.jpg"/>
          <p:cNvPicPr/>
          <p:nvPr/>
        </p:nvPicPr>
        <p:blipFill>
          <a:blip r:embed="rId1"/>
          <a:stretch/>
        </p:blipFill>
        <p:spPr>
          <a:xfrm>
            <a:off x="755640" y="3895560"/>
            <a:ext cx="302436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Гордецкая роспись1-2"/>
          <p:cNvPicPr/>
          <p:nvPr/>
        </p:nvPicPr>
        <p:blipFill>
          <a:blip r:embed="rId1"/>
          <a:stretch/>
        </p:blipFill>
        <p:spPr>
          <a:xfrm>
            <a:off x="2355840" y="3789360"/>
            <a:ext cx="1982880" cy="3056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71247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rebuchet MS"/>
              </a:rPr>
              <a:t>1. Нанес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rebuchet MS"/>
              </a:rPr>
              <a:t>рису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Гордецкая роспись1-3"/>
          <p:cNvPicPr/>
          <p:nvPr/>
        </p:nvPicPr>
        <p:blipFill>
          <a:blip r:embed="rId1"/>
          <a:stretch/>
        </p:blipFill>
        <p:spPr>
          <a:xfrm>
            <a:off x="2374920" y="3573360"/>
            <a:ext cx="2097000" cy="3259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712476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rebuchet MS"/>
              </a:rPr>
              <a:t>2. Замалев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Гордецкая роспись1-4"/>
          <p:cNvPicPr/>
          <p:nvPr/>
        </p:nvPicPr>
        <p:blipFill>
          <a:blip r:embed="rId1"/>
          <a:stretch/>
        </p:blipFill>
        <p:spPr>
          <a:xfrm>
            <a:off x="2381400" y="3933720"/>
            <a:ext cx="18684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Гордецкая роспись1-5"/>
          <p:cNvPicPr/>
          <p:nvPr/>
        </p:nvPicPr>
        <p:blipFill>
          <a:blip r:embed="rId1"/>
          <a:stretch/>
        </p:blipFill>
        <p:spPr>
          <a:xfrm>
            <a:off x="2406600" y="3789360"/>
            <a:ext cx="1946160" cy="3035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rebuchet MS"/>
              </a:rPr>
              <a:t>3. Тене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Гордецкая роспись1-6"/>
          <p:cNvPicPr/>
          <p:nvPr/>
        </p:nvPicPr>
        <p:blipFill>
          <a:blip r:embed="rId1"/>
          <a:stretch/>
        </p:blipFill>
        <p:spPr>
          <a:xfrm>
            <a:off x="2387520" y="3933720"/>
            <a:ext cx="18622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Гордецкая роспись1-7"/>
          <p:cNvPicPr/>
          <p:nvPr/>
        </p:nvPicPr>
        <p:blipFill>
          <a:blip r:embed="rId1"/>
          <a:stretch/>
        </p:blipFill>
        <p:spPr>
          <a:xfrm>
            <a:off x="2368440" y="3789360"/>
            <a:ext cx="1971720" cy="30621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12476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rebuchet MS"/>
              </a:rPr>
              <a:t>4. Ожи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Гордецкая роспись1-"/>
          <p:cNvPicPr/>
          <p:nvPr/>
        </p:nvPicPr>
        <p:blipFill>
          <a:blip r:embed="rId1"/>
          <a:stretch/>
        </p:blipFill>
        <p:spPr>
          <a:xfrm>
            <a:off x="2374920" y="4437000"/>
            <a:ext cx="1549440" cy="2414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rebuchet MS"/>
              </a:rPr>
              <a:t>5. Украеш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050920" y="2205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560" y="93600"/>
            <a:ext cx="711684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62626"/>
                </a:solidFill>
                <a:latin typeface="Calibri"/>
                <a:ea typeface="Trebuchet MS"/>
              </a:rPr>
              <a:t>Городецкая роспис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68000" y="5711400"/>
            <a:ext cx="711684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547640" y="2813040"/>
            <a:ext cx="6185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12640" y="3525840"/>
            <a:ext cx="2140200" cy="249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572000" y="3525840"/>
            <a:ext cx="2376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  <a:ea typeface="Trebuchet MS"/>
            </a:endParaRPr>
          </a:p>
        </p:txBody>
      </p:sp>
      <p:pic>
        <p:nvPicPr>
          <p:cNvPr id="51" name="Picture 2" descr="C:\Users\вера\Pictures\096ce9aef5d7b3118b8cf050edad654f.jpg"/>
          <p:cNvPicPr/>
          <p:nvPr/>
        </p:nvPicPr>
        <p:blipFill>
          <a:blip r:embed="rId1"/>
          <a:stretch/>
        </p:blipFill>
        <p:spPr>
          <a:xfrm>
            <a:off x="1077840" y="4005360"/>
            <a:ext cx="32641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446720" y="981000"/>
            <a:ext cx="45892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Users\вера\Pictures\0_5a298_45cf510_XL.jpg"/>
          <p:cNvPicPr/>
          <p:nvPr/>
        </p:nvPicPr>
        <p:blipFill>
          <a:blip r:embed="rId1"/>
          <a:stretch/>
        </p:blipFill>
        <p:spPr>
          <a:xfrm>
            <a:off x="1476360" y="549360"/>
            <a:ext cx="591804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676440"/>
            <a:ext cx="752292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rebuchet MS"/>
              </a:rPr>
              <a:t>Музей-мастерская по росписи в г. Городец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Описание: D:\ФОТО\КУРСЫ\музей в Городце.jpg"/>
          <p:cNvPicPr/>
          <p:nvPr/>
        </p:nvPicPr>
        <p:blipFill>
          <a:blip r:embed="rId1"/>
          <a:stretch/>
        </p:blipFill>
        <p:spPr>
          <a:xfrm>
            <a:off x="4716360" y="1031760"/>
            <a:ext cx="3095640" cy="2468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611280" y="1628640"/>
            <a:ext cx="3600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ись, которая ныне называется городецкой, родилась в XVIIIв. в Поволжье, в деревнях, расположенных на берегах чистой и светлой речки Узоры. Свои изделия крестьяне отвозили продавать на ярмарку в село Городец. Поэтому роспись, выполненная на этих изделиях, получила название Городецкая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D:\123.png"/>
          <p:cNvPicPr/>
          <p:nvPr/>
        </p:nvPicPr>
        <p:blipFill>
          <a:blip r:embed="rId2"/>
          <a:stretch/>
        </p:blipFill>
        <p:spPr>
          <a:xfrm>
            <a:off x="5003640" y="3471840"/>
            <a:ext cx="23767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  <a:ea typeface="Trebuchet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4220640"/>
            <a:ext cx="856908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боты по росписи желательно иметь три кисти: беличью художественную (№ 2 или № 3), колонковую художественную (№ 1 или № 2) и флейц (№ 2 или № 3). Флейц — это плоская кисточка из мягкого волоса, которая используется для подмалевок и наведения рамок. Для детей, которые только начинают делать первые шаги в городецкой росписи, лучше использовать гуашь, самый обычный набор из 12 штук. Так, как Городецкая роспись многослойная, а гуашевые краски быстро сохнут, их можно накладывать одну на другу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280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Гордецкая роспись1-"/>
          <p:cNvPicPr/>
          <p:nvPr/>
        </p:nvPicPr>
        <p:blipFill>
          <a:blip r:embed="rId1"/>
          <a:stretch/>
        </p:blipFill>
        <p:spPr>
          <a:xfrm>
            <a:off x="2374920" y="6480"/>
            <a:ext cx="43941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2388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ea typeface="Trebuchet MS"/>
                <a:hlinkClick r:id="rId1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2"/>
          <a:stretch/>
        </p:blipFill>
        <p:spPr>
          <a:xfrm>
            <a:off x="1871640" y="1341360"/>
            <a:ext cx="6068880" cy="4533840"/>
          </a:xfrm>
          <a:prstGeom prst="rect">
            <a:avLst/>
          </a:prstGeom>
          <a:ln w="0">
            <a:noFill/>
          </a:ln>
        </p:spPr>
      </p:pic>
      <p:pic>
        <p:nvPicPr>
          <p:cNvPr id="65" name="artyuhova-al_ona-215-fizkul_tminutkamuzofon.com_.mp3" descr=""/>
          <p:cNvPicPr/>
          <p:nvPr/>
        </p:nvPicPr>
        <p:blipFill>
          <a:blip r:embed="rId3"/>
          <a:stretch/>
        </p:blipFill>
        <p:spPr>
          <a:xfrm>
            <a:off x="826920" y="5695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13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Пользователь Windows</cp:lastModifiedBy>
  <dcterms:modified xsi:type="dcterms:W3CDTF">2020-12-06T07:26:57Z</dcterms:modified>
  <cp:revision>27</cp:revision>
  <dc:subject/>
  <dc:title>Слайд 1</dc:title>
</cp:coreProperties>
</file>