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C35-2A43-4012-B709-4548A7CE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685-C607-4CF0-8F93-13F3861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B16-5E82-4383-B7C4-D625C53C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58B-0697-42DB-9221-6EE01952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597-DE16-4F10-AD85-2F9D441D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00A6-511D-4775-B7D7-33224E40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6E04-2D67-4705-803A-AEF82F73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3496-3476-45FD-9740-AE1445F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F49A-9FD5-4AF0-B139-D9AC3E70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462F-2F9F-4F17-A030-279D79B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57B1-9CA0-4E13-910B-6E65233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DA6-9AA6-4FC4-9046-F6414D6E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594F-B318-477B-8761-950062C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BCE-A2CF-4286-8B05-E54E8F4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1853-3261-464A-8B84-68D5CE8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CA24-9E1E-468C-8092-3C96D728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253-25A5-469D-BBF2-D40A1E6A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958-391A-47A2-A430-06A87FB2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C8A-3A1A-47A6-A37F-F7BDCCC0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29A-FF27-44D6-999F-51D158D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AA6-65D9-470E-AB97-F8738021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F41-7DE2-499E-BE60-67C3252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3B8-394C-416D-A2A0-D9938C4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BA3-254F-4BDD-8485-EF626A0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0FD-0BBF-4F59-ABD0-431309BCF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6BD-B832-4516-B04A-1AF40678BE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История создания дымковской игрушк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01680" y="304920"/>
            <a:ext cx="8540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57280" y="228600"/>
            <a:ext cx="802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1680" y="1828800"/>
            <a:ext cx="4194000" cy="4038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29200" y="609480"/>
            <a:ext cx="3581280" cy="2895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029200" y="3925800"/>
            <a:ext cx="3581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57280" cy="26672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63720" cy="2743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3200400" cy="2627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4952880" y="3657600"/>
            <a:ext cx="3657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17:58:00Z</dcterms:created>
  <dc:creator>василий</dc:creator>
  <dc:description/>
  <dc:language>en-US</dc:language>
  <cp:lastModifiedBy>василий</cp:lastModifiedBy>
  <dcterms:modified xsi:type="dcterms:W3CDTF">2019-03-19T18:21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