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0AE-2E48-472E-B752-64358C55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783-87A9-4803-8851-F056A8C3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392-27CE-4AAA-9708-57EEA9BD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3DB-15B9-4A20-932C-D70C2EAB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9EFF-13C6-44D8-9B0E-ECFC79A0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D197-AC82-4AC4-BB30-A1F075DC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63DB-A2B4-4F4E-B184-B82C02A9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C697-7502-427D-9637-913B4A8C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88D6-05F1-48E8-867E-9705D901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DAA4-8A28-429C-8BB0-1C52DD8B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0F9A-45C4-4FFD-8122-3C8A2556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43C-9060-47C8-83BA-B7D030C0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D2F8-CBD9-4F88-8315-656121FD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57E3-44BA-4E78-870C-92384824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9A34-58A7-439B-8C16-B1E5EA50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4A17-D8CA-44F3-8EB6-16401D0D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2EE7-A8A6-4135-BD6C-4B809983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0C6-6761-4E95-BD42-7E2CFA70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E719-95B3-418E-873D-B024F73A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40E-FCDC-477F-8938-EA2E1A4E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DF3-6E05-451F-9001-34AADFEF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9CD-677B-4701-97DC-96AD5267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8C0-81B2-4956-A640-C9406D0E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828-D1EA-4613-AD53-82304901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e5a"/>
                  </a:gs>
                  <a:gs pos="100000">
                    <a:srgbClr val="ac83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7655"/>
                  </a:gs>
                  <a:gs pos="50000">
                    <a:srgbClr val="ac835e"/>
                  </a:gs>
                  <a:gs pos="100000">
                    <a:srgbClr val="9b765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4A6B-6DDE-4B90-B78E-CC3121096F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e5a"/>
                  </a:gs>
                  <a:gs pos="100000">
                    <a:srgbClr val="ac83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7655"/>
                  </a:gs>
                  <a:gs pos="50000">
                    <a:srgbClr val="ac835e"/>
                  </a:gs>
                  <a:gs pos="100000">
                    <a:srgbClr val="9b765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ECF9-F83B-4082-8B16-341A3FAB440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История создания дымковской игрушк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01680" y="304920"/>
            <a:ext cx="8540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57280" y="228600"/>
            <a:ext cx="8028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01680" y="1828800"/>
            <a:ext cx="4194000" cy="40384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029200" y="609480"/>
            <a:ext cx="3581280" cy="28958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5029200" y="3925800"/>
            <a:ext cx="3581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257280" cy="26672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663720" cy="27432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3200400" cy="26272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4952880" y="3657600"/>
            <a:ext cx="3657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9T17:58:00Z</dcterms:created>
  <dc:creator>василий</dc:creator>
  <dc:description/>
  <dc:language>en-US</dc:language>
  <cp:lastModifiedBy>василий</cp:lastModifiedBy>
  <dcterms:modified xsi:type="dcterms:W3CDTF">2019-03-19T18:21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