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B8D-5831-4025-AC19-69417ACC14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DBB1-887B-4445-8437-86C25A572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9E1-F3AE-4AB3-BAAF-38AD9CF1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4FF-6D4E-4163-93C4-B3AB975C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0DA-C492-48BB-914D-CDABFB78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461-5B21-42D2-B51D-F679536D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23BE-F86E-40C2-ABA4-E71770AC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5957-DBA4-4C30-9AAA-DEB8A39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F643-0F20-4B38-853F-425AE19F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A862-ABB7-4A96-A219-8B3AFD1B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6B47-CBE5-434F-BDA3-1FF2919D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683-FEC0-4EC2-833B-6FFB891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D9EA-665E-4F98-B4B5-55332F6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BB8-E3BF-49A5-94E5-D6C4762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2865-D912-498F-AB3A-2C22CF26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0DB-2217-4397-B86B-27864DC0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A37E-5906-4386-9EEE-98F3768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8BA9-EF67-4EAB-B6C4-44060C36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51B4-4E30-4E8C-8F11-19EB827B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43B56-AEF9-4D50-8555-72324DA3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ACE1C-8CB8-40E0-88CE-9BE1753D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AA53B-C4F0-4168-AEFD-7A489110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AB23B-5B4B-4AE4-B783-BFDC20FC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83B25-563C-4D38-9B61-B8304767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083-7F2A-4BFE-8084-331E4FA3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BDB98-194A-40AE-BB6F-D56C4B7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F44D1-D448-431B-9BDB-5325BE3C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0100D-1274-4772-98C3-B704BC1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51955-B116-4253-AFC8-49A3682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F323D-A5AB-4450-A417-66C11717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EDB93-C316-409A-A6C2-097CD8C6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E6926-E2B8-436A-A518-DFB14608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D224-8259-4816-9DBA-CC384F2E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6387-2F57-4DCF-B9A7-A715F79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D616-A80E-46C7-BE52-F066BF7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053-5BE1-443D-98F9-C962C09D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2489-7DC3-41F7-A6DA-44CFDCB1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3E3B-91C8-44C9-ABFF-2A918A0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B68E-DDBA-44AE-BB1E-9C883D3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DACF-025A-4E76-BA17-42A832F1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6B58-52FE-4EB6-A2B3-D590BDE3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4BF9-316F-41B1-BA52-32CBA7B3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9B1F-A942-4629-865E-0F5773DF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99E4-B216-4BD3-8C0E-94C202B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F6EC-9651-400A-845D-D9F65F1D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55CE0-282F-4534-B3C8-51EF1B59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4C8-884C-4B59-A6ED-9BFCC43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10905-A429-469A-8ECC-AC775A80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B77A1-B37D-4885-B214-493EC636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B33A2-D2BE-4D34-98A2-2371AC2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F2CDC-0A11-4E1D-958B-C00BED7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345C3-8185-42D0-9D24-1806F70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861A5-DB13-4F25-8EF3-378E3BE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37117-D321-4F1C-9FD1-2ABE4B0C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3817A-970F-4699-9BC9-6907C43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30ADB-24EB-4FC3-AA85-C802A596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B4A61-8992-4FC4-938E-A1E6F1AE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98A-0F69-469B-A5E3-E2779F3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34362-05E0-4B27-A68E-E98944E8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10366-1B73-4BCE-BAFA-7E056BF7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44213-A205-4D5D-BA54-21A7AA1C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70B13-2AB9-4481-BB4B-AA96EF7F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8318E-9BDB-4B90-A523-808B8F2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D8EDC-C291-4B22-80AD-CCE238C0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41FB3-E67B-4AB4-8239-9655CEB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4406B-5A86-49E8-A0E3-2A452A8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313B8-58AF-4829-AB86-B2A2D6E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BD68E-0928-4976-9E2B-A6DC79D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E5E-7769-4375-9409-54FF7BA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43092-006C-47E1-8080-5FB9D199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BB01E-1F28-4C76-80A4-0C4F500C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E3A40-012C-43CB-994E-76D17921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324D8-32D7-4243-A2BE-2764338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9DC3B-D99B-4695-80EB-876C3705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C2446-F81B-456B-9E11-2729229B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A9BE8-180A-47B1-8DA2-94684122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A3D28-1C6D-4993-994A-A31101C7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FBED4-FEF3-4FC5-A6A5-8B86231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89CF0-5A42-43A8-B5FF-267CC13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230-74DB-4077-87B4-A77D3A1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042A8-64E1-41BA-818C-27E26BF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D4B7F-CC50-494B-9D3D-2126F3D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17A1A-1506-4CD2-B938-8014ACB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A92D3-AC55-4913-8CE8-46CA14AB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50D75-5C25-47C5-A87D-7E4B06E3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3AC-8E27-4265-9660-C8C2DBD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FD6-F58B-4EDF-8F30-A47B68C6CF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AFE-B5D8-4461-8913-405E1DF490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0D7F-CCFB-472F-97AD-1E616D0BF1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AFD9-4FD9-4DB7-9F19-C098AA8F67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DEE5-7374-437B-90A2-627837C48A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01A-D374-4411-ABE7-5680BE55D2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329-F630-464C-8D45-4343566965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ОТ КРАСОТЫ НАУКИ – К ТВОРЧЕСТВУ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57200" y="2643120"/>
            <a:ext cx="77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Все на свете сказано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Несказанного нет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И все же где-то светитс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Несказанного свет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Gaudeamus.mp3" descr=""/>
          <p:cNvPicPr/>
          <p:nvPr/>
        </p:nvPicPr>
        <p:blipFill>
          <a:blip r:embed="rId1"/>
          <a:stretch/>
        </p:blipFill>
        <p:spPr>
          <a:xfrm>
            <a:off x="2142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03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АКС-КАРЛ-ЭРНСТ-ЛЮДВИГ ПЛАНК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1858 - 194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Содержимое 5" descr="plank.JPG"/>
          <p:cNvPicPr/>
          <p:nvPr/>
        </p:nvPicPr>
        <p:blipFill>
          <a:blip r:embed="rId1"/>
          <a:stretch/>
        </p:blipFill>
        <p:spPr>
          <a:xfrm>
            <a:off x="500040" y="1714680"/>
            <a:ext cx="3571920" cy="472248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form1.gif"/>
          <p:cNvPicPr/>
          <p:nvPr/>
        </p:nvPicPr>
        <p:blipFill>
          <a:blip r:embed="rId2"/>
          <a:stretch/>
        </p:blipFill>
        <p:spPr>
          <a:xfrm>
            <a:off x="4714920" y="2714760"/>
            <a:ext cx="3643200" cy="3589200"/>
          </a:xfrm>
          <a:prstGeom prst="rect">
            <a:avLst/>
          </a:prstGeom>
          <a:ln w="0">
            <a:noFill/>
          </a:ln>
        </p:spPr>
      </p:pic>
      <p:pic>
        <p:nvPicPr>
          <p:cNvPr id="387" name="organ01.mp3" descr=""/>
          <p:cNvPicPr/>
          <p:nvPr/>
        </p:nvPicPr>
        <p:blipFill>
          <a:blip r:embed="rId3"/>
          <a:stretch/>
        </p:blipFill>
        <p:spPr>
          <a:xfrm>
            <a:off x="928800" y="114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4"/>
          <a:stretch/>
        </p:blipFill>
        <p:spPr>
          <a:xfrm>
            <a:off x="4429080" y="1285920"/>
            <a:ext cx="4222800" cy="1900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046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ЛЕКСАНДР  ЛЕОНИДОВИЧ ЧИЖЕВСКИ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897 - 196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Содержимое 4" descr="чижев.jpg"/>
          <p:cNvPicPr/>
          <p:nvPr/>
        </p:nvPicPr>
        <p:blipFill>
          <a:blip r:embed="rId1"/>
          <a:stretch/>
        </p:blipFill>
        <p:spPr>
          <a:xfrm>
            <a:off x="285840" y="1285920"/>
            <a:ext cx="3219480" cy="442908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8" descr="люстра 2.jpeg"/>
          <p:cNvPicPr/>
          <p:nvPr/>
        </p:nvPicPr>
        <p:blipFill>
          <a:blip r:embed="rId2"/>
          <a:stretch/>
        </p:blipFill>
        <p:spPr>
          <a:xfrm>
            <a:off x="5857920" y="1214280"/>
            <a:ext cx="2529000" cy="285768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люстра.jpeg"/>
          <p:cNvPicPr/>
          <p:nvPr/>
        </p:nvPicPr>
        <p:blipFill>
          <a:blip r:embed="rId3"/>
          <a:stretch/>
        </p:blipFill>
        <p:spPr>
          <a:xfrm>
            <a:off x="3500280" y="2703600"/>
            <a:ext cx="2714760" cy="36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МИХАИЛ ВАСИЛЬЕВИЧ ЛОМОНОС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                      1711 - 176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6" descr="250px-Lomonosov_(2).jpg"/>
          <p:cNvPicPr/>
          <p:nvPr/>
        </p:nvPicPr>
        <p:blipFill>
          <a:blip r:embed="rId1"/>
          <a:stretch/>
        </p:blipFill>
        <p:spPr>
          <a:xfrm>
            <a:off x="214200" y="1571760"/>
            <a:ext cx="4167360" cy="50004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11" descr="мгу.jpeg"/>
          <p:cNvPicPr/>
          <p:nvPr/>
        </p:nvPicPr>
        <p:blipFill>
          <a:blip r:embed="rId2"/>
          <a:stretch/>
        </p:blipFill>
        <p:spPr>
          <a:xfrm>
            <a:off x="4572000" y="1500120"/>
            <a:ext cx="3840120" cy="511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5800" y="0"/>
            <a:ext cx="442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avto_self.jpg"/>
          <p:cNvPicPr/>
          <p:nvPr/>
        </p:nvPicPr>
        <p:blipFill>
          <a:blip r:embed="rId1"/>
          <a:stretch/>
        </p:blipFill>
        <p:spPr>
          <a:xfrm>
            <a:off x="428760" y="714240"/>
            <a:ext cx="3571920" cy="53881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4"/>
          <p:cNvSpPr/>
          <p:nvPr/>
        </p:nvSpPr>
        <p:spPr>
          <a:xfrm>
            <a:off x="4071960" y="16430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Леонардо да Вин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(Leonardo da Vinc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(1452 - 15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ВИТРУВИАНСКИЙ ЧЕЛОВЕК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5" descr="vitruvian-man.jpg"/>
          <p:cNvPicPr/>
          <p:nvPr/>
        </p:nvPicPr>
        <p:blipFill>
          <a:blip r:embed="rId1"/>
          <a:stretch/>
        </p:blipFill>
        <p:spPr>
          <a:xfrm>
            <a:off x="2459160" y="1600200"/>
            <a:ext cx="34639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одержимое 3" descr="тайное вечере.jpg"/>
          <p:cNvPicPr/>
          <p:nvPr/>
        </p:nvPicPr>
        <p:blipFill>
          <a:blip r:embed="rId1"/>
          <a:stretch/>
        </p:blipFill>
        <p:spPr>
          <a:xfrm>
            <a:off x="214200" y="642960"/>
            <a:ext cx="8529840" cy="489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6" descr="Дама с горностаем.jpg"/>
          <p:cNvPicPr/>
          <p:nvPr/>
        </p:nvPicPr>
        <p:blipFill>
          <a:blip r:embed="rId1"/>
          <a:stretch/>
        </p:blipFill>
        <p:spPr>
          <a:xfrm>
            <a:off x="571680" y="857160"/>
            <a:ext cx="3352680" cy="4600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Джоконда.jpg"/>
          <p:cNvPicPr/>
          <p:nvPr/>
        </p:nvPicPr>
        <p:blipFill>
          <a:blip r:embed="rId2"/>
          <a:stretch/>
        </p:blipFill>
        <p:spPr>
          <a:xfrm>
            <a:off x="4643280" y="1785960"/>
            <a:ext cx="350208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Содержимое 4" descr="вертолет.jpg"/>
          <p:cNvPicPr/>
          <p:nvPr/>
        </p:nvPicPr>
        <p:blipFill>
          <a:blip r:embed="rId1"/>
          <a:stretch/>
        </p:blipFill>
        <p:spPr>
          <a:xfrm>
            <a:off x="214200" y="285840"/>
            <a:ext cx="4357800" cy="514332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5" descr="парашют.jpg"/>
          <p:cNvPicPr/>
          <p:nvPr/>
        </p:nvPicPr>
        <p:blipFill>
          <a:blip r:embed="rId2"/>
          <a:stretch/>
        </p:blipFill>
        <p:spPr>
          <a:xfrm>
            <a:off x="4643280" y="357120"/>
            <a:ext cx="3857760" cy="583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ДМИТРИЙ ИВАНОВИЧ МЕНДЕЛЕЕВ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834 - 1907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Содержимое 4" descr="таблица.jpg"/>
          <p:cNvPicPr/>
          <p:nvPr/>
        </p:nvPicPr>
        <p:blipFill>
          <a:blip r:embed="rId1"/>
          <a:stretch/>
        </p:blipFill>
        <p:spPr>
          <a:xfrm>
            <a:off x="642960" y="1428840"/>
            <a:ext cx="7353360" cy="483084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5" descr="Дмитрий_Иванович_Менделеев_6.jpg"/>
          <p:cNvPicPr/>
          <p:nvPr/>
        </p:nvPicPr>
        <p:blipFill>
          <a:blip r:embed="rId2"/>
          <a:stretch/>
        </p:blipFill>
        <p:spPr>
          <a:xfrm>
            <a:off x="4643280" y="1500120"/>
            <a:ext cx="3611880" cy="46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entury Schoolbook"/>
              </a:rPr>
              <a:t>АЛЬБЕРТ ЭЙНШТЕЙН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1879 - 1955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4" descr="fun2.jpg"/>
          <p:cNvPicPr/>
          <p:nvPr/>
        </p:nvPicPr>
        <p:blipFill>
          <a:blip r:embed="rId1"/>
          <a:stretch/>
        </p:blipFill>
        <p:spPr>
          <a:xfrm>
            <a:off x="500040" y="1714680"/>
            <a:ext cx="4145040" cy="388620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7" descr="in3.jpg"/>
          <p:cNvPicPr/>
          <p:nvPr/>
        </p:nvPicPr>
        <p:blipFill>
          <a:blip r:embed="rId2"/>
          <a:stretch/>
        </p:blipFill>
        <p:spPr>
          <a:xfrm>
            <a:off x="5143680" y="1116000"/>
            <a:ext cx="3149280" cy="5027760"/>
          </a:xfrm>
          <a:prstGeom prst="rect">
            <a:avLst/>
          </a:prstGeom>
          <a:ln w="0">
            <a:noFill/>
          </a:ln>
        </p:spPr>
      </p:pic>
      <p:pic>
        <p:nvPicPr>
          <p:cNvPr id="377" name="mozart_malenkaya_nochnaya_serenada.mp3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31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Содержимое 6" descr="last.jpg"/>
          <p:cNvPicPr/>
          <p:nvPr/>
        </p:nvPicPr>
        <p:blipFill>
          <a:blip r:embed="rId1"/>
          <a:stretch/>
        </p:blipFill>
        <p:spPr>
          <a:xfrm>
            <a:off x="428760" y="0"/>
            <a:ext cx="8143920" cy="63133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3371760" cy="1219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1785960" y="214200"/>
            <a:ext cx="7000920" cy="253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6:44:26Z</dcterms:created>
  <dc:creator>Ирина Викторовна</dc:creator>
  <dc:description/>
  <dc:language>en-US</dc:language>
  <cp:lastModifiedBy>Irins</cp:lastModifiedBy>
  <dcterms:modified xsi:type="dcterms:W3CDTF">2015-09-18T13:21:59Z</dcterms:modified>
  <cp:revision>28</cp:revision>
  <dc:subject/>
  <dc:title>От красоты науки к познанию</dc:title>
</cp:coreProperties>
</file>