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48E8-7A09-4479-8784-F89C78DB0B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0A7-0088-4A3E-B233-CFE6E0A95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DEF-AF89-4E45-ADE7-418161D4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4E0-70C3-48FC-9777-4E1C58E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B73-51BB-44F9-96DE-DE5F3A5E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931-1AA3-4D27-B2D8-AC5E4C9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CEE-942C-4383-9770-3A054193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97D-F10B-4312-A6D7-6C6AF04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014-2D94-4C7A-B5C7-995C92C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24B4-0CD6-46EE-A59D-FA8115DF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41AD-5843-42A7-8540-06DDFE63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2F3-24B6-4867-A7CD-8124977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0B6B-8979-4AF7-A071-3DAAABA5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F6F-D728-4104-B123-DE79DAA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52B-714D-4528-94DD-B6DF116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12F-3139-4D23-87DE-06CDA2E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8197-F5A2-4313-A902-FD06F43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2AA-FB58-4A21-9C9B-B14E1045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6F7E-1959-480A-8168-F70B673B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521B2-AE09-4213-AACF-9D8220F6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A0BF6-1B1E-4A86-83C0-426287C2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B08D7-1204-4D12-B41F-45D17C60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85995-122B-4500-8A43-A740F0AA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D8635-CF67-45D3-AB6A-22FDB17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D79-6C1D-47EF-A2C7-02E1B21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07676-396F-4393-900A-F4CD2C1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2919F-A808-4399-B9A8-0D8D4BA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2C713-FA6F-4E0D-A0CF-502A436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4A294-AE9F-4C89-B414-44CAC2C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EAA66-D1AA-4916-856F-D4E60DD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78FEB-D73D-4440-B5AC-95F3E52F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DBD0C-4366-4CA4-863F-FCDD265D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66D9-EEB3-404E-B573-C4CE1263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0DC3-B9D5-4665-A560-11194D2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8B8F-12B3-48B3-8117-29277528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DF7-70F4-4DDF-9EA5-3DBCD6C8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1AEE-3B9A-4875-838F-F351C4A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E7CD-1DE9-4283-ACB4-88CC4E4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25B9-BE4C-4A2D-8707-E37052D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5F71-374C-4D55-8DA1-D12E834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CD7C-495C-4CD8-AB6B-1F40E13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8B6C-26AE-47C0-BB4D-FF3C539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68B8-026D-4A36-AE02-66A5C88F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F564-4389-455C-8A88-B1EF2439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3655-0801-4610-B8F6-D60DBAA5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955F4-0B2F-46F8-9C1B-9CF36907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28A-A8E6-4339-9F3A-67EEE9F0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05A36-DE00-415C-897F-1B2D876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CB31E-851D-4517-9D5A-B712E1E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D2A20-7D28-4D7C-A495-995BD863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D1990-EF3A-4B0E-8008-1CB65198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FE9AD-89DA-4424-96F6-0F6A8BE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709F7-20E4-491B-8AB0-6CAE880B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3384C-71E8-4FA8-8724-EB01887E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44D36-0BA8-4428-B1B0-A5E9A1B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74466-025F-4090-B31F-BCCA0EF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E4E40-AC72-4ECA-A535-2A6B3394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CA8-1F5B-4F12-9932-EED8C12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2F9D1-7240-4344-9D50-5B2FFB15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5F461-D60F-482A-8FA6-E9120BEC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6332A-165E-4DF5-B0D1-9427AF0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6A227-6805-42D7-8668-E3608EE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55BB9-F76A-4C28-99E2-1020F192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F4F8F-72BB-4F47-8DC4-B97902A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E18DA-BA8C-413A-AF7C-158DB00D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A24B6-2E12-4B04-83D1-5E983D9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009FE-B564-4739-97A0-20AC0D5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BE3F6-2F29-4CA3-A081-EFF1476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0D5-558A-4870-8976-783F53F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7EB16-4C97-4B20-B302-530A138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766E2-DF6D-42B8-B7B4-5CD474E4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93626-CE5F-4AD2-9083-FFD1D513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B33C6-507C-4F32-828A-0A51407A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80A2F-A65E-4C1F-ACBB-CAF1F2B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4F74F-7180-42BB-A6B4-C2B1D270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1DB7B-EA9E-4F52-8FC3-D21E0A5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5A48A-619A-45A3-9DB7-3C4805F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E2AA7-920E-4674-98B1-07CD592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ABD86-AE30-46B0-9C2A-2BE7D43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229-CB70-48A8-BB24-543399B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14EEB-4519-4798-8AF3-1597967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EA38D-0983-492A-88C5-BC1FF9C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2AF8A-A166-455C-8DA0-69A81A6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0952B-8B5D-4EF6-885D-54582787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02AAD-2E98-4BDA-8053-F03B6DD9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6FA-D77C-4250-B14A-27EE2E5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8AC6-4918-46A4-A551-7E3BCD5B72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71A-3E7F-4CB0-AF8E-3B2D659723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A90-C36D-42F9-8CE2-5CCD3A3D8E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D2B-D1F9-4AD9-880D-0825A466D6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6B1-FB3C-48E4-ADFF-473DA453B2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65ED-0E86-4E9E-A5D6-68E71227B5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2DA-107B-48BF-B491-15109064F39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ОТ КРАСОТЫ НАУКИ – К ТВОРЧЕСТВУ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57200" y="2643120"/>
            <a:ext cx="77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Все на свете сказано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Несказанного нет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И все же где-то светитс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Несказанного свет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Gaudeamus.mp3" descr=""/>
          <p:cNvPicPr/>
          <p:nvPr/>
        </p:nvPicPr>
        <p:blipFill>
          <a:blip r:embed="rId1"/>
          <a:stretch/>
        </p:blipFill>
        <p:spPr>
          <a:xfrm>
            <a:off x="2142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03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АКС-КАРЛ-ЭРНСТ-ЛЮДВИГ ПЛАНК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1858 - 194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Содержимое 5" descr="plank.JPG"/>
          <p:cNvPicPr/>
          <p:nvPr/>
        </p:nvPicPr>
        <p:blipFill>
          <a:blip r:embed="rId1"/>
          <a:stretch/>
        </p:blipFill>
        <p:spPr>
          <a:xfrm>
            <a:off x="500040" y="1714680"/>
            <a:ext cx="3571920" cy="472248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form1.gif"/>
          <p:cNvPicPr/>
          <p:nvPr/>
        </p:nvPicPr>
        <p:blipFill>
          <a:blip r:embed="rId2"/>
          <a:stretch/>
        </p:blipFill>
        <p:spPr>
          <a:xfrm>
            <a:off x="4714920" y="2714760"/>
            <a:ext cx="3643200" cy="3589200"/>
          </a:xfrm>
          <a:prstGeom prst="rect">
            <a:avLst/>
          </a:prstGeom>
          <a:ln w="0">
            <a:noFill/>
          </a:ln>
        </p:spPr>
      </p:pic>
      <p:pic>
        <p:nvPicPr>
          <p:cNvPr id="387" name="organ01.mp3" descr=""/>
          <p:cNvPicPr/>
          <p:nvPr/>
        </p:nvPicPr>
        <p:blipFill>
          <a:blip r:embed="rId3"/>
          <a:stretch/>
        </p:blipFill>
        <p:spPr>
          <a:xfrm>
            <a:off x="928800" y="114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4"/>
          <a:stretch/>
        </p:blipFill>
        <p:spPr>
          <a:xfrm>
            <a:off x="4429080" y="1285920"/>
            <a:ext cx="4222800" cy="1900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046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ЛЕКСАНДР  ЛЕОНИДОВИЧ ЧИЖЕВСКИ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897 - 196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Содержимое 4" descr="чижев.jpg"/>
          <p:cNvPicPr/>
          <p:nvPr/>
        </p:nvPicPr>
        <p:blipFill>
          <a:blip r:embed="rId1"/>
          <a:stretch/>
        </p:blipFill>
        <p:spPr>
          <a:xfrm>
            <a:off x="285840" y="1285920"/>
            <a:ext cx="3219480" cy="442908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8" descr="люстра 2.jpeg"/>
          <p:cNvPicPr/>
          <p:nvPr/>
        </p:nvPicPr>
        <p:blipFill>
          <a:blip r:embed="rId2"/>
          <a:stretch/>
        </p:blipFill>
        <p:spPr>
          <a:xfrm>
            <a:off x="5857920" y="1214280"/>
            <a:ext cx="2529000" cy="285768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люстра.jpeg"/>
          <p:cNvPicPr/>
          <p:nvPr/>
        </p:nvPicPr>
        <p:blipFill>
          <a:blip r:embed="rId3"/>
          <a:stretch/>
        </p:blipFill>
        <p:spPr>
          <a:xfrm>
            <a:off x="3500280" y="2703600"/>
            <a:ext cx="2714760" cy="36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МИХАИЛ ВАСИЛЬЕВИЧ ЛОМОНОС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                      1711 - 176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6" descr="250px-Lomonosov_(2).jpg"/>
          <p:cNvPicPr/>
          <p:nvPr/>
        </p:nvPicPr>
        <p:blipFill>
          <a:blip r:embed="rId1"/>
          <a:stretch/>
        </p:blipFill>
        <p:spPr>
          <a:xfrm>
            <a:off x="214200" y="1571760"/>
            <a:ext cx="4167360" cy="50004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11" descr="мгу.jpeg"/>
          <p:cNvPicPr/>
          <p:nvPr/>
        </p:nvPicPr>
        <p:blipFill>
          <a:blip r:embed="rId2"/>
          <a:stretch/>
        </p:blipFill>
        <p:spPr>
          <a:xfrm>
            <a:off x="4572000" y="1500120"/>
            <a:ext cx="3840120" cy="511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5800" y="0"/>
            <a:ext cx="442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avto_self.jpg"/>
          <p:cNvPicPr/>
          <p:nvPr/>
        </p:nvPicPr>
        <p:blipFill>
          <a:blip r:embed="rId1"/>
          <a:stretch/>
        </p:blipFill>
        <p:spPr>
          <a:xfrm>
            <a:off x="428760" y="714240"/>
            <a:ext cx="3571920" cy="53881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4"/>
          <p:cNvSpPr/>
          <p:nvPr/>
        </p:nvSpPr>
        <p:spPr>
          <a:xfrm>
            <a:off x="4071960" y="16430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Леонардо да Вин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(Leonardo da Vinci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(1452 - 15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ВИТРУВИАНСКИЙ ЧЕЛОВЕК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5" descr="vitruvian-man.jpg"/>
          <p:cNvPicPr/>
          <p:nvPr/>
        </p:nvPicPr>
        <p:blipFill>
          <a:blip r:embed="rId1"/>
          <a:stretch/>
        </p:blipFill>
        <p:spPr>
          <a:xfrm>
            <a:off x="2459160" y="1600200"/>
            <a:ext cx="3463920" cy="48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одержимое 3" descr="тайное вечере.jpg"/>
          <p:cNvPicPr/>
          <p:nvPr/>
        </p:nvPicPr>
        <p:blipFill>
          <a:blip r:embed="rId1"/>
          <a:stretch/>
        </p:blipFill>
        <p:spPr>
          <a:xfrm>
            <a:off x="214200" y="642960"/>
            <a:ext cx="8529840" cy="489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Содержимое 6" descr="Дама с горностаем.jpg"/>
          <p:cNvPicPr/>
          <p:nvPr/>
        </p:nvPicPr>
        <p:blipFill>
          <a:blip r:embed="rId1"/>
          <a:stretch/>
        </p:blipFill>
        <p:spPr>
          <a:xfrm>
            <a:off x="571680" y="857160"/>
            <a:ext cx="3352680" cy="4600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Джоконда.jpg"/>
          <p:cNvPicPr/>
          <p:nvPr/>
        </p:nvPicPr>
        <p:blipFill>
          <a:blip r:embed="rId2"/>
          <a:stretch/>
        </p:blipFill>
        <p:spPr>
          <a:xfrm>
            <a:off x="4643280" y="1785960"/>
            <a:ext cx="350208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Содержимое 4" descr="вертолет.jpg"/>
          <p:cNvPicPr/>
          <p:nvPr/>
        </p:nvPicPr>
        <p:blipFill>
          <a:blip r:embed="rId1"/>
          <a:stretch/>
        </p:blipFill>
        <p:spPr>
          <a:xfrm>
            <a:off x="214200" y="285840"/>
            <a:ext cx="4357800" cy="514332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5" descr="парашют.jpg"/>
          <p:cNvPicPr/>
          <p:nvPr/>
        </p:nvPicPr>
        <p:blipFill>
          <a:blip r:embed="rId2"/>
          <a:stretch/>
        </p:blipFill>
        <p:spPr>
          <a:xfrm>
            <a:off x="4643280" y="357120"/>
            <a:ext cx="3857760" cy="583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ДМИТРИЙ ИВАНОВИЧ МЕНДЕЛЕЕВ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834 - 1907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Содержимое 4" descr="таблица.jpg"/>
          <p:cNvPicPr/>
          <p:nvPr/>
        </p:nvPicPr>
        <p:blipFill>
          <a:blip r:embed="rId1"/>
          <a:stretch/>
        </p:blipFill>
        <p:spPr>
          <a:xfrm>
            <a:off x="642960" y="1428840"/>
            <a:ext cx="7353360" cy="483084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5" descr="Дмитрий_Иванович_Менделеев_6.jpg"/>
          <p:cNvPicPr/>
          <p:nvPr/>
        </p:nvPicPr>
        <p:blipFill>
          <a:blip r:embed="rId2"/>
          <a:stretch/>
        </p:blipFill>
        <p:spPr>
          <a:xfrm>
            <a:off x="4643280" y="1500120"/>
            <a:ext cx="3611880" cy="46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entury Schoolbook"/>
              </a:rPr>
              <a:t>АЛЬБЕРТ ЭЙНШТЕЙН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1879 - 1955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4" descr="fun2.jpg"/>
          <p:cNvPicPr/>
          <p:nvPr/>
        </p:nvPicPr>
        <p:blipFill>
          <a:blip r:embed="rId1"/>
          <a:stretch/>
        </p:blipFill>
        <p:spPr>
          <a:xfrm>
            <a:off x="500040" y="1714680"/>
            <a:ext cx="4145040" cy="388620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7" descr="in3.jpg"/>
          <p:cNvPicPr/>
          <p:nvPr/>
        </p:nvPicPr>
        <p:blipFill>
          <a:blip r:embed="rId2"/>
          <a:stretch/>
        </p:blipFill>
        <p:spPr>
          <a:xfrm>
            <a:off x="5143680" y="1116000"/>
            <a:ext cx="3149280" cy="5027760"/>
          </a:xfrm>
          <a:prstGeom prst="rect">
            <a:avLst/>
          </a:prstGeom>
          <a:ln w="0">
            <a:noFill/>
          </a:ln>
        </p:spPr>
      </p:pic>
      <p:pic>
        <p:nvPicPr>
          <p:cNvPr id="377" name="mozart_malenkaya_nochnaya_serenada.mp3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331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Содержимое 6" descr="last.jpg"/>
          <p:cNvPicPr/>
          <p:nvPr/>
        </p:nvPicPr>
        <p:blipFill>
          <a:blip r:embed="rId1"/>
          <a:stretch/>
        </p:blipFill>
        <p:spPr>
          <a:xfrm>
            <a:off x="428760" y="0"/>
            <a:ext cx="8143920" cy="63133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3371760" cy="1219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1785960" y="214200"/>
            <a:ext cx="7000920" cy="253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6:44:26Z</dcterms:created>
  <dc:creator>Ирина Викторовна</dc:creator>
  <dc:description/>
  <dc:language>en-US</dc:language>
  <cp:lastModifiedBy>Irins</cp:lastModifiedBy>
  <dcterms:modified xsi:type="dcterms:W3CDTF">2015-09-18T13:21:59Z</dcterms:modified>
  <cp:revision>28</cp:revision>
  <dc:subject/>
  <dc:title>От красоты науки к познанию</dc:title>
</cp:coreProperties>
</file>