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30.png" ContentType="image/png"/>
  <Override PartName="/ppt/media/image37.jpeg" ContentType="image/jpeg"/>
  <Override PartName="/ppt/media/image32.png" ContentType="image/png"/>
  <Override PartName="/ppt/media/image7.png" ContentType="image/png"/>
  <Override PartName="/ppt/media/image34.png" ContentType="image/png"/>
  <Override PartName="/ppt/media/image9.png" ContentType="image/png"/>
  <Override PartName="/ppt/media/image36.png" ContentType="image/png"/>
  <Override PartName="/ppt/media/image12.png" ContentType="image/png"/>
  <Override PartName="/ppt/media/image1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C4F-8EBD-44E6-87A3-7612A72F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FE9-9D55-400B-BBFF-F26A9829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265-A4C0-4755-A73C-FC52B9A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A52-4A1D-4543-9466-30B8A503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AD9-0741-4972-BD4F-661C399D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CF4A-9074-4210-8A53-15D632B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F359-0721-408C-BB7F-B89C40AB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A697-40C5-48A0-92D0-AC7C998B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62C3-DAA8-45DD-8D39-601DE0FB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176E-DA4B-4038-BF75-2AED90CC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6C38-CCC5-4470-B7FA-E486BD48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22A-22B8-47A6-92F8-95D2E3D2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6060-5876-4C1B-924F-DF2255C4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C90A-2852-4D29-9E02-7DB582C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B1DF-839A-4CDF-81ED-CF47A25D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94D4-BEDF-4608-AA9F-BD7037ED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F701-EC44-4352-BC8B-DFA779B2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267D-A31E-4724-9B89-FE708CA6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3BCBD-E472-415B-9D30-9DC61D43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1544-0676-4CE7-A1BA-E0259E2C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406C-E45A-4857-B846-EFD22E23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F3E6-C543-4DCA-8A3A-E57D962B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2B0-44BC-4125-8E73-3DAFD66D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4338-1865-402F-952D-B9719BB9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A900-0C55-46C0-A19E-5FF17FAC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FEC4-53EC-4B90-85AA-8904C754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B20D-4517-48F2-B93A-C4782DBE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393D-505A-4E5B-871C-47F46906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65D4-B01C-4344-B0CE-487CF764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6428-7D82-460B-B7D1-AA3A4405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C760-2A47-4945-8A49-4EF43718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E271-E89F-4D99-B5C6-9C3E926F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4E0A-850A-4D1C-A2F3-70990D61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4ED-FF2E-45C0-A425-A92CB28C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1E05-BBC8-420D-A5E9-511727B0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BF72-80A8-4860-ADA2-E0F041DD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4AE7D-390C-4DFD-A4C2-9E3F580B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7D83-C981-4262-B2C0-E6FF70BD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5337-3C10-49BF-8A56-7CB61D0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3B8DA-7A98-43CD-AF37-E921AA0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03A9-4F7C-4D9B-8C95-358BE973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4D6C-35B5-45FB-BC4A-03AD197E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A5EA-9964-4DE6-8D5D-78A3EA20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E625C-4703-4A39-89DA-C0328A6F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155-40EE-44FB-9838-AFBD6782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B3C17-FB72-4AAA-9CAD-897A1330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83FAE-88BE-4C92-93A0-02566AC7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FC62D-D886-432C-A9E7-2114A39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8F8A5-AC52-4CAD-8CE3-8119191C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12E23-47FC-4B59-A9E3-A4060E3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60C2-0415-47AB-AC47-88D9987C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E42F4-B62B-4911-9A7D-03919E9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8CF45-441D-4895-8494-94A40037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8F3AE-D351-491B-BC9B-4953A999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6E06E-0BDB-4A2C-BEB2-AD26828A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DA7-2F41-4F00-9FB4-24ABE213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36B02-D7BF-4D4B-819C-E6C05CA1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3FD-5C05-48AF-BE93-C11845D7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41A-4591-4B7D-ADEF-D982635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2C6-CFCB-40C5-BCBE-F6D375E8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0AA-81B1-4390-857E-94D2724D4AD2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79A2-3913-4B03-87AD-F529169CB48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88D7-A781-484B-A9E3-5D380C1B3924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34F3-565C-4A21-BBD1-9552214DE3A9}" type="slidenum">
              <a:rPr b="0" lang="ru-RU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6A04-B097-43D8-B07E-D3CAB2F69413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560680" y="334800"/>
            <a:ext cx="6832440" cy="3932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2" name="Рисунок 4" descr="ebc64426d26d.jpg"/>
          <p:cNvPicPr/>
          <p:nvPr/>
        </p:nvPicPr>
        <p:blipFill>
          <a:blip r:embed="rId2"/>
          <a:stretch/>
        </p:blipFill>
        <p:spPr>
          <a:xfrm>
            <a:off x="0" y="4076640"/>
            <a:ext cx="2556000" cy="266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6840" y="1609200"/>
            <a:ext cx="7427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ритерии должны быть однозначными и предельно чёткими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Гибкость и вариативность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Естественность процесса контроля и оценки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Приоритет самооценки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3" descr="C:\Documents and Settings\Администратор\Мои документы\Мои рисунки\школа\3.gif"/>
          <p:cNvPicPr/>
          <p:nvPr/>
        </p:nvPicPr>
        <p:blipFill>
          <a:blip r:embed="rId2"/>
          <a:stretch/>
        </p:blipFill>
        <p:spPr>
          <a:xfrm>
            <a:off x="7164360" y="4869000"/>
            <a:ext cx="1979640" cy="216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Цукерман Галина Анатолье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txBody>
          <a:bodyPr anchor="ctr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ведение в школьную жизн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Содержимое 6" descr="IMG_5870.jpg"/>
          <p:cNvPicPr/>
          <p:nvPr/>
        </p:nvPicPr>
        <p:blipFill>
          <a:blip r:embed="rId2"/>
          <a:stretch/>
        </p:blipFill>
        <p:spPr>
          <a:xfrm>
            <a:off x="674640" y="171144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3"/>
          <a:stretch/>
        </p:blipFill>
        <p:spPr>
          <a:xfrm>
            <a:off x="4498920" y="1711440"/>
            <a:ext cx="287964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6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8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дение «Дневника моего роста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при самооценке «волшебных линеече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 оценка учител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 оценка учени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таблиц учета своих знаний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оценочных листов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Рисунок 4" descr=""/>
          <p:cNvPicPr/>
          <p:nvPr/>
        </p:nvPicPr>
        <p:blipFill>
          <a:blip r:embed="rId2"/>
          <a:srcRect l="6717" t="9021" r="4388" b="5409"/>
          <a:stretch/>
        </p:blipFill>
        <p:spPr>
          <a:xfrm>
            <a:off x="1116000" y="3174840"/>
            <a:ext cx="250020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255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499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артова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иагностические («вход» и «выход»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верочны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тоговы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4" descr="C:\Documents and Settings\Администратор\Мои документы\Мои рисунки\школа\peremena.jpg"/>
          <p:cNvPicPr/>
          <p:nvPr/>
        </p:nvPicPr>
        <p:blipFill>
          <a:blip r:embed="rId2"/>
          <a:stretch/>
        </p:blipFill>
        <p:spPr>
          <a:xfrm>
            <a:off x="4067280" y="378936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724212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468360" y="1484280"/>
          <a:ext cx="7570800" cy="4389480"/>
        </p:xfrm>
        <a:graphic>
          <a:graphicData uri="http://schemas.openxmlformats.org/drawingml/2006/table">
            <a:tbl>
              <a:tblPr/>
              <a:tblGrid>
                <a:gridCol w="1892160"/>
                <a:gridCol w="3841920"/>
                <a:gridCol w="612720"/>
                <a:gridCol w="122400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ои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записывать многозначные числа в «столби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Запиши числа в «столбик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63+321      456+380     24+6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жу переполнение разряд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Покажи стрелочками какие разряды переполняю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5        8752        70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25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+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63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+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96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42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457200" y="1609560"/>
          <a:ext cx="7238880" cy="4491360"/>
        </p:xfrm>
        <a:graphic>
          <a:graphicData uri="http://schemas.openxmlformats.org/drawingml/2006/table">
            <a:tbl>
              <a:tblPr/>
              <a:tblGrid>
                <a:gridCol w="1738440"/>
                <a:gridCol w="3528720"/>
                <a:gridCol w="863640"/>
                <a:gridCol w="110808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ои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находить правильную запись чисел «в столби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бята записывали многозначные числа  в «столбик». Кто из детей правильно справился с задание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вета      Алёша        М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находить правильно решённый прим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кой из данных примеров решён верн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)  8752    б)  8752     в)  8752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65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+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650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+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1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02       10302        10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8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108000" y="1609560"/>
          <a:ext cx="7993080" cy="3489480"/>
        </p:xfrm>
        <a:graphic>
          <a:graphicData uri="http://schemas.openxmlformats.org/drawingml/2006/table">
            <a:tbl>
              <a:tblPr/>
              <a:tblGrid>
                <a:gridCol w="2117520"/>
                <a:gridCol w="1108080"/>
                <a:gridCol w="2722680"/>
                <a:gridCol w="1042920"/>
                <a:gridCol w="100188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чеб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г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ожение многозначных чис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полни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59+236     3860+435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шение задач на увеличение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ньшение на несколько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Реши задач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57200" y="1609560"/>
          <a:ext cx="7238880" cy="2392560"/>
        </p:xfrm>
        <a:graphic>
          <a:graphicData uri="http://schemas.openxmlformats.org/drawingml/2006/table">
            <a:tbl>
              <a:tblPr/>
              <a:tblGrid>
                <a:gridCol w="5051520"/>
                <a:gridCol w="863640"/>
                <a:gridCol w="132372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ои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обозначать мягкость согласных звуков с помощью гласны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обозначать мягкость согласных с помощью –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ею обозначать границы предлож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3" descr="C:\Documents and Settings\Администратор\Мои документы\Мои рисунки\школа\untitled.bmp"/>
          <p:cNvPicPr/>
          <p:nvPr/>
        </p:nvPicPr>
        <p:blipFill>
          <a:blip r:embed="rId2"/>
          <a:stretch/>
        </p:blipFill>
        <p:spPr>
          <a:xfrm>
            <a:off x="4067280" y="4005360"/>
            <a:ext cx="3333600" cy="256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0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341360"/>
            <a:ext cx="74995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ждое задание несёт в себе определённое количество баллов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% высчитывается от количества набранных баллов за всю работ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имер, в работе 4 зад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1 зада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задача) – 4 бал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2 зада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решение уравнения) – 2 бал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3 зада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сложение мн.ч) – 3 бал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4 зада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вычитание мн.ч) – 3 балл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я работа это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12 баллов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12б-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100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еник заработал 10 баллов =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83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0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100% - 95%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очень высокий результа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94% - 75%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высокий результа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74% - 50%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средний результа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49% - 0%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-   низкий результа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3" descr="C:\Documents and Settings\Администратор\Мои документы\Мои рисунки\школа\ucheniki_w450_h468.jpg"/>
          <p:cNvPicPr/>
          <p:nvPr/>
        </p:nvPicPr>
        <p:blipFill>
          <a:blip r:embed="rId2"/>
          <a:stretch/>
        </p:blipFill>
        <p:spPr>
          <a:xfrm>
            <a:off x="2340000" y="3573360"/>
            <a:ext cx="3151080" cy="294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0" y="-55440"/>
            <a:ext cx="8296200" cy="1944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08000" y="1609200"/>
            <a:ext cx="7920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ак нормативный документ ориентирован на достижение основной цели общего среднего образования – становление ответственной, критически мыслящей личности, члена гражданского общества, человека, способного к адекватному целеполаганию, выбору и действию в условиях стремительно изменяющегося социально-культурного мира, провозглашающего образование как универсальную ценность и готового к его продолжению в течение всей жиз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468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00% - 95% - «5»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очень высокий результа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94% - 75% - «4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высокий результа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74% - 50% - «3»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средний результа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9% - 0% - «2»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низкий результа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3" descr="C:\Documents and Settings\Администратор\Мои документы\Мои рисунки\школа\156354400035cd4d67c11b88fa536846d4f81a94a5.jpg"/>
          <p:cNvPicPr/>
          <p:nvPr/>
        </p:nvPicPr>
        <p:blipFill>
          <a:blip r:embed="rId2"/>
          <a:stretch/>
        </p:blipFill>
        <p:spPr>
          <a:xfrm>
            <a:off x="5940360" y="4005360"/>
            <a:ext cx="2192400" cy="2219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Documents and Settings\Администратор\Мои документы\Мои рисунки\школа\5_%5B%5D.jpg"/>
          <p:cNvPicPr/>
          <p:nvPr/>
        </p:nvPicPr>
        <p:blipFill>
          <a:blip r:embed="rId3"/>
          <a:stretch/>
        </p:blipFill>
        <p:spPr>
          <a:xfrm>
            <a:off x="0" y="18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85680" y="103320"/>
            <a:ext cx="8120160" cy="1427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78920" y="1609200"/>
            <a:ext cx="8280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Реализация системно-деятельностного подхода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Наличие в ОУ основной образовательной программы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Новая система оценивания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Условия реализации основной образовательной программы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Инструкция о введении пятибалльной отметки в школе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Приказ СОВНАРКОМА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от 17 апреля 1944 года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84960" cy="1420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232" name="Содержимое 6" descr="post-15204-1251807867_thumb.jpg"/>
          <p:cNvPicPr/>
          <p:nvPr/>
        </p:nvPicPr>
        <p:blipFill>
          <a:blip r:embed="rId2"/>
          <a:stretch/>
        </p:blipFill>
        <p:spPr>
          <a:xfrm>
            <a:off x="468360" y="1700280"/>
            <a:ext cx="3521160" cy="459576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7" descr="dvoyky_.jpg"/>
          <p:cNvPicPr/>
          <p:nvPr/>
        </p:nvPicPr>
        <p:blipFill>
          <a:blip r:embed="rId3"/>
          <a:stretch/>
        </p:blipFill>
        <p:spPr>
          <a:xfrm>
            <a:off x="4178160" y="1700280"/>
            <a:ext cx="352116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2128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легко оценивать учителю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легко контролировать родителям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имулирует ученика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C:\Documents and Settings\Администратор\Мои документы\Мои рисунки\школа\watermark.jpg"/>
          <p:cNvPicPr/>
          <p:nvPr/>
        </p:nvPicPr>
        <p:blipFill>
          <a:blip r:embed="rId2"/>
          <a:stretch/>
        </p:blipFill>
        <p:spPr>
          <a:xfrm>
            <a:off x="5292720" y="3284640"/>
            <a:ext cx="2211480" cy="3394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Администратор\Мои документы\Мои рисунки\школа\5_%5B%5D.jpg"/>
          <p:cNvPicPr/>
          <p:nvPr/>
        </p:nvPicPr>
        <p:blipFill>
          <a:blip r:embed="rId3"/>
          <a:stretch/>
        </p:blipFill>
        <p:spPr>
          <a:xfrm>
            <a:off x="395280" y="189000"/>
            <a:ext cx="1368360" cy="156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7242120" cy="1073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907920"/>
            <a:ext cx="72388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е видно динами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Учитель в роли контролёр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х, дискомфор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убъективность оценивания учителем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е вырабатывается самооценк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C:\Documents and Settings\Администратор\Мои документы\Мои рисунки\школа\160251.jpg"/>
          <p:cNvPicPr/>
          <p:nvPr/>
        </p:nvPicPr>
        <p:blipFill>
          <a:blip r:embed="rId2"/>
          <a:stretch/>
        </p:blipFill>
        <p:spPr>
          <a:xfrm>
            <a:off x="4788000" y="4221000"/>
            <a:ext cx="3251160" cy="245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371520" y="-42840"/>
            <a:ext cx="7413480" cy="1427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Формирующее (текущее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существление оперативной  взаимосвязи между учителем и учениками в процессе обуч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нстатирующее (итоговое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пределить уровень подготовки учащих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Рисунок 4" descr="19153437_5328113_AVVv.gif"/>
          <p:cNvPicPr/>
          <p:nvPr/>
        </p:nvPicPr>
        <p:blipFill>
          <a:blip r:embed="rId2"/>
          <a:stretch/>
        </p:blipFill>
        <p:spPr>
          <a:xfrm>
            <a:off x="6629400" y="4508640"/>
            <a:ext cx="2514600" cy="220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0" y="1052640"/>
            <a:ext cx="8244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имулировать ответственность учащихся за свои образовательные результаты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гать учиться на своих ошибках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гать понять, что не получается и в какой степен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ределять наличие тех или иных умени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станавливать степень овладения умением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ценивать продвижение учащихся относительно самих себя, относительно своих прежних успехов и неудач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тивировать учащихся на достижение успех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ть действие контроля и оценки на основе выделенных критерие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Рисунок 3" descr="GirlonBooks.gif"/>
          <p:cNvPicPr/>
          <p:nvPr/>
        </p:nvPicPr>
        <p:blipFill>
          <a:blip r:embed="rId2"/>
          <a:stretch/>
        </p:blipFill>
        <p:spPr>
          <a:xfrm>
            <a:off x="8028000" y="5157720"/>
            <a:ext cx="1333440" cy="152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3:04:30Z</dcterms:created>
  <dc:creator>XP GAME 2008</dc:creator>
  <dc:description/>
  <dc:language>en-US</dc:language>
  <cp:lastModifiedBy>Алиса</cp:lastModifiedBy>
  <dcterms:modified xsi:type="dcterms:W3CDTF">2014-11-04T01:37:29Z</dcterms:modified>
  <cp:revision>97</cp:revision>
  <dc:subject/>
  <dc:title>Критериальное оценивание в начальной школе</dc:title>
</cp:coreProperties>
</file>