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.png" ContentType="image/png"/>
  <Override PartName="/ppt/media/image31.png" ContentType="image/png"/>
  <Override PartName="/ppt/media/image28.png" ContentType="image/png"/>
  <Override PartName="/ppt/media/image10.jpeg" ContentType="image/jpeg"/>
  <Override PartName="/ppt/media/image29.jpeg" ContentType="image/jpeg"/>
  <Override PartName="/ppt/media/image5.png" ContentType="image/png"/>
  <Override PartName="/ppt/media/image35.png" ContentType="image/png"/>
  <Override PartName="/ppt/media/image23.png" ContentType="image/png"/>
  <Override PartName="/ppt/media/image18.gif" ContentType="image/gif"/>
  <Override PartName="/ppt/media/image13.jpeg" ContentType="image/jpeg"/>
  <Override PartName="/ppt/media/image20.gif" ContentType="image/gif"/>
  <Override PartName="/ppt/media/image30.png" ContentType="image/png"/>
  <Override PartName="/ppt/media/image37.jpeg" ContentType="image/jpeg"/>
  <Override PartName="/ppt/media/image32.png" ContentType="image/png"/>
  <Override PartName="/ppt/media/image7.png" ContentType="image/png"/>
  <Override PartName="/ppt/media/image34.png" ContentType="image/png"/>
  <Override PartName="/ppt/media/image9.png" ContentType="image/png"/>
  <Override PartName="/ppt/media/image36.png" ContentType="image/png"/>
  <Override PartName="/ppt/media/image12.png" ContentType="image/png"/>
  <Override PartName="/ppt/media/image11.jpeg" ContentType="image/jpeg"/>
  <Override PartName="/ppt/media/image38.png" ContentType="image/png"/>
  <Override PartName="/ppt/media/image3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18AC-4F88-4225-B6D5-4431175BF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AD2B-8D5C-42A9-9988-D8F18ABB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9AC2-4CD4-4FBE-AB05-8560EEF63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B6B5-196A-400F-B070-4001A1A67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43ED-2614-477D-AE1A-6A0B93C86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2ED6-8138-4C60-B8BF-9967D922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340C-BB1D-4160-A165-4D3495AC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0051-2E06-47A4-ACF5-8AAE7389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59E8D-30EC-4404-A6EF-9A898690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BEDB-F982-4521-B047-5B07B610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C72D-BE00-4976-B132-C1AA1F5D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C639-CD20-44CE-B87F-EEF6187F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24D14-91CF-4EFB-9650-91528532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59F8C-C7E5-483B-BFA8-6DE3D8DC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458D-195F-44DE-B496-8BD82494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A918-13EA-4F64-8B84-6F4276073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A80C-1157-4205-B79C-67576B77C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EAB3D-38F7-416C-A497-E7241BDC6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15F72-6C20-40E4-A4C1-B1F2A097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84B02-D8D4-472E-BB00-D684D71C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A3685-3D53-46FF-8DC6-33F1863F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CDC25-3CBA-4C67-8E0C-B0129543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EFAB-BC6E-4263-A54A-C39322D8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F844F-7AD7-445B-8C85-0E4C1B2D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5C70C-CF6F-4FA9-8C09-7CC0B4E2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78BEC-C1A7-478F-89BF-995FB01B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E3CC5-839D-49BA-A765-12A22C5C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0C598-F099-458F-888A-9C7679C0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00627-34F6-4AAB-B9EB-E28CD99EA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78594-8A4B-46C7-9AD9-D77F45B2C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7CC4E-1B45-43B8-8B15-6E52F54A2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E328F-F6DB-48A3-A395-BB1564C2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B1FB7-A9FF-46C4-98B0-81BE6B9C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18D3-416F-4054-836D-12616599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8A8E1-4F46-4928-BC29-CE538E42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C7801-51A2-41D4-96AF-AA8CD898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F87AA-E3FE-40FB-8FBF-AC14EE9F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CA0FB-F4C8-47A9-98A8-246AF3E8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066F3-1A85-49F5-949F-EC31C5D2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33BD3-098B-486A-96F5-B79DBD91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16806-1BFD-4926-8520-6D6CC574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A0FEC-0BE8-4988-9AF9-3328D17A4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24BF7-6404-415D-9BE0-5E665EA5D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AC139-39A6-4E92-BE75-3A723374B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437C-07C2-4126-BFDA-B2A7B46B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0E3DE-3149-4DC2-AAE2-27319534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904A5-DA4F-4614-820B-87560ECC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CC1B5-52EF-44AF-9195-A1FCC039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14459-EA09-4D83-8DE2-DD6C8E8C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EA2FE-6909-40EE-B6A5-EA921090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4D98E-39ED-48F2-A804-FE269263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058E2-14BD-462C-BBF7-12A6E6C3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597C7-60BB-4AF9-B339-D084D8A2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0916F-7D21-4715-BF42-9CAA601E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B3126-3083-401D-B62C-FB3DB870B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99C1-76CC-49DE-A357-62C807FA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B1713-81B8-4F1D-861C-26661E129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E435-597C-4622-A9E1-9942CA6D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B304-A9FE-46C1-9FCB-C0EE2E48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7C7E-DBB9-4025-9C34-E39DF7F1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9191-68BC-492C-AE4A-FE8D04AD4ACD}" type="slidenum">
              <a:rPr b="0" lang="ru-RU" sz="1100" spc="-1" strike="noStrike">
                <a:solidFill>
                  <a:srgbClr val="1f497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31E8-93A3-4D46-A48F-A72D596398B3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F373-6900-44E6-A9F8-3207FB0F7F2A}" type="slidenum">
              <a:rPr b="0" lang="ru-RU" sz="1100" spc="-1" strike="noStrike">
                <a:solidFill>
                  <a:srgbClr val="1f497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eece1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DD6D-EFF0-4FAB-B6AB-53F6AA54F468}" type="slidenum">
              <a:rPr b="0" lang="ru-RU" sz="11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A073-F888-483F-A6FF-A88B1CB55C9C}" type="slidenum">
              <a:rPr b="0" lang="ru-RU" sz="1100" spc="-1" strike="noStrike">
                <a:solidFill>
                  <a:srgbClr val="1f497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2560680" y="334800"/>
            <a:ext cx="6832440" cy="39322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2" name="Рисунок 4" descr="ebc64426d26d.jpg"/>
          <p:cNvPicPr/>
          <p:nvPr/>
        </p:nvPicPr>
        <p:blipFill>
          <a:blip r:embed="rId2"/>
          <a:stretch/>
        </p:blipFill>
        <p:spPr>
          <a:xfrm>
            <a:off x="0" y="4076640"/>
            <a:ext cx="2556000" cy="2665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457200" y="298440"/>
            <a:ext cx="7242120" cy="14209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456840" y="1609200"/>
            <a:ext cx="7427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Критерии должны быть однозначными и предельно чёткими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Гибкость и вариативность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Естественность процесса контроля и оценки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Приоритет самооценки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0" name="Picture 3" descr="C:\Documents and Settings\Администратор\Мои документы\Мои рисунки\школа\3.gif"/>
          <p:cNvPicPr/>
          <p:nvPr/>
        </p:nvPicPr>
        <p:blipFill>
          <a:blip r:embed="rId2"/>
          <a:stretch/>
        </p:blipFill>
        <p:spPr>
          <a:xfrm>
            <a:off x="7164360" y="4869000"/>
            <a:ext cx="1979640" cy="2160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4317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56840" y="5867280"/>
            <a:ext cx="3521160" cy="457200"/>
          </a:xfrm>
          <a:prstGeom prst="rect">
            <a:avLst/>
          </a:prstGeom>
          <a:noFill/>
          <a:ln w="12600">
            <a:solidFill>
              <a:srgbClr val="1f497d"/>
            </a:solidFill>
            <a:miter/>
          </a:ln>
        </p:spPr>
        <p:txBody>
          <a:bodyPr anchor="ctr">
            <a:normAutofit fontScale="8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Цукерман Галина Анатольевн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177800" y="5867280"/>
            <a:ext cx="3521160" cy="457200"/>
          </a:xfrm>
          <a:prstGeom prst="rect">
            <a:avLst/>
          </a:prstGeom>
          <a:noFill/>
          <a:ln w="12600">
            <a:solidFill>
              <a:srgbClr val="1f497d"/>
            </a:solidFill>
            <a:miter/>
          </a:ln>
        </p:spPr>
        <p:txBody>
          <a:bodyPr anchor="ctr">
            <a:normAutofit fontScale="8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Введение в школьную жизнь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4" name="Содержимое 6" descr="IMG_5870.jpg"/>
          <p:cNvPicPr/>
          <p:nvPr/>
        </p:nvPicPr>
        <p:blipFill>
          <a:blip r:embed="rId2"/>
          <a:stretch/>
        </p:blipFill>
        <p:spPr>
          <a:xfrm>
            <a:off x="674640" y="1711440"/>
            <a:ext cx="3086280" cy="41148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"/>
          <p:cNvPicPr/>
          <p:nvPr/>
        </p:nvPicPr>
        <p:blipFill>
          <a:blip r:embed="rId3"/>
          <a:stretch/>
        </p:blipFill>
        <p:spPr>
          <a:xfrm>
            <a:off x="4498920" y="1711440"/>
            <a:ext cx="2879640" cy="4114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Заголовок 6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4382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едение «Дневника моего роста»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спользование при самооценке «волшебных линеечек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  оценка учител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  оценка ученик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спользование таблиц учета своих знаний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спользование оценочных листов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8" name="Рисунок 4" descr=""/>
          <p:cNvPicPr/>
          <p:nvPr/>
        </p:nvPicPr>
        <p:blipFill>
          <a:blip r:embed="rId2"/>
          <a:srcRect l="6717" t="9021" r="4388" b="5409"/>
          <a:stretch/>
        </p:blipFill>
        <p:spPr>
          <a:xfrm>
            <a:off x="1116000" y="3174840"/>
            <a:ext cx="2500200" cy="1714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2556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57200" y="1609200"/>
            <a:ext cx="74995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Стартовая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Диагностические («вход» и «выход»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Проверочные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Итоговые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Портфолио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Picture 4" descr="C:\Documents and Settings\Администратор\Мои документы\Мои рисунки\школа\peremena.jpg"/>
          <p:cNvPicPr/>
          <p:nvPr/>
        </p:nvPicPr>
        <p:blipFill>
          <a:blip r:embed="rId2"/>
          <a:stretch/>
        </p:blipFill>
        <p:spPr>
          <a:xfrm>
            <a:off x="4067280" y="3789360"/>
            <a:ext cx="3809880" cy="2743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7242120" cy="153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3" name=""/>
          <p:cNvGraphicFramePr/>
          <p:nvPr/>
        </p:nvGraphicFramePr>
        <p:xfrm>
          <a:off x="468360" y="1484280"/>
          <a:ext cx="7570800" cy="4389480"/>
        </p:xfrm>
        <a:graphic>
          <a:graphicData uri="http://schemas.openxmlformats.org/drawingml/2006/table">
            <a:tbl>
              <a:tblPr/>
              <a:tblGrid>
                <a:gridCol w="1892160"/>
                <a:gridCol w="3841920"/>
                <a:gridCol w="612720"/>
                <a:gridCol w="1224000"/>
              </a:tblGrid>
              <a:tr h="3661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Мои ум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Оцен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о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мею записывать многозначные числа в «столбик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 Запиши числа в «столбик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763+321      456+380     24+65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ижу переполнение разряд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 Покажи стрелочками какие разряды переполняютс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45        8752        704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  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rebuchet MS"/>
                        </a:rPr>
                        <a:t>256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+ 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rebuchet MS"/>
                        </a:rPr>
                        <a:t>163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+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rebuchet MS"/>
                        </a:rPr>
                        <a:t>196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1" descr=""/>
          <p:cNvPicPr/>
          <p:nvPr/>
        </p:nvPicPr>
        <p:blipFill>
          <a:blip r:embed="rId1"/>
          <a:stretch/>
        </p:blipFill>
        <p:spPr>
          <a:xfrm>
            <a:off x="457200" y="231840"/>
            <a:ext cx="7242120" cy="1425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5" name=""/>
          <p:cNvGraphicFramePr/>
          <p:nvPr/>
        </p:nvGraphicFramePr>
        <p:xfrm>
          <a:off x="457200" y="1609560"/>
          <a:ext cx="7238880" cy="4491360"/>
        </p:xfrm>
        <a:graphic>
          <a:graphicData uri="http://schemas.openxmlformats.org/drawingml/2006/table">
            <a:tbl>
              <a:tblPr/>
              <a:tblGrid>
                <a:gridCol w="1738440"/>
                <a:gridCol w="3528720"/>
                <a:gridCol w="863640"/>
                <a:gridCol w="1108080"/>
              </a:tblGrid>
              <a:tr h="3661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Мои ум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Оцен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о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86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мею находить правильную запись чисел «в столбик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rebuchet MS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ебята записывали многозначные числа  в «столбик». Кто из детей правильно справился с заданием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вета      Алёша        Ма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мею находить правильно решённый приме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rebuchet MS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акой из данных примеров решён верно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а)  8752    б)  8752     в)  8752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 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rebuchet MS"/>
                        </a:rPr>
                        <a:t>165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+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rebuchet MS"/>
                        </a:rPr>
                        <a:t>1650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+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rebuchet MS"/>
                        </a:rPr>
                        <a:t>1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302       10302        104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382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7" name=""/>
          <p:cNvGraphicFramePr/>
          <p:nvPr/>
        </p:nvGraphicFramePr>
        <p:xfrm>
          <a:off x="108000" y="1609560"/>
          <a:ext cx="7993080" cy="3489480"/>
        </p:xfrm>
        <a:graphic>
          <a:graphicData uri="http://schemas.openxmlformats.org/drawingml/2006/table">
            <a:tbl>
              <a:tblPr/>
              <a:tblGrid>
                <a:gridCol w="2117520"/>
                <a:gridCol w="1108080"/>
                <a:gridCol w="2722680"/>
                <a:gridCol w="1042920"/>
                <a:gridCol w="1001880"/>
              </a:tblGrid>
              <a:tr h="3661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Учебные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рог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оце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оце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че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чи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ложение многозначных чис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rebuchet MS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ыполни действ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459+236     3860+435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ешение задач на увеличение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меньшение на несколько едини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 Реши задач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Заголовок 1" descr=""/>
          <p:cNvPicPr/>
          <p:nvPr/>
        </p:nvPicPr>
        <p:blipFill>
          <a:blip r:embed="rId1"/>
          <a:stretch/>
        </p:blipFill>
        <p:spPr>
          <a:xfrm>
            <a:off x="457200" y="298440"/>
            <a:ext cx="7242120" cy="116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9" name=""/>
          <p:cNvGraphicFramePr/>
          <p:nvPr/>
        </p:nvGraphicFramePr>
        <p:xfrm>
          <a:off x="457200" y="1609560"/>
          <a:ext cx="7238880" cy="2392560"/>
        </p:xfrm>
        <a:graphic>
          <a:graphicData uri="http://schemas.openxmlformats.org/drawingml/2006/table">
            <a:tbl>
              <a:tblPr/>
              <a:tblGrid>
                <a:gridCol w="5051520"/>
                <a:gridCol w="863640"/>
                <a:gridCol w="1323720"/>
              </a:tblGrid>
              <a:tr h="3715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Мои ум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Оцен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о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мею обозначать мягкость согласных звуков с помощью гласны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мею обозначать мягкость согласных с помощью –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мею обозначать границы предложен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270" name="Picture 3" descr="C:\Documents and Settings\Администратор\Мои документы\Мои рисунки\школа\untitled.bmp"/>
          <p:cNvPicPr/>
          <p:nvPr/>
        </p:nvPicPr>
        <p:blipFill>
          <a:blip r:embed="rId2"/>
          <a:stretch/>
        </p:blipFill>
        <p:spPr>
          <a:xfrm>
            <a:off x="4067280" y="4005360"/>
            <a:ext cx="3333600" cy="2562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700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457200" y="1341360"/>
            <a:ext cx="74995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аждое задание несёт в себе определённое количество баллов.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% высчитывается от количества набранных баллов за всю работу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пример, в работе 4 задани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rebuchet MS"/>
              </a:rPr>
              <a:t>1 задание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(задача) – 4 балл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rebuchet MS"/>
              </a:rPr>
              <a:t>2 задание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(решение уравнения) – 2 балл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rebuchet MS"/>
              </a:rPr>
              <a:t>3 задание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(сложение мн.ч) – 3 балл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rebuchet MS"/>
              </a:rPr>
              <a:t>4 задание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(вычитание мн.ч) – 3 балла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ся работа это </a:t>
            </a:r>
            <a:r>
              <a:rPr b="0" lang="ru-RU" sz="2600" spc="-1" strike="noStrike">
                <a:solidFill>
                  <a:srgbClr val="0070c0"/>
                </a:solidFill>
                <a:latin typeface="Trebuchet MS"/>
              </a:rPr>
              <a:t>12 баллов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12б-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100%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Ученик заработал 10 баллов = 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83%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r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8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8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700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rebuchet MS"/>
              </a:rPr>
              <a:t>100% - 95% 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-очень высокий результат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rebuchet MS"/>
              </a:rPr>
              <a:t>94% - 75% 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- высокий результат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rebuchet MS"/>
              </a:rPr>
              <a:t>74% - 50% 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- средний результат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rebuchet MS"/>
              </a:rPr>
              <a:t>49% - 0% 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-   низкий результат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5" name="Picture 3" descr="C:\Documents and Settings\Администратор\Мои документы\Мои рисунки\школа\ucheniki_w450_h468.jpg"/>
          <p:cNvPicPr/>
          <p:nvPr/>
        </p:nvPicPr>
        <p:blipFill>
          <a:blip r:embed="rId2"/>
          <a:stretch/>
        </p:blipFill>
        <p:spPr>
          <a:xfrm>
            <a:off x="2340000" y="3573360"/>
            <a:ext cx="3151080" cy="2948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77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77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" dur="77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77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7" dur="77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9" dur="77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1" dur="77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77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8" dur="77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0" dur="77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2" dur="77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77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9" dur="77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1" dur="77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3" dur="77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0" y="-55440"/>
            <a:ext cx="8296200" cy="1944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108000" y="1609200"/>
            <a:ext cx="79200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как нормативный документ ориентирован на достижение основной цели общего среднего образования – становление ответственной, критически мыслящей личности, члена гражданского общества, человека, способного к адекватному целеполаганию, выбору и действию в условиях стремительно изменяющегося социально-культурного мира, провозглашающего образование как универсальную ценность и готового к его продолжению в течение всей жизн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1" descr=""/>
          <p:cNvPicPr/>
          <p:nvPr/>
        </p:nvPicPr>
        <p:blipFill>
          <a:blip r:embed="rId1"/>
          <a:stretch/>
        </p:blipFill>
        <p:spPr>
          <a:xfrm>
            <a:off x="457200" y="231840"/>
            <a:ext cx="7242120" cy="14684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100% - 95% - «5»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очень высокий результат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94% - 75% - «4»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высокий результат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74% - 50% - «3»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средний результат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49% - 0% - «2»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низкий результат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8" name="Picture 3" descr="C:\Documents and Settings\Администратор\Мои документы\Мои рисунки\школа\156354400035cd4d67c11b88fa536846d4f81a94a5.jpg"/>
          <p:cNvPicPr/>
          <p:nvPr/>
        </p:nvPicPr>
        <p:blipFill>
          <a:blip r:embed="rId2"/>
          <a:stretch/>
        </p:blipFill>
        <p:spPr>
          <a:xfrm>
            <a:off x="5940360" y="4005360"/>
            <a:ext cx="2192400" cy="22194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C:\Documents and Settings\Администратор\Мои документы\Мои рисунки\школа\5_%5B%5D.jpg"/>
          <p:cNvPicPr/>
          <p:nvPr/>
        </p:nvPicPr>
        <p:blipFill>
          <a:blip r:embed="rId3"/>
          <a:stretch/>
        </p:blipFill>
        <p:spPr>
          <a:xfrm>
            <a:off x="0" y="189000"/>
            <a:ext cx="1440000" cy="143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85680" y="103320"/>
            <a:ext cx="8120160" cy="14270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178920" y="1609200"/>
            <a:ext cx="828036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Реализация системно-деятельностного подхода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Наличие в ОУ основной образовательной программы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rebuchet MS"/>
              </a:rPr>
              <a:t>Новая система оценивания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Условия реализации основной образовательной программы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rebuchet MS"/>
              </a:rPr>
              <a:t>Инструкция о введении пятибалльной отметки в школе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Приказ СОВНАРКОМА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от 17 апреля 1944 года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457200" y="298440"/>
            <a:ext cx="7284960" cy="142092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6840" y="5867280"/>
            <a:ext cx="3521160" cy="457200"/>
          </a:xfrm>
          <a:prstGeom prst="rect">
            <a:avLst/>
          </a:prstGeom>
          <a:noFill/>
          <a:ln w="12600">
            <a:solidFill>
              <a:srgbClr val="1f497d"/>
            </a:solidFill>
            <a:miter/>
          </a:ln>
        </p:spPr>
        <p:txBody>
          <a:bodyPr lIns="96120" rIns="96120" tIns="52920" bIns="5292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177800" y="5867280"/>
            <a:ext cx="3521160" cy="457200"/>
          </a:xfrm>
          <a:prstGeom prst="rect">
            <a:avLst/>
          </a:prstGeom>
          <a:noFill/>
          <a:ln w="12600">
            <a:solidFill>
              <a:srgbClr val="1f497d"/>
            </a:solidFill>
            <a:miter/>
          </a:ln>
        </p:spPr>
        <p:txBody>
          <a:bodyPr lIns="96120" rIns="96120" tIns="52920" bIns="5292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1f497d"/>
              </a:solidFill>
              <a:latin typeface="Trebuchet MS"/>
            </a:endParaRPr>
          </a:p>
        </p:txBody>
      </p:sp>
      <p:pic>
        <p:nvPicPr>
          <p:cNvPr id="232" name="Содержимое 6" descr="post-15204-1251807867_thumb.jpg"/>
          <p:cNvPicPr/>
          <p:nvPr/>
        </p:nvPicPr>
        <p:blipFill>
          <a:blip r:embed="rId2"/>
          <a:stretch/>
        </p:blipFill>
        <p:spPr>
          <a:xfrm>
            <a:off x="468360" y="1700280"/>
            <a:ext cx="3521160" cy="4595760"/>
          </a:xfrm>
          <a:prstGeom prst="rect">
            <a:avLst/>
          </a:prstGeom>
          <a:ln w="0">
            <a:noFill/>
          </a:ln>
        </p:spPr>
      </p:pic>
      <p:pic>
        <p:nvPicPr>
          <p:cNvPr id="233" name="Содержимое 7" descr="dvoyky_.jpg"/>
          <p:cNvPicPr/>
          <p:nvPr/>
        </p:nvPicPr>
        <p:blipFill>
          <a:blip r:embed="rId3"/>
          <a:stretch/>
        </p:blipFill>
        <p:spPr>
          <a:xfrm>
            <a:off x="4178160" y="1700280"/>
            <a:ext cx="3521160" cy="4608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2128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легко оценивать учителю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легко контролировать родителям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стимулирует ученика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6" name="Picture 2" descr="C:\Documents and Settings\Администратор\Мои документы\Мои рисунки\школа\watermark.jpg"/>
          <p:cNvPicPr/>
          <p:nvPr/>
        </p:nvPicPr>
        <p:blipFill>
          <a:blip r:embed="rId2"/>
          <a:stretch/>
        </p:blipFill>
        <p:spPr>
          <a:xfrm>
            <a:off x="5292720" y="3284640"/>
            <a:ext cx="2211480" cy="33940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C:\Documents and Settings\Администратор\Мои документы\Мои рисунки\школа\5_%5B%5D.jpg"/>
          <p:cNvPicPr/>
          <p:nvPr/>
        </p:nvPicPr>
        <p:blipFill>
          <a:blip r:embed="rId3"/>
          <a:stretch/>
        </p:blipFill>
        <p:spPr>
          <a:xfrm>
            <a:off x="395280" y="189000"/>
            <a:ext cx="1368360" cy="1566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1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457200" y="146160"/>
            <a:ext cx="7242120" cy="10731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907920"/>
            <a:ext cx="7238880" cy="55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Не видно динамики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Учитель в роли контролёра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Страх, дискомфорт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Субъективность оценивания учителем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Не вырабатывается самооценка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0" name="Picture 2" descr="C:\Documents and Settings\Администратор\Мои документы\Мои рисунки\школа\160251.jpg"/>
          <p:cNvPicPr/>
          <p:nvPr/>
        </p:nvPicPr>
        <p:blipFill>
          <a:blip r:embed="rId2"/>
          <a:stretch/>
        </p:blipFill>
        <p:spPr>
          <a:xfrm>
            <a:off x="4788000" y="4221000"/>
            <a:ext cx="3251160" cy="2455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371520" y="-42840"/>
            <a:ext cx="7413480" cy="14270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Формирующее (текущее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Trebuchet MS"/>
              </a:rPr>
              <a:t>Цель: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существление оперативной  взаимосвязи между учителем и учениками в процессе обучения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Констатирующее (итоговое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rebuchet MS"/>
              </a:rPr>
              <a:t>Цель: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rebuchet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пределить уровень подготовки учащихс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4" name="Рисунок 4" descr="19153437_5328113_AVVv.gif"/>
          <p:cNvPicPr/>
          <p:nvPr/>
        </p:nvPicPr>
        <p:blipFill>
          <a:blip r:embed="rId2"/>
          <a:stretch/>
        </p:blipFill>
        <p:spPr>
          <a:xfrm>
            <a:off x="6629400" y="4508640"/>
            <a:ext cx="2514600" cy="2205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457200" y="-115920"/>
            <a:ext cx="7242120" cy="14270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0" y="1052640"/>
            <a:ext cx="82440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тимулировать ответственность учащихся за свои образовательные результаты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могать учиться на своих ошибках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могать понять, что не получается и в какой степени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пределять наличие тех или иных умений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устанавливать степень овладения умением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ценивать продвижение учащихся относительно самих себя, относительно своих прежних успехов и неудач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отивировать учащихся на достижение успеха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формировать действие контроля и оценки на основе выделенных критерие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Рисунок 3" descr="GirlonBooks.gif"/>
          <p:cNvPicPr/>
          <p:nvPr/>
        </p:nvPicPr>
        <p:blipFill>
          <a:blip r:embed="rId2"/>
          <a:stretch/>
        </p:blipFill>
        <p:spPr>
          <a:xfrm>
            <a:off x="8028000" y="5157720"/>
            <a:ext cx="1333440" cy="1524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13:04:30Z</dcterms:created>
  <dc:creator>XP GAME 2008</dc:creator>
  <dc:description/>
  <dc:language>en-US</dc:language>
  <cp:lastModifiedBy>Алиса</cp:lastModifiedBy>
  <dcterms:modified xsi:type="dcterms:W3CDTF">2014-11-04T01:37:29Z</dcterms:modified>
  <cp:revision>97</cp:revision>
  <dc:subject/>
  <dc:title>Критериальное оценивание в начальной школе</dc:title>
</cp:coreProperties>
</file>