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C76-4D3E-49B4-8AB4-8AC183A2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5BD-DDE3-4BA6-AA7A-EB5EF5C2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81F-69DE-454C-91BF-D8E67CE7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39E-3B77-4911-A898-DD0837B7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FBA-1DB8-4CB7-B000-1577C3BF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1E2-BCBA-4FF4-B2D9-FEA53305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705-6BEF-4F76-B228-0826C2B1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C03-2C27-497D-908E-60ADF97E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343-09D3-4451-A05D-170571CB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667-B6AD-4699-A571-8C78D6B6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D22-E34D-4407-A543-AE1BC69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090-091C-4420-96AF-83838B2F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038F-D529-4ACB-95B6-BF7C1361AF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332000" y="33336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Дистанционный конкурс детского техниче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«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Arial"/>
              </a:rPr>
              <a:t>LEGO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 – ПОБ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для обучающихся Тарского рай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освященный 75-летию Победы в Великой Отечественно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104920" y="2781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А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оминация: «Военная тех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492360" y="4508640"/>
            <a:ext cx="493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Хабибулин Данис Нагим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У «Междурече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Рыбакова Наталья Сергеевна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У «Междурече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User\Desktop\Фото лего\IMG-20201014-WA0001.jpg"/>
          <p:cNvPicPr/>
          <p:nvPr/>
        </p:nvPicPr>
        <p:blipFill>
          <a:blip r:embed="rId2"/>
          <a:stretch/>
        </p:blipFill>
        <p:spPr>
          <a:xfrm>
            <a:off x="5724360" y="1773360"/>
            <a:ext cx="2592720" cy="431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User\Desktop\Фото лего\IMG-20201014-WA0005.jpg"/>
          <p:cNvPicPr/>
          <p:nvPr/>
        </p:nvPicPr>
        <p:blipFill>
          <a:blip r:embed="rId3"/>
          <a:stretch/>
        </p:blipFill>
        <p:spPr>
          <a:xfrm>
            <a:off x="2050920" y="1773360"/>
            <a:ext cx="3025800" cy="4319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843280" y="333360"/>
            <a:ext cx="63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Лего и люблю технику. Буду мастерить автомобиль У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Фото лего\IMG-20201014-WA0002.jpg"/>
          <p:cNvPicPr/>
          <p:nvPr/>
        </p:nvPicPr>
        <p:blipFill>
          <a:blip r:embed="rId2"/>
          <a:stretch/>
        </p:blipFill>
        <p:spPr>
          <a:xfrm>
            <a:off x="6200640" y="981000"/>
            <a:ext cx="2673360" cy="475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User\Desktop\Фото лего\IMG-20201014-WA0003.jpg"/>
          <p:cNvPicPr/>
          <p:nvPr/>
        </p:nvPicPr>
        <p:blipFill>
          <a:blip r:embed="rId3"/>
          <a:stretch/>
        </p:blipFill>
        <p:spPr>
          <a:xfrm>
            <a:off x="3297240" y="2205000"/>
            <a:ext cx="2903400" cy="436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User\Desktop\Фото лего\IMG-20201014-WA0004.jpg"/>
          <p:cNvPicPr/>
          <p:nvPr/>
        </p:nvPicPr>
        <p:blipFill>
          <a:blip r:embed="rId4"/>
          <a:stretch/>
        </p:blipFill>
        <p:spPr>
          <a:xfrm>
            <a:off x="539640" y="1268280"/>
            <a:ext cx="2529000" cy="4496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297240" y="115920"/>
            <a:ext cx="290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и поиграть с моим УАЗом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Фото лего\IMG-20201013-WA0007.jpg"/>
          <p:cNvPicPr/>
          <p:nvPr/>
        </p:nvPicPr>
        <p:blipFill>
          <a:blip r:embed="rId2"/>
          <a:stretch/>
        </p:blipFill>
        <p:spPr>
          <a:xfrm>
            <a:off x="3059280" y="2492280"/>
            <a:ext cx="2304720" cy="34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User\Desktop\Фото лего\IMG-20201013-WA0008.jpg"/>
          <p:cNvPicPr/>
          <p:nvPr/>
        </p:nvPicPr>
        <p:blipFill>
          <a:blip r:embed="rId3"/>
          <a:stretch/>
        </p:blipFill>
        <p:spPr>
          <a:xfrm>
            <a:off x="6012000" y="2513160"/>
            <a:ext cx="2365200" cy="3435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2916360" y="981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й УАЗ с разных сторо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User\Desktop\Фото лего\IMG-20201014-WA0006.jpg"/>
          <p:cNvPicPr/>
          <p:nvPr/>
        </p:nvPicPr>
        <p:blipFill>
          <a:blip r:embed="rId2"/>
          <a:stretch/>
        </p:blipFill>
        <p:spPr>
          <a:xfrm>
            <a:off x="5508720" y="603360"/>
            <a:ext cx="3294000" cy="585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User\Desktop\Фото лего\IMG-20201013-WA0006.jpg"/>
          <p:cNvPicPr/>
          <p:nvPr/>
        </p:nvPicPr>
        <p:blipFill>
          <a:blip r:embed="rId3"/>
          <a:stretch/>
        </p:blipFill>
        <p:spPr>
          <a:xfrm>
            <a:off x="3017880" y="2492280"/>
            <a:ext cx="2246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700360" y="404640"/>
            <a:ext cx="28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оволен своей работой и моим УАЗ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6T02:05:30Z</dcterms:created>
  <dc:creator>User</dc:creator>
  <dc:description/>
  <dc:language>en-US</dc:language>
  <cp:lastModifiedBy>Танзиля</cp:lastModifiedBy>
  <dcterms:modified xsi:type="dcterms:W3CDTF">2020-10-24T18:09:16Z</dcterms:modified>
  <cp:revision>7</cp:revision>
  <dc:subject/>
  <dc:title>Слайд 1</dc:title>
</cp:coreProperties>
</file>