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EA6-694F-452A-A973-0C4A5CD6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A6D-37A4-4CDE-AC13-1BF364D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87A-FD7F-4458-9541-8622DB36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9FF-C444-4EE8-8355-63E573DA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6FE-B6D4-4DA5-9DA9-79B692F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FC2-041F-4EBD-A938-99147D5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9EB-8C6D-474C-9FC8-290368BE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F80-452F-4B49-BCB4-5AB726CC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73D-23E2-4612-8D29-A879565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3AF-CFD1-4ACA-A302-C5938E6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998-9111-42D7-A560-846D86A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959-1A15-4E9E-BDFC-7BA89FF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FCB-58F6-4FB1-A881-C33D88105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332000" y="33336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истанционный конкурс детского техниче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«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LEGO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 – ПОБ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для обучающихся Тарского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посвященный 75-летию Победы в 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04920" y="2781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А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оминация: «Военная тех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492360" y="4508640"/>
            <a:ext cx="493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Хабибулин Данис Нагим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У «Междуреч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Рыбакова Наталья Сергее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У «Междуреч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User\Desktop\Фото лего\IMG-20201014-WA0001.jpg"/>
          <p:cNvPicPr/>
          <p:nvPr/>
        </p:nvPicPr>
        <p:blipFill>
          <a:blip r:embed="rId2"/>
          <a:stretch/>
        </p:blipFill>
        <p:spPr>
          <a:xfrm>
            <a:off x="5724360" y="1773360"/>
            <a:ext cx="259272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User\Desktop\Фото лего\IMG-20201014-WA0005.jpg"/>
          <p:cNvPicPr/>
          <p:nvPr/>
        </p:nvPicPr>
        <p:blipFill>
          <a:blip r:embed="rId3"/>
          <a:stretch/>
        </p:blipFill>
        <p:spPr>
          <a:xfrm>
            <a:off x="2050920" y="1773360"/>
            <a:ext cx="3025800" cy="4319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843280" y="33336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Лего и люблю технику. Буду мастерить автомобиль У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Фото лего\IMG-20201014-WA0002.jpg"/>
          <p:cNvPicPr/>
          <p:nvPr/>
        </p:nvPicPr>
        <p:blipFill>
          <a:blip r:embed="rId2"/>
          <a:stretch/>
        </p:blipFill>
        <p:spPr>
          <a:xfrm>
            <a:off x="6200640" y="981000"/>
            <a:ext cx="2673360" cy="475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Фото лего\IMG-20201014-WA0003.jpg"/>
          <p:cNvPicPr/>
          <p:nvPr/>
        </p:nvPicPr>
        <p:blipFill>
          <a:blip r:embed="rId3"/>
          <a:stretch/>
        </p:blipFill>
        <p:spPr>
          <a:xfrm>
            <a:off x="3297240" y="2205000"/>
            <a:ext cx="2903400" cy="43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User\Desktop\Фото лего\IMG-20201014-WA0004.jpg"/>
          <p:cNvPicPr/>
          <p:nvPr/>
        </p:nvPicPr>
        <p:blipFill>
          <a:blip r:embed="rId4"/>
          <a:stretch/>
        </p:blipFill>
        <p:spPr>
          <a:xfrm>
            <a:off x="539640" y="1268280"/>
            <a:ext cx="252900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297240" y="115920"/>
            <a:ext cx="290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и поиграть с моим УАЗом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Фото лего\IMG-20201013-WA0007.jpg"/>
          <p:cNvPicPr/>
          <p:nvPr/>
        </p:nvPicPr>
        <p:blipFill>
          <a:blip r:embed="rId2"/>
          <a:stretch/>
        </p:blipFill>
        <p:spPr>
          <a:xfrm>
            <a:off x="3059280" y="2492280"/>
            <a:ext cx="2304720" cy="34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User\Desktop\Фото лего\IMG-20201013-WA0008.jpg"/>
          <p:cNvPicPr/>
          <p:nvPr/>
        </p:nvPicPr>
        <p:blipFill>
          <a:blip r:embed="rId3"/>
          <a:stretch/>
        </p:blipFill>
        <p:spPr>
          <a:xfrm>
            <a:off x="6012000" y="2513160"/>
            <a:ext cx="2365200" cy="3435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916360" y="981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й УАЗ с разных сторо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hello_html_m11e22f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Фото лего\IMG-20201014-WA0006.jpg"/>
          <p:cNvPicPr/>
          <p:nvPr/>
        </p:nvPicPr>
        <p:blipFill>
          <a:blip r:embed="rId2"/>
          <a:stretch/>
        </p:blipFill>
        <p:spPr>
          <a:xfrm>
            <a:off x="5508720" y="603360"/>
            <a:ext cx="3294000" cy="585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User\Desktop\Фото лего\IMG-20201013-WA0006.jpg"/>
          <p:cNvPicPr/>
          <p:nvPr/>
        </p:nvPicPr>
        <p:blipFill>
          <a:blip r:embed="rId3"/>
          <a:stretch/>
        </p:blipFill>
        <p:spPr>
          <a:xfrm>
            <a:off x="3017880" y="2492280"/>
            <a:ext cx="2246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700360" y="404640"/>
            <a:ext cx="28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оволен своей работой и моим УАЗ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6T02:05:30Z</dcterms:created>
  <dc:creator>User</dc:creator>
  <dc:description/>
  <dc:language>en-US</dc:language>
  <cp:lastModifiedBy>Танзиля</cp:lastModifiedBy>
  <dcterms:modified xsi:type="dcterms:W3CDTF">2020-10-24T18:09:16Z</dcterms:modified>
  <cp:revision>7</cp:revision>
  <dc:subject/>
  <dc:title>Слайд 1</dc:title>
</cp:coreProperties>
</file>