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B2B-6D06-4B56-94D4-A84A5D1C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5F3-CC91-48D4-96B7-B74556FC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529-781A-41C4-A308-2D2FA2AA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96A-1407-44C0-BEBE-7E1DF5C0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B1B-048E-435A-BE1E-C6CEDE8F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08C-FA7F-4F90-A5D4-A6912239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FE6-A706-405F-A922-D85EE0CD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4EE-D339-4DF9-91C9-8A0D1730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D80-F5FA-4D3D-AEDD-357E61E4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EDF-2114-4DA1-B809-E55C09ED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691-164A-40C0-8A4D-1E666031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3E8-6BC4-4433-B43A-FE9F64F3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E66B-277B-4741-B314-923AFCCB6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история мороженого в ссср"/>
          <p:cNvPicPr/>
          <p:nvPr/>
        </p:nvPicPr>
        <p:blipFill>
          <a:blip r:embed="rId1"/>
          <a:srcRect l="0" t="0" r="10879" b="0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64000" y="1989000"/>
            <a:ext cx="1800360" cy="1727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1844640"/>
            <a:ext cx="1763640" cy="17287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В конце мая в нашем городе проходит самый вкусный праздник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Фестиваль мороженого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А вы любите мороженое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Если да- то вам сю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71640" y="2852640"/>
            <a:ext cx="7200720" cy="18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Веселье круглый год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2060640"/>
            <a:ext cx="1800000" cy="1655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00360" y="836640"/>
            <a:ext cx="1800360" cy="1700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907920"/>
            <a:ext cx="1655640" cy="1513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189000"/>
            <a:ext cx="158436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етрохолод» — на сегодняшний день один из крупнейших производителей и поставщиков мороженого в Росси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2376360" cy="151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384192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ти фабрики могут увидеть полностью автоматизированный процесс производства: подготовку сырья, пастеризацию, гомогенизацию, охлаждение, формовку и закаливание. Нужно лишь записаться на экскурсию. На территорию фабрики допускаются дети старше 7 лет и взрослые, которых здесь охватывает детский восто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территорию фабрики допускаются дети старше 7 лет и взрослые, которых здесь охватывает детский востор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история мороженого в ссср"/>
          <p:cNvPicPr/>
          <p:nvPr/>
        </p:nvPicPr>
        <p:blipFill>
          <a:blip r:embed="rId1"/>
          <a:srcRect l="0" t="0" r="10879" b="0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1557360"/>
            <a:ext cx="7632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какое?)- холодное…сладкое,      мягкое, вкусное, нежное, молочное, сытно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малиной(какое?)- малиновое, с фисташками-  , с черной смородиной- , с клубникой- ,  с вишней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ется твое любимое мороже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история мороженого в ссср"/>
          <p:cNvPicPr/>
          <p:nvPr/>
        </p:nvPicPr>
        <p:blipFill>
          <a:blip r:embed="rId1"/>
          <a:srcRect l="0" t="0" r="10879" b="0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5199120"/>
            <a:ext cx="720720" cy="677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684360" cy="642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79280" y="2997360"/>
            <a:ext cx="64764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79280" y="1916280"/>
            <a:ext cx="684360" cy="642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68360" y="404640"/>
            <a:ext cx="8136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чинаем разминку для знатоков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81440" y="198900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дкое, мягкое, вкусное, нежное, молочное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1989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какое?) – холод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314172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малиной (какое?)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малинов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2852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с фисташк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с вишн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 клубник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с шокола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42210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мороженое твое любим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515772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придумал мороженое ты знаеш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хочешь узнать?! Смотри дальш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1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1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6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86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36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история мороженого в ссср"/>
          <p:cNvPicPr/>
          <p:nvPr/>
        </p:nvPicPr>
        <p:blipFill>
          <a:blip r:embed="rId1"/>
          <a:srcRect l="0" t="0" r="10879" b="0"/>
          <a:stretch/>
        </p:blipFill>
        <p:spPr>
          <a:xfrm>
            <a:off x="0" y="5256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21844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итае еще за 2 000 лет до нашей эры подавали к столу смешанные снег и лед с кусочками фру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евние греки употребляли охлажденные соки, а так же молочные продукты отдаленно напоминающие современное мороже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333360"/>
            <a:ext cx="86072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то и когда подарил нам этот божественный лёд?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132000" y="3860640"/>
            <a:ext cx="338472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история мороженого в ссср"/>
          <p:cNvPicPr/>
          <p:nvPr/>
        </p:nvPicPr>
        <p:blipFill>
          <a:blip r:embed="rId1"/>
          <a:srcRect l="0" t="0" r="10879" b="0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Европе рецепт мороженого появился, как считают, благодаря путешественнику Марко Поло, когда он вернулся из своих путешествий по Восто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3773520"/>
            <a:ext cx="799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олевские кухни усовершенствовали технологию и стали готовить мороженое чуть больше напоминавшее современн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Марко Поло в Китае.JPG"/>
          <p:cNvPicPr/>
          <p:nvPr/>
        </p:nvPicPr>
        <p:blipFill>
          <a:blip r:embed="rId2"/>
          <a:stretch/>
        </p:blipFill>
        <p:spPr>
          <a:xfrm>
            <a:off x="2916360" y="1628640"/>
            <a:ext cx="3314520" cy="2076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История мороженого (1).jpg"/>
          <p:cNvPicPr/>
          <p:nvPr/>
        </p:nvPicPr>
        <p:blipFill>
          <a:blip r:embed="rId3"/>
          <a:stretch/>
        </p:blipFill>
        <p:spPr>
          <a:xfrm>
            <a:off x="5219640" y="5229360"/>
            <a:ext cx="1871640" cy="1396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979640" y="5084640"/>
            <a:ext cx="2519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6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6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история мороженого в ссср"/>
          <p:cNvPicPr/>
          <p:nvPr/>
        </p:nvPicPr>
        <p:blipFill>
          <a:blip r:embed="rId1"/>
          <a:srcRect l="0" t="0" r="10879" b="0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Руси и в других странах Европы молоко замораживали и это блюдо считалось национальным. Замороженное молоко мелко строгали, смешивали с замороженным творогом, изюмом и сахаром, подавали на масленицу и другие празд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052720" y="476280"/>
            <a:ext cx="489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оженое на Рус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1840" y="4581360"/>
            <a:ext cx="2593800" cy="1946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075280" y="4541760"/>
            <a:ext cx="2592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история мороженого в ссср"/>
          <p:cNvPicPr/>
          <p:nvPr/>
        </p:nvPicPr>
        <p:blipFill>
          <a:blip r:embed="rId1"/>
          <a:srcRect l="0" t="0" r="10879" b="0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ьшую емкость заполняли льдом и солью, внутрь помещали миску, где смешивались ингреди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ко или слив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х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ехи, фру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получалось мороже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03280" y="260280"/>
            <a:ext cx="62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готовление мороженого был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чень сложным и трудоемким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" descr="История возникновения мороженого"/>
          <p:cNvPicPr/>
          <p:nvPr/>
        </p:nvPicPr>
        <p:blipFill>
          <a:blip r:embed="rId2"/>
          <a:stretch/>
        </p:blipFill>
        <p:spPr>
          <a:xfrm>
            <a:off x="3635280" y="4292640"/>
            <a:ext cx="1943280" cy="1923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95280" y="4233960"/>
            <a:ext cx="2881440" cy="2214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867280" y="4292640"/>
            <a:ext cx="309564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овершенствованная технология производства мороженого позволила познакомить с ним не только богатых потребителей, но и сладкоежек с рядовыми доходами. Затем были открыты заводы по производству мороженого в Москве,  Ленинграде, где и сейчас выпускаются мороженое с разными вку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кусы разные нуж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мбир – масса, основой которой являются животные жи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очное – мороженое на основе натуральных сли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чное – состав предполагает наличие цельного или сухого молока. Низкокалорийный продук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рбет – охлажденная масса на основе натуральных соков, фруктовых пю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овый лед – обычная замороженная сосулька из сока, йогурта, фруктового ч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684000" cy="642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684360" cy="642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684360" cy="642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79280" y="3357720"/>
            <a:ext cx="684360" cy="642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79280" y="4292640"/>
            <a:ext cx="684360" cy="64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79280" y="5084640"/>
            <a:ext cx="6843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6T14:14:13Z</dcterms:created>
  <dc:creator>Пользователь</dc:creator>
  <dc:description/>
  <dc:language>en-US</dc:language>
  <cp:lastModifiedBy>Пользователь</cp:lastModifiedBy>
  <dcterms:modified xsi:type="dcterms:W3CDTF">2020-05-18T16:54:55Z</dcterms:modified>
  <cp:revision>4</cp:revision>
  <dc:subject/>
  <dc:title>Веселье круглый год</dc:title>
</cp:coreProperties>
</file>