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C9F8-25BB-4583-9BC6-B073F248E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806D-D0A4-433D-BED9-C6D22F9BB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3DE8-BB8D-4AB4-8D86-2E34B80DC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E7EE-1FF1-4D21-9D6B-37E0D57BC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9E7B-61C8-49F0-8F2F-7F529FC58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1A7C-AD8E-4EDE-9AEF-4AF4EFC84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1466-33DE-4772-ACC9-1293FE67F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5D17-F62E-44D7-BF99-06568D38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DAF2-1219-4FA6-A0B9-947F46F84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BB51-A0AB-4A11-B217-49AC906A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F165-D066-42B8-8C92-80B23402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092A-70EC-4D11-B261-33A12C28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69E52-5A43-4A21-8F37-B8EF0B4A10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6480" y="130320"/>
            <a:ext cx="11782440" cy="105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 Antiqua"/>
              </a:rPr>
              <a:t>Конкурс рисунков «Здоровая планета»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44640" y="1798560"/>
            <a:ext cx="3700440" cy="17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айка Виталий   Александрови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 л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БДОУ «Детский сад № 2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мбинированного вида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4" descr="i (8).jpg"/>
          <p:cNvPicPr/>
          <p:nvPr/>
        </p:nvPicPr>
        <p:blipFill>
          <a:blip r:embed="rId2"/>
          <a:stretch/>
        </p:blipFill>
        <p:spPr>
          <a:xfrm>
            <a:off x="420840" y="1682640"/>
            <a:ext cx="3985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0240" y="0"/>
            <a:ext cx="11774520" cy="105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 Antiqua"/>
              </a:rPr>
              <a:t>Номинация «Чистота любимого города»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679720" y="1715760"/>
            <a:ext cx="4653000" cy="19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вание работ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Чистый и светлый город мой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5" descr="i (11).jpg"/>
          <p:cNvPicPr/>
          <p:nvPr/>
        </p:nvPicPr>
        <p:blipFill>
          <a:blip r:embed="rId2"/>
          <a:stretch/>
        </p:blipFill>
        <p:spPr>
          <a:xfrm>
            <a:off x="249120" y="1450800"/>
            <a:ext cx="4707000" cy="34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782960" y="874440"/>
            <a:ext cx="6043680" cy="30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рисунке изображена улица нашего  города Троицка. Красивая цветочная клумба, тротуарная  дорожка из плитки, фонарные столбы, лавочки, деревья создают атмосферу чистоты и уюта города. В таком городе хочется жить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удожественный материал которым выполнена работа: цветные карандаш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4" descr="i (7).jpg"/>
          <p:cNvPicPr/>
          <p:nvPr/>
        </p:nvPicPr>
        <p:blipFill>
          <a:blip r:embed="rId2"/>
          <a:stretch/>
        </p:blipFill>
        <p:spPr>
          <a:xfrm>
            <a:off x="285840" y="828720"/>
            <a:ext cx="423072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7:45:38Z</dcterms:created>
  <dc:creator>Михаил Успех</dc:creator>
  <dc:description/>
  <dc:language>en-US</dc:language>
  <cp:lastModifiedBy>Home</cp:lastModifiedBy>
  <dcterms:modified xsi:type="dcterms:W3CDTF">2020-12-03T12:16:11Z</dcterms:modified>
  <cp:revision>18</cp:revision>
  <dc:subject/>
  <dc:title>Презентация PowerPoint</dc:title>
</cp:coreProperties>
</file>