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47DF7-6E86-40BF-8089-A45E543B0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E37BF-CF54-4531-AD0E-1CBFC8F14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61D9B-C2E6-4DEF-A505-2142341A2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37FFE-255A-483E-AE82-92078008F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D1F6C-5CD8-4A8B-9A1C-7EC078FE6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5EC35-FD53-4314-8F05-D3EFD817B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719B6-8DC5-49DC-A61B-B5CC261A4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2685B-BDE2-430E-84E5-B0DBBFDD6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C12BA-4AF6-40F8-A3C7-CDC450307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9EC38-531D-44F0-B845-81FD270C9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AE359-CC7C-454B-B447-F63C8DD53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CE5F1-D592-4A6F-8C07-7DAF872C4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0C801-14BC-41E5-9D50-BA34725A606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6480" y="130320"/>
            <a:ext cx="11782440" cy="1054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Book Antiqua"/>
              </a:rPr>
              <a:t>Конкурс рисунков «Здоровая планета»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44640" y="1798560"/>
            <a:ext cx="3700440" cy="17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айка Виталий   Александрови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6 ле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БДОУ «Детский сад № 2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омбинированного вида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Рисунок 4" descr="i (8).jpg"/>
          <p:cNvPicPr/>
          <p:nvPr/>
        </p:nvPicPr>
        <p:blipFill>
          <a:blip r:embed="rId2"/>
          <a:stretch/>
        </p:blipFill>
        <p:spPr>
          <a:xfrm>
            <a:off x="420840" y="1682640"/>
            <a:ext cx="39859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0240" y="0"/>
            <a:ext cx="11774520" cy="1054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Book Antiqua"/>
              </a:rPr>
              <a:t>Номинация «Чистота любимого города»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5679720" y="1715760"/>
            <a:ext cx="4653000" cy="194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звание работы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«Чистый и светлый город мой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Рисунок 5" descr="i (11).jpg"/>
          <p:cNvPicPr/>
          <p:nvPr/>
        </p:nvPicPr>
        <p:blipFill>
          <a:blip r:embed="rId2"/>
          <a:stretch/>
        </p:blipFill>
        <p:spPr>
          <a:xfrm>
            <a:off x="249120" y="1450800"/>
            <a:ext cx="4707000" cy="349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4782960" y="874440"/>
            <a:ext cx="6043680" cy="30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 рисунке изображена улица нашего  города Троицка. Красивая цветочная клумба, тротуарная  дорожка из плитки, фонарные столбы, лавочки, деревья создают атмосферу чистоты и уюта города. В таком городе хочется жить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Художественный материал которым выполнена работа: цветные карандаш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Рисунок 4" descr="i (7).jpg"/>
          <p:cNvPicPr/>
          <p:nvPr/>
        </p:nvPicPr>
        <p:blipFill>
          <a:blip r:embed="rId2"/>
          <a:stretch/>
        </p:blipFill>
        <p:spPr>
          <a:xfrm>
            <a:off x="285840" y="828720"/>
            <a:ext cx="4230720" cy="32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7:45:38Z</dcterms:created>
  <dc:creator>Михаил Успех</dc:creator>
  <dc:description/>
  <dc:language>en-US</dc:language>
  <cp:lastModifiedBy>Home</cp:lastModifiedBy>
  <dcterms:modified xsi:type="dcterms:W3CDTF">2020-12-03T12:16:11Z</dcterms:modified>
  <cp:revision>18</cp:revision>
  <dc:subject/>
  <dc:title>Презентация PowerPoint</dc:title>
</cp:coreProperties>
</file>