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C64-4509-40A7-A3C4-2A6BFC3C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855-69DC-4A25-9FB3-077CB8DE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EF0-7BE7-4E1D-8DEE-01E603CC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5A4-970F-48CC-BD50-71AD993A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7AF-617F-4C58-B67E-C6F2082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E89-571A-4CBB-8F32-F1C18198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B62-BBF6-4C87-921F-A91B8F75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DD1-65F8-409D-951D-451A0148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BFB-A005-4435-84A4-C887BCE4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B42-E744-479A-BAFD-2777A97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01D-4AEE-4289-9949-8CF2913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332-D51E-4509-AAED-8B4799A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E57E-836A-4FB0-9E89-BF6BC29B0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onotype Corsiva"/>
              </a:rPr>
              <a:t>Где человек получает образован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395280" y="1413000"/>
            <a:ext cx="8093160" cy="5003640"/>
            <a:chOff x="395280" y="1413000"/>
            <a:chExt cx="8093160" cy="5003640"/>
          </a:xfrm>
        </p:grpSpPr>
        <p:pic>
          <p:nvPicPr>
            <p:cNvPr id="43" name="Picture 5" descr="10"/>
            <p:cNvPicPr/>
            <p:nvPr/>
          </p:nvPicPr>
          <p:blipFill>
            <a:blip r:embed="rId1"/>
            <a:stretch/>
          </p:blipFill>
          <p:spPr>
            <a:xfrm>
              <a:off x="5651640" y="1413000"/>
              <a:ext cx="2836800" cy="23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11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4716360" cy="4716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Arial Black"/>
              </a:rPr>
              <a:t>Проверь себ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Какие учреждения образования ты знае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риведи примеры учреждений образования в нашем го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 каких учреждениях ты бы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 rot="401400">
            <a:off x="7415280" y="4363560"/>
            <a:ext cx="158580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ому мальчику и каждой девочке нашей страны приготовлено мест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 школьной парт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Все ребята у нас имеют право учиться. Более того: учиться они обяз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826920" y="404640"/>
            <a:ext cx="7412040" cy="3816360"/>
            <a:chOff x="826920" y="404640"/>
            <a:chExt cx="7412040" cy="3816360"/>
          </a:xfrm>
        </p:grpSpPr>
        <p:grpSp>
          <p:nvGrpSpPr>
            <p:cNvPr id="47" name="Group 9"/>
            <p:cNvGrpSpPr/>
            <p:nvPr/>
          </p:nvGrpSpPr>
          <p:grpSpPr>
            <a:xfrm>
              <a:off x="826920" y="404640"/>
              <a:ext cx="7412040" cy="3816360"/>
              <a:chOff x="826920" y="404640"/>
              <a:chExt cx="7412040" cy="3816360"/>
            </a:xfrm>
          </p:grpSpPr>
          <p:grpSp>
            <p:nvGrpSpPr>
              <p:cNvPr id="48" name="Group 7"/>
              <p:cNvGrpSpPr/>
              <p:nvPr/>
            </p:nvGrpSpPr>
            <p:grpSpPr>
              <a:xfrm>
                <a:off x="826920" y="404640"/>
                <a:ext cx="7412040" cy="3816360"/>
                <a:chOff x="826920" y="404640"/>
                <a:chExt cx="7412040" cy="3816360"/>
              </a:xfrm>
            </p:grpSpPr>
            <p:pic>
              <p:nvPicPr>
                <p:cNvPr id="49" name="Picture 4" descr="1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70200" y="404640"/>
                  <a:ext cx="3668760" cy="3816360"/>
                </a:xfrm>
                <a:prstGeom prst="rect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</p:pic>
            <p:pic>
              <p:nvPicPr>
                <p:cNvPr id="50" name="Picture 6" descr="7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6920" y="404640"/>
                  <a:ext cx="3809880" cy="3810240"/>
                </a:xfrm>
                <a:prstGeom prst="rect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</p:pic>
          </p:grpSp>
          <p:sp>
            <p:nvSpPr>
              <p:cNvPr id="51" name="Rectangle 8"/>
              <p:cNvSpPr/>
              <p:nvPr/>
            </p:nvSpPr>
            <p:spPr>
              <a:xfrm>
                <a:off x="4427640" y="404640"/>
                <a:ext cx="28872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0"/>
            <p:cNvSpPr/>
            <p:nvPr/>
          </p:nvSpPr>
          <p:spPr>
            <a:xfrm>
              <a:off x="2054520" y="202392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  <a:ea typeface="Arial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919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      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Школа – начало пути к любой профессии.                 В школе 11 клас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P1060553.JPG"/>
          <p:cNvPicPr/>
          <p:nvPr/>
        </p:nvPicPr>
        <p:blipFill>
          <a:blip r:embed="rId1"/>
          <a:stretch/>
        </p:blipFill>
        <p:spPr>
          <a:xfrm>
            <a:off x="0" y="213372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P1060274.JPG"/>
          <p:cNvPicPr/>
          <p:nvPr/>
        </p:nvPicPr>
        <p:blipFill>
          <a:blip r:embed="rId2"/>
          <a:stretch/>
        </p:blipFill>
        <p:spPr>
          <a:xfrm>
            <a:off x="4786200" y="3284640"/>
            <a:ext cx="4383360" cy="3287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окончания школы, многие ребята идут в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чилища, колледж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хнику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где вместе со знаниями приобретают рабочие проф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468360" y="333360"/>
            <a:ext cx="8116920" cy="4103640"/>
            <a:chOff x="468360" y="333360"/>
            <a:chExt cx="8116920" cy="4103640"/>
          </a:xfrm>
        </p:grpSpPr>
        <p:pic>
          <p:nvPicPr>
            <p:cNvPr id="60" name="Picture 12" descr="14"/>
            <p:cNvPicPr/>
            <p:nvPr/>
          </p:nvPicPr>
          <p:blipFill>
            <a:blip r:embed="rId1"/>
            <a:stretch/>
          </p:blipFill>
          <p:spPr>
            <a:xfrm>
              <a:off x="3132000" y="1052640"/>
              <a:ext cx="2592360" cy="2592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61" name="Picture 10" descr="13"/>
            <p:cNvPicPr/>
            <p:nvPr/>
          </p:nvPicPr>
          <p:blipFill>
            <a:blip r:embed="rId2"/>
            <a:stretch/>
          </p:blipFill>
          <p:spPr>
            <a:xfrm>
              <a:off x="468360" y="333360"/>
              <a:ext cx="2374920" cy="2374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pic>
          <p:nvPicPr>
            <p:cNvPr id="62" name="Picture 11" descr="15"/>
            <p:cNvPicPr/>
            <p:nvPr/>
          </p:nvPicPr>
          <p:blipFill>
            <a:blip r:embed="rId3"/>
            <a:stretch/>
          </p:blipFill>
          <p:spPr>
            <a:xfrm>
              <a:off x="6012000" y="1989000"/>
              <a:ext cx="2573280" cy="2448000"/>
            </a:xfrm>
            <a:prstGeom prst="rect">
              <a:avLst/>
            </a:prstGeom>
            <a:ln w="38160">
              <a:solidFill>
                <a:srgbClr val="c0504d"/>
              </a:solidFill>
              <a:miter/>
            </a:ln>
          </p:spPr>
        </p:pic>
      </p:grp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Училища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колледжи, техникумы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http://www.edu-inform.ru/upload/iblock/160/16039d9a82ad874249f200f5792a9329.jpg"/>
          <p:cNvPicPr/>
          <p:nvPr/>
        </p:nvPicPr>
        <p:blipFill>
          <a:blip r:embed="rId1"/>
          <a:stretch/>
        </p:blipFill>
        <p:spPr>
          <a:xfrm>
            <a:off x="4932360" y="432576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ww.nam-pokursu.ru/public/files/images/pk19-2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246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trainclub.ru/images/news/brynskiy_zd_kolledz.jpg"/>
          <p:cNvPicPr/>
          <p:nvPr/>
        </p:nvPicPr>
        <p:blipFill>
          <a:blip r:embed="rId3"/>
          <a:stretch/>
        </p:blipFill>
        <p:spPr>
          <a:xfrm>
            <a:off x="0" y="4229280"/>
            <a:ext cx="3500280" cy="262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aktualno.ru/images/content_news/22_Glavniii_sait_5190_ptu_625x415_big.jpg"/>
          <p:cNvPicPr/>
          <p:nvPr/>
        </p:nvPicPr>
        <p:blipFill>
          <a:blip r:embed="rId4"/>
          <a:stretch/>
        </p:blipFill>
        <p:spPr>
          <a:xfrm>
            <a:off x="4929120" y="1512720"/>
            <a:ext cx="400068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учить специальность врача, архитектора, учителя, инженера, агронома,  переводчика мож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институт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ниверситет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9"/>
          <p:cNvPicPr/>
          <p:nvPr/>
        </p:nvPicPr>
        <p:blipFill>
          <a:blip r:embed="rId1"/>
          <a:stretch/>
        </p:blipFill>
        <p:spPr>
          <a:xfrm>
            <a:off x="7812000" y="189000"/>
            <a:ext cx="1042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9"/>
          <p:cNvPicPr/>
          <p:nvPr/>
        </p:nvPicPr>
        <p:blipFill>
          <a:blip r:embed="rId2"/>
          <a:stretch/>
        </p:blipFill>
        <p:spPr>
          <a:xfrm>
            <a:off x="250920" y="189000"/>
            <a:ext cx="1042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1"/>
          <p:cNvGrpSpPr/>
          <p:nvPr/>
        </p:nvGrpSpPr>
        <p:grpSpPr>
          <a:xfrm>
            <a:off x="755640" y="549360"/>
            <a:ext cx="7910640" cy="4103640"/>
            <a:chOff x="755640" y="549360"/>
            <a:chExt cx="7910640" cy="4103640"/>
          </a:xfrm>
        </p:grpSpPr>
        <p:pic>
          <p:nvPicPr>
            <p:cNvPr id="73" name="Picture 7" descr="21"/>
            <p:cNvPicPr/>
            <p:nvPr/>
          </p:nvPicPr>
          <p:blipFill>
            <a:blip r:embed="rId3"/>
            <a:stretch/>
          </p:blipFill>
          <p:spPr>
            <a:xfrm>
              <a:off x="755640" y="1773360"/>
              <a:ext cx="3263760" cy="24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8" descr="22"/>
            <p:cNvPicPr/>
            <p:nvPr/>
          </p:nvPicPr>
          <p:blipFill>
            <a:blip r:embed="rId4"/>
            <a:stretch/>
          </p:blipFill>
          <p:spPr>
            <a:xfrm>
              <a:off x="6084720" y="1700280"/>
              <a:ext cx="258156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23"/>
            <p:cNvPicPr/>
            <p:nvPr/>
          </p:nvPicPr>
          <p:blipFill>
            <a:blip r:embed="rId5"/>
            <a:stretch/>
          </p:blipFill>
          <p:spPr>
            <a:xfrm>
              <a:off x="3059280" y="549360"/>
              <a:ext cx="309708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нсерва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mk.ru/upload/iblock_mk/475/ee/70/7e/DETAIL_PICTURE_556031.jpg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4643280" y="1989000"/>
            <a:ext cx="42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  <a:ea typeface="Arial"/>
              </a:rPr>
              <a:t>Универси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http://img1.liveinternet.ru/images/attach/c/2/69/388/69388398_mgu1.jpg"/>
          <p:cNvPicPr/>
          <p:nvPr/>
        </p:nvPicPr>
        <p:blipFill>
          <a:blip r:embed="rId2"/>
          <a:stretch/>
        </p:blipFill>
        <p:spPr>
          <a:xfrm>
            <a:off x="4548240" y="3286080"/>
            <a:ext cx="459576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Подумай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328760"/>
          </a:xfrm>
          <a:prstGeom prst="rect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стают ли учиться те, кто у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л врачом, инженером, агроном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611280" y="692280"/>
            <a:ext cx="8072280" cy="4105080"/>
            <a:chOff x="611280" y="692280"/>
            <a:chExt cx="8072280" cy="4105080"/>
          </a:xfrm>
        </p:grpSpPr>
        <p:pic>
          <p:nvPicPr>
            <p:cNvPr id="83" name="Picture 4" descr="26"/>
            <p:cNvPicPr/>
            <p:nvPr/>
          </p:nvPicPr>
          <p:blipFill>
            <a:blip r:embed="rId1"/>
            <a:stretch/>
          </p:blipFill>
          <p:spPr>
            <a:xfrm>
              <a:off x="611280" y="692280"/>
              <a:ext cx="2381040" cy="41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18"/>
            <p:cNvPicPr/>
            <p:nvPr/>
          </p:nvPicPr>
          <p:blipFill>
            <a:blip r:embed="rId2"/>
            <a:stretch/>
          </p:blipFill>
          <p:spPr>
            <a:xfrm>
              <a:off x="5651640" y="1125360"/>
              <a:ext cx="3031920" cy="360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"/>
          <p:cNvGrpSpPr/>
          <p:nvPr/>
        </p:nvGrpSpPr>
        <p:grpSpPr>
          <a:xfrm>
            <a:off x="250920" y="333360"/>
            <a:ext cx="8893080" cy="3919680"/>
            <a:chOff x="250920" y="333360"/>
            <a:chExt cx="8893080" cy="3919680"/>
          </a:xfrm>
        </p:grpSpPr>
        <p:pic>
          <p:nvPicPr>
            <p:cNvPr id="86" name="Picture 7" descr="27"/>
            <p:cNvPicPr/>
            <p:nvPr/>
          </p:nvPicPr>
          <p:blipFill>
            <a:blip r:embed="rId1"/>
            <a:stretch/>
          </p:blipFill>
          <p:spPr>
            <a:xfrm>
              <a:off x="5224320" y="333360"/>
              <a:ext cx="3919680" cy="39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24"/>
            <p:cNvPicPr/>
            <p:nvPr/>
          </p:nvPicPr>
          <p:blipFill>
            <a:blip r:embed="rId2"/>
            <a:stretch/>
          </p:blipFill>
          <p:spPr>
            <a:xfrm flipH="1">
              <a:off x="250920" y="333360"/>
              <a:ext cx="265752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0" descr="9"/>
            <p:cNvPicPr/>
            <p:nvPr/>
          </p:nvPicPr>
          <p:blipFill>
            <a:blip r:embed="rId3"/>
            <a:stretch/>
          </p:blipFill>
          <p:spPr>
            <a:xfrm>
              <a:off x="3276720" y="1484280"/>
              <a:ext cx="2016000" cy="148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3715920"/>
            <a:ext cx="864216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е отстать от жизни, учатся все 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а до велика, всё время пополняя сво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ния: и врач, и агроном, и учитель,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фессора, и академики, и известные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сь мир учё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22:27:29Z</dcterms:created>
  <dc:creator>Лена</dc:creator>
  <dc:description/>
  <dc:language>en-US</dc:language>
  <cp:lastModifiedBy>user</cp:lastModifiedBy>
  <dcterms:modified xsi:type="dcterms:W3CDTF">2020-12-06T14:17:12Z</dcterms:modified>
  <cp:revision>95</cp:revision>
  <dc:subject/>
  <dc:title>Культура и образование</dc:title>
</cp:coreProperties>
</file>