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3D4-C10B-4CEA-AE29-EDDC874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0D5-D376-4A82-98FD-9FA1619E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90E-3585-4BCA-9388-F4D171CB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BB2-9236-47B6-98C3-B5B653EC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BB1A-FF59-4D80-9750-7ED4354B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D1B-2A16-4318-A833-F051473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95F7-D4A3-485B-B28E-EF07B501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D96E-0D16-4ADF-A2C3-7F9A23C8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BFE-7358-4062-B0C5-0FB610D5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9C32-9A95-44FB-8513-EAEE846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016-EE86-411D-ADA2-B73EDE9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735-816D-4383-82E3-5396498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274-15BC-4ECA-A2B7-453425C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3947-602E-4ABD-A301-98F1454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F1E-2973-4389-9747-09453DB3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FBC1-8DCE-4B96-932C-A81965CD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563C-ACD6-449A-9229-C2CDDCB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3B2-4988-45C4-937B-E9FA0FD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A61-6B2F-43B0-A37A-4FB8A75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7C-DEB4-4EDE-AED7-8BFAD13B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929-1EFD-4781-B22E-650C5D20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242-B10F-488C-B0A7-8063CCE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E6-BAFD-44B3-BD14-C6D4D92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C42-CF71-4CF6-B34A-E137AE9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7372-C90E-42BC-9279-F39C1857B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602-CD82-4754-B5FB-193C2DE9484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3440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едагогический совет по теме: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«Современные педагогические технологии в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образовательной деятельности школы в условиях ФГОС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9280" y="3499920"/>
            <a:ext cx="885672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вышение креативной компетентности педагогов (способность педагога к поиску и внедрению в практику новых педагогических идей, новых способов решения педагогических задач) в организации образовательной деятельности в условиях ФГО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точнить представления педагогов о современных педагогических технологиях в образовательной деятельности общеобразовательного учрежд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накомить педагогов с некоторыми современными технологиями образова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ствовать формированию мотивации к использованию педагогических технологий в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http://justclickit.ru/flash/other/other%20(1065).gif"/>
          <p:cNvPicPr/>
          <p:nvPr/>
        </p:nvPicPr>
        <p:blipFill>
          <a:blip r:embed="rId1"/>
          <a:stretch/>
        </p:blipFill>
        <p:spPr>
          <a:xfrm>
            <a:off x="7667640" y="191628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1080" y="549000"/>
            <a:ext cx="72532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Только та технология даст необходимый результат, когда о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духотворена её главным автором – Педагогом. Ищите, творите!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ждому учителю необходимо ориентироваться в широком спектре современных инновационных технологий, не тратить время на открытие уже известног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едагогически грамотным специалистам нельзя без знания и использования всего обширного арсенала образовательных технолог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шение педагогического сове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Педагогам школы определить возможности, условия и основные направления современных педагогических технологий с целью совершенствования свое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Увеличить время на уроке на самостоятельную работу (проектирование, исследовательскую и экспериментальную деятельност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Усилить дифференциацию и индивидуализацию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. Спланировать взаимопосещения уроков с целью изучения передового педагогического опыта по использованию педагогических технолог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. Создать банк данных методических разработок учителей школы, практикующих современные технологии, в том числе ИК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. Обеспечить качество подготовки выпускников школы всех ступеней образования к решению жизненно важ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24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Нельзя человека научить на всю жизнь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го надо научить учиться всю жизнь!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педагогическая истин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Инновация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нововведение, деятельность по разработке, поиску, освоению и использованию новшеств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Причины выбора образовательных технологи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условиях существующей классно – урочной системы занятий они наиболее легко вписываются в учебный процесс, не затрагивают содержания обучения, которое определено стандартами образования и не подлежит, каким бы то ни было серьёзным корректива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разовательные технологии позволяют, интегрируясь в реальный образовательный процесс, достигать поставленные программой и стандартом образования целей по конкретному учебному предмет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дагогические (образовательные) технологии обеспечивают внедрение основных направлений педагогической стратегии: гуманизации образования, личностно-ориентированного подхо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еспечивают интеллектуальное развитие детей, их самостоятельность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раивают доброжелательные отношения к учителю и друг к друг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личительной чертой большинства технологий является особое внимание к индивидуальности человека, его личност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чёткая ориентация на развитие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Что такое педагогическая технология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</a:rPr>
              <a:t>«Технология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это детально прописанный путь осуществления той или иной деятельности в рамках выбранного мето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</a:rPr>
              <a:t>Педагогическая 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совокупность средств и методов воспроизведения теоретически обоснованных процессов обучения и воспитания, позволяющих успешно реализовывать поставленные образовательные задач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Педагогический энциклопедический словарь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дагогическая техн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это такое построение деятельности учителя, в котором входящие в него действия представлены в определённой последовательности и предполагают достижение прогнозируемого результа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Критерии, составляющие сущность педагогической технологи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днозначное и строгое определение целей обучения (почему и для чег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бор и структура содержания (чт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тимальная организация учебного процесса (как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етоды, приёмы и средства обучения (с помощью чег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ёт необходимого реального уровня квалификации учителя (кто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ивные методы оценки результатов обучения (так ли эт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уктура образовательной технологии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Концептуальная ча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держательная ч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Процессуальная ча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еловек не может по-настоящему усовершенствовать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сли не помогает усовершенствоваться другим 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Чарльз  Дикке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Ярмарка педагогических технолог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557520" cy="474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егодня я узнал(а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нял(а), чт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чувствовал(а), чт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риобрел(а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6:46:14Z</dcterms:created>
  <dc:creator>note</dc:creator>
  <dc:description/>
  <dc:language>en-US</dc:language>
  <cp:lastModifiedBy>RePack by Diakov</cp:lastModifiedBy>
  <dcterms:modified xsi:type="dcterms:W3CDTF">2018-06-07T19:56:06Z</dcterms:modified>
  <cp:revision>9</cp:revision>
  <dc:subject/>
  <dc:title>Педагогический совет по теме: «Возможности современных педагогических технологий для повышения качества образования в школе»</dc:title>
</cp:coreProperties>
</file>