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8901-9902-4147-A788-BD1CF0D6E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A44D-060E-4620-8887-BEBFC61F4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F588-4BDD-498A-9E0C-A76DA2B02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0152-FE7E-438F-9ED7-B9183A94E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D1079-4513-4DA2-8F8B-831A10375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1D467-6218-48FD-A4A0-AA203A590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3B482-9E8F-4CF4-9361-10513972B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6E16F-BE6E-459F-A169-68410B47D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2BAB6-4C07-4B61-8967-7B112408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C71CC-151B-4437-B1A2-CF5916457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FFADE-A331-4289-9C32-4B815E42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74EC-83A4-4124-BC14-90DB3AA92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D2D96-8644-4E46-B6E8-4167B1F1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E13C6-42BB-436F-89E2-9C7495D6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E0986-38A7-4C3D-967C-14F134018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6864F-1A91-452B-95AE-E50721DAE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3A37F-F826-4F66-93BC-F12325AF4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24FE-5118-4EAF-993A-0DB9B02AF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9EE6-402C-4089-B75D-92A8B4176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CF81-1E68-440E-945C-788D81BC0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2ED9-589A-4180-A0BB-5336CF8D5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A353-E6CC-4647-8B5E-EF1B9175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1594-2C1B-48B7-8505-C4C567C4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4F4A-722C-4D5B-AD32-4FFDADAA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71CD5-8209-472E-9689-6A4F0B50515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124A4-5BC8-45EF-8AD2-8D5A4D88023C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00000" y="836280"/>
            <a:ext cx="7344000" cy="20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Педагогический совет по теме:</a:t>
            </a:r>
            <a:br>
              <a:rPr sz="2800"/>
            </a:br>
            <a:r>
              <a:rPr b="1" i="1" lang="ru-RU" sz="2800" spc="-1" strike="noStrike">
                <a:solidFill>
                  <a:srgbClr val="333399"/>
                </a:solidFill>
                <a:latin typeface="Tahoma"/>
              </a:rPr>
              <a:t>«Современные педагогические технологии в</a:t>
            </a:r>
            <a:br>
              <a:rPr sz="2800"/>
            </a:br>
            <a:r>
              <a:rPr b="1" i="1" lang="ru-RU" sz="2800" spc="-1" strike="noStrike">
                <a:solidFill>
                  <a:srgbClr val="333399"/>
                </a:solidFill>
                <a:latin typeface="Tahoma"/>
              </a:rPr>
              <a:t>образовательной деятельности школы в условиях ФГОС»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79280" y="3499920"/>
            <a:ext cx="8856720" cy="29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Цель: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повышение креативной компетентности педагогов (способность педагога к поиску и внедрению в практику новых педагогических идей, новых способов решения педагогических задач) в организации образовательной деятельности в условиях ФГОС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Задачи: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Уточнить представления педагогов о современных педагогических технологиях в образовательной деятельности общеобразовательного учреждения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знакомить педагогов с некоторыми современными технологиями образования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пособствовать формированию мотивации к использованию педагогических технологий в образовательной деятельност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5" descr="http://justclickit.ru/flash/other/other%20(1065).gif"/>
          <p:cNvPicPr/>
          <p:nvPr/>
        </p:nvPicPr>
        <p:blipFill>
          <a:blip r:embed="rId1"/>
          <a:stretch/>
        </p:blipFill>
        <p:spPr>
          <a:xfrm>
            <a:off x="7667640" y="1916280"/>
            <a:ext cx="1143000" cy="1066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51080" y="549000"/>
            <a:ext cx="7253280" cy="16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«Только та технология даст необходимый результат, когда она 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одухотворена её главным автором – Педагогом. Ищите, творите!»</a:t>
            </a:r>
            <a:br>
              <a:rPr sz="2800"/>
            </a:b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Каждому учителю необходимо ориентироваться в широком спектре современных инновационных технологий, не тратить время на открытие уже известного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Педагогически грамотным специалистам нельзя без знания и использования всего обширного арсенала образовательных технологи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Решение педагогического совет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1. Педагогам школы определить возможности, условия и основные направления современных педагогических технологий с целью совершенствования своей педагогической деятельност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2. Сместить акценты в методиках и технологиях образовательной деятельности в сторону формирования оптимальных способов самостоятельной деятельности школьников. Формировать у них практические навыки самообразован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3. Увеличить время на уроке на самостоятельную работу (проектирование, исследовательскую и экспериментальную деятельность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4. Усилить дифференциацию и индивидуализацию образовательного процесс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5. Спланировать взаимопосещения уроков с целью изучения передового педагогического опыта по использованию педагогических технологи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6. Создать банк данных методических разработок учителей школы, практикующих современные технологии, в том числе ИКТ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7. Обеспечить качество подготовки выпускников школы всех ступеней образования к решению жизненно важных задач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249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«Нельзя человека научить на всю жизнь,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его надо научить учиться всю жизнь!»</a:t>
            </a:r>
            <a:br>
              <a:rPr sz="2800"/>
            </a:b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(педагогическая истина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3399"/>
                </a:solidFill>
                <a:uFillTx/>
                <a:latin typeface="Tahoma"/>
              </a:rPr>
              <a:t>Инновация </a:t>
            </a: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– </a:t>
            </a:r>
            <a:r>
              <a:rPr b="1" i="1" lang="ru-RU" sz="2400" spc="-1" strike="noStrike">
                <a:solidFill>
                  <a:srgbClr val="333399"/>
                </a:solidFill>
                <a:latin typeface="Tahoma"/>
              </a:rPr>
              <a:t>нововведение, деятельность по разработке, поиску, освоению и использованию новшеств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ahoma"/>
              </a:rPr>
              <a:t>Причины выбора образовательных технологий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в условиях существующей классно – урочной системы занятий они наиболее легко вписываются в учебный процесс, не затрагивают содержания обучения, которое определено стандартами образования и не подлежит, каким бы то ни было серьёзным коррективам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образовательные технологии позволяют, интегрируясь в реальный образовательный процесс, достигать поставленные программой и стандартом образования целей по конкретному учебному предмету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педагогические (образовательные) технологии обеспечивают внедрение основных направлений педагогической стратегии: гуманизации образования, личностно-ориентированного подхода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обеспечивают интеллектуальное развитие детей, их самостоятельность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выстраивают доброжелательные отношения к учителю и друг к другу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отличительной чертой большинства технологий является особое внимание к индивидуальности человека, его личности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чёткая ориентация на развитие творческой деятельност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3399"/>
                </a:solidFill>
                <a:latin typeface="Tahoma"/>
              </a:rPr>
              <a:t>Что такое педагогическая технология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ungsuhChe"/>
              </a:rPr>
              <a:t>«Технология»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- это детально прописанный путь осуществления той или иной деятельности в рамках выбранного метод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ungsuhChe"/>
              </a:rPr>
              <a:t>Педагогическая технология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– совокупность средств и методов воспроизведения теоретически обоснованных процессов обучения и воспитания, позволяющих успешно реализовывать поставленные образовательные задачи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( Педагогический энциклопедический словарь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едагогическая технология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- это такое построение деятельности учителя, в котором входящие в него действия представлены в определённой последовательности и предполагают достижение прогнозируемого результат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ahoma"/>
              </a:rPr>
              <a:t>Критерии, составляющие сущность педагогической технологии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однозначное и строгое определение целей обучения (почему и для чего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отбор и структура содержания (что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оптимальная организация учебного процесса (как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методы, приёмы и средства обучения (с помощью чего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учёт необходимого реального уровня квалификации учителя (кто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объективные методы оценки результатов обучения (так ли это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Структура образовательной технологии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. Концептуальная часть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. Содержательная ча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3. Процессуальная часть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4360" y="2017800"/>
            <a:ext cx="827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Человек не может по-настоящему усовершенствоваться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если не помогает усовершенствоваться другим 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Чарльз  Диккен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Ярмарка педагогических технологи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2700360" y="1916280"/>
            <a:ext cx="3557520" cy="4744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Рефлекс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сегодня я узнал(а)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было интересно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я понял(а), что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теперь я могу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я почувствовал(а), что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я приобрел(а)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у меня получилось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я попробую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меня удивило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мне захотелось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4T16:46:14Z</dcterms:created>
  <dc:creator>note</dc:creator>
  <dc:description/>
  <dc:language>en-US</dc:language>
  <cp:lastModifiedBy>RePack by Diakov</cp:lastModifiedBy>
  <dcterms:modified xsi:type="dcterms:W3CDTF">2018-06-07T19:56:06Z</dcterms:modified>
  <cp:revision>9</cp:revision>
  <dc:subject/>
  <dc:title>Педагогический совет по теме: «Возможности современных педагогических технологий для повышения качества образования в школе»</dc:title>
</cp:coreProperties>
</file>