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390-68F0-4C4C-A1C4-449A49F9B1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583A-6DF7-49C9-A3FD-C1DAB7D3C7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F58-6735-410B-8338-D35A6B6A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674-7E1B-4550-A3DA-064EBCC2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A39-DE5D-45C8-B40B-66BAEFC9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50A-5DB2-4F67-9C09-D7DC6BC8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D15-23EF-4074-A51B-58073153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986-1E63-40AE-9401-63E4DA11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732-8FA9-4D63-A8AD-1CD1980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95D-E829-4F6A-A616-AE0F5E57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8C2-77B6-4447-A306-0E35F8F1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91D-425F-4561-9654-659058CC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862-A047-4D39-BEF7-97BD4278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620-D90B-4E40-9E65-8648B84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7477-001E-44EE-8880-487B8BD91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4ebc"/>
                </a:solidFill>
                <a:latin typeface="Arial"/>
              </a:rPr>
              <a:t>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74eb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набор-кастрюль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Сахарниц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Сковород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Соль-и-перец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Стакан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Столовый-нож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Тарел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Термос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Чаш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Чашка-и-Блюдце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74ebc"/>
              </a:solidFill>
              <a:latin typeface="Calibri"/>
            </a:endParaRPr>
          </a:p>
        </p:txBody>
      </p:sp>
      <p:pic>
        <p:nvPicPr>
          <p:cNvPr id="51" name="Picture 4" descr="%D0%9D%D0%B0%D0%B1%D0%BE%D1%80-%D0%BD%D0%BE%D0%B6%D0%B5%D0%B9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42920" y="549360"/>
            <a:ext cx="7129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74ebc"/>
              </a:solidFill>
              <a:latin typeface="Calibri"/>
            </a:endParaRPr>
          </a:p>
        </p:txBody>
      </p:sp>
      <p:pic>
        <p:nvPicPr>
          <p:cNvPr id="53" name="Picture 4" descr="%D0%9D%D0%BE%D0%B6"/>
          <p:cNvPicPr/>
          <p:nvPr/>
        </p:nvPicPr>
        <p:blipFill>
          <a:blip r:embed="rId2"/>
          <a:stretch/>
        </p:blipFill>
        <p:spPr>
          <a:xfrm>
            <a:off x="900000" y="1628640"/>
            <a:ext cx="724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_"/>
          <p:cNvPicPr/>
          <p:nvPr/>
        </p:nvPicPr>
        <p:blipFill>
          <a:blip r:embed="rId1"/>
          <a:stretch/>
        </p:blipFill>
        <p:spPr>
          <a:xfrm>
            <a:off x="-252360" y="-309600"/>
            <a:ext cx="92581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Вил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Заварочный-чайник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стрюля"/>
          <p:cNvPicPr/>
          <p:nvPr/>
        </p:nvPicPr>
        <p:blipFill>
          <a:blip r:embed="rId2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Кувшин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Лож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Миска"/>
          <p:cNvPicPr/>
          <p:nvPr/>
        </p:nvPicPr>
        <p:blipFill>
          <a:blip r:embed="rId1"/>
          <a:stretch/>
        </p:blipFill>
        <p:spPr>
          <a:xfrm>
            <a:off x="-276120" y="-171360"/>
            <a:ext cx="9696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0:27Z</dcterms:created>
  <dc:creator>ppsworld.ru</dc:creator>
  <dc:description/>
  <dc:language>en-US</dc:language>
  <cp:lastModifiedBy>ОЛЕСЯ</cp:lastModifiedBy>
  <dcterms:modified xsi:type="dcterms:W3CDTF">2016-01-24T14:55:52Z</dcterms:modified>
  <cp:revision>3</cp:revision>
  <dc:subject/>
  <dc:title>PRESENTATION  NAME</dc:title>
</cp:coreProperties>
</file>