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8EEF-4447-49FD-BD27-14A0B1DBB8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754E-F9AF-42C2-8D25-07360C6CCF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24F-993A-40D5-BD66-0580CF8F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E34-32D7-4BCF-B39E-74181822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250-14C8-4330-AFB0-63B79BB9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464-39A7-4438-BD91-AE8B053E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F46-E80B-4C3F-A186-058C4420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379-23AE-49D1-B8AB-D0A55E74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703-CD8C-4144-9790-C178DCFA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DE3-7760-4FE6-91AF-1A2AE123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FA4-712E-4963-A473-ECD8467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C76-0EDF-4A35-A521-CEA82665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73D-DD19-4F53-9BFD-0FB2626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33C-71A6-4891-9234-BD49B824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A844-621F-4453-917E-3E9A9D839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4ebc"/>
                </a:solidFill>
                <a:latin typeface="Arial"/>
              </a:rPr>
              <a:t>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74eb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набор-кастрюль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Сахарниц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Сковород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Соль-и-перец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Стакан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Столовый-нож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Тарел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Термос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Чаш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Чашка-и-Блюдце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74ebc"/>
              </a:solidFill>
              <a:latin typeface="Calibri"/>
            </a:endParaRPr>
          </a:p>
        </p:txBody>
      </p:sp>
      <p:pic>
        <p:nvPicPr>
          <p:cNvPr id="51" name="Picture 4" descr="%D0%9D%D0%B0%D0%B1%D0%BE%D1%80-%D0%BD%D0%BE%D0%B6%D0%B5%D0%B9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42920" y="549360"/>
            <a:ext cx="71294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74ebc"/>
              </a:solidFill>
              <a:latin typeface="Calibri"/>
            </a:endParaRPr>
          </a:p>
        </p:txBody>
      </p:sp>
      <p:pic>
        <p:nvPicPr>
          <p:cNvPr id="53" name="Picture 4" descr="%D0%9D%D0%BE%D0%B6"/>
          <p:cNvPicPr/>
          <p:nvPr/>
        </p:nvPicPr>
        <p:blipFill>
          <a:blip r:embed="rId2"/>
          <a:stretch/>
        </p:blipFill>
        <p:spPr>
          <a:xfrm>
            <a:off x="900000" y="1628640"/>
            <a:ext cx="724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_"/>
          <p:cNvPicPr/>
          <p:nvPr/>
        </p:nvPicPr>
        <p:blipFill>
          <a:blip r:embed="rId1"/>
          <a:stretch/>
        </p:blipFill>
        <p:spPr>
          <a:xfrm>
            <a:off x="-252360" y="-309600"/>
            <a:ext cx="92581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Вил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Заварочный-чайник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стрюля"/>
          <p:cNvPicPr/>
          <p:nvPr/>
        </p:nvPicPr>
        <p:blipFill>
          <a:blip r:embed="rId2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Кувшин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Лож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Мис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0:27Z</dcterms:created>
  <dc:creator>ppsworld.ru</dc:creator>
  <dc:description/>
  <dc:language>en-US</dc:language>
  <cp:lastModifiedBy>ОЛЕСЯ</cp:lastModifiedBy>
  <dcterms:modified xsi:type="dcterms:W3CDTF">2016-01-24T14:55:52Z</dcterms:modified>
  <cp:revision>3</cp:revision>
  <dc:subject/>
  <dc:title>PRESENTATION  NAME</dc:title>
</cp:coreProperties>
</file>