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5EF-276D-4C10-AA05-96456435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4AA-48E8-4340-8BB8-30953218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DEF-46B3-41FB-A6C9-50C4B4C6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69A-5789-4483-8D71-0E30D2D2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55D-E2E5-4CBB-9E6D-0EA232D3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586-2966-4C4E-BFF5-8C6E33E3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15C-AEB7-4F1B-9184-984146EE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379-B8F7-4B25-8EF6-337AADAD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EEF-B121-49BF-81B8-2DAB3B42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353-4548-45FE-A0F5-B43A0548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573-F788-4077-A762-62ECDFAF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937-70CB-46AC-8A7E-F87B576E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7916-8348-468B-9E22-C9535BB065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4436640"/>
            <a:ext cx="586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5076720" y="4869000"/>
            <a:ext cx="34578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ЧИСЛИ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3">
            <a:hlinkClick r:id="rId1" action="ppaction://hlinksldjump"/>
          </p:cNvPr>
          <p:cNvSpPr/>
          <p:nvPr/>
        </p:nvSpPr>
        <p:spPr>
          <a:xfrm>
            <a:off x="6804000" y="5084640"/>
            <a:ext cx="1871640" cy="12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>
              <a:alpha val="8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МЕСТОИМ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право 3">
            <a:hlinkClick r:id="rId1" action="ppaction://hlinksldjump"/>
          </p:cNvPr>
          <p:cNvSpPr/>
          <p:nvPr/>
        </p:nvSpPr>
        <p:spPr>
          <a:xfrm>
            <a:off x="6804000" y="5084640"/>
            <a:ext cx="1871640" cy="12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>
              <a:alpha val="8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5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характеристике какого выделенного слова допущена ОШИБКА?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ВЕ ДЕСЯТ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рожая) – собирательное  числ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Б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ичное 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МОСКОВ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ремя) – относительное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ИР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зносклоняемое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3">
            <a:hlinkClick r:id="rId5" action="ppaction://hlinksldjump"/>
          </p:cNvPr>
          <p:cNvSpPr/>
          <p:nvPr/>
        </p:nvSpPr>
        <p:spPr>
          <a:xfrm>
            <a:off x="6588000" y="5084640"/>
            <a:ext cx="2016360" cy="12970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десятых (урожая) – 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об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исл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3">
            <a:hlinkClick r:id="rId1" action="ppaction://hlinksldjump"/>
          </p:cNvPr>
          <p:cNvSpPr/>
          <p:nvPr/>
        </p:nvSpPr>
        <p:spPr>
          <a:xfrm>
            <a:off x="6516720" y="4941720"/>
            <a:ext cx="1871640" cy="1366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верно! Подумай ещ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3"/>
          <p:cNvSpPr/>
          <p:nvPr/>
        </p:nvSpPr>
        <p:spPr>
          <a:xfrm>
            <a:off x="6588000" y="4941720"/>
            <a:ext cx="1871640" cy="1366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c00000">
              <a:alpha val="8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№6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лучае в форме слова допущена ОШИБКА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те слово, исправив ошибку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 ДВУХСОТ книг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 ЧУЛОК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ЕВЯНОСТА пятом году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й ТЮ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3"/>
          <p:cNvSpPr/>
          <p:nvPr/>
        </p:nvSpPr>
        <p:spPr>
          <a:xfrm>
            <a:off x="6516720" y="5084640"/>
            <a:ext cx="1942920" cy="13687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2060">
              <a:alpha val="8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е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верно! Подумай ещ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3"/>
          <p:cNvSpPr/>
          <p:nvPr/>
        </p:nvSpPr>
        <p:spPr>
          <a:xfrm>
            <a:off x="6732720" y="5084640"/>
            <a:ext cx="1726920" cy="1152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c00000">
              <a:alpha val="8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клонении во всех падежах кроме именительного и винительного всегда в окончании будет писаться букв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ЕВЯНОС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3"/>
          <p:cNvSpPr/>
          <p:nvPr/>
        </p:nvSpPr>
        <p:spPr>
          <a:xfrm>
            <a:off x="6732720" y="5229360"/>
            <a:ext cx="1726920" cy="1224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№7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ряду в обоих словах пропущена одна и та же бук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000" y="2420640"/>
            <a:ext cx="749772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 предл..жение, сл..гаемое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) бл..стеть, б..седовать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) г..реть, к..сательна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) г..рбарий, приб..р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4"/>
          <p:cNvSpPr/>
          <p:nvPr/>
        </p:nvSpPr>
        <p:spPr>
          <a:xfrm>
            <a:off x="6372360" y="4869000"/>
            <a:ext cx="2160360" cy="1512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ие, сл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гае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3"/>
          <p:cNvSpPr/>
          <p:nvPr/>
        </p:nvSpPr>
        <p:spPr>
          <a:xfrm>
            <a:off x="6875640" y="5084640"/>
            <a:ext cx="1728720" cy="12970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№1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пишите тек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ставляя пропущенные буквы и недостающие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844640"/>
            <a:ext cx="84358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 Саврасов ост..новился в селе Молви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ольно большое село со стари..ой церковью на окраин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..мневшие от времени избы крест..янские дв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рыш.. св..сают(1) дли..ые с..суль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ется, всё отсырело дерев..я брёвна изб за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врасов пр..ш..л на  окраину села чтобы посм..треть вблизи на старую церк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,с)десь он почу..ствовал п..янящий мартовский воздух увид..л то чего жд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чи пр..ле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О.М. Добровольск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3">
            <a:hlinkClick r:id="rId1" action="ppaction://hlinksldjump"/>
          </p:cNvPr>
          <p:cNvSpPr/>
          <p:nvPr/>
        </p:nvSpPr>
        <p:spPr>
          <a:xfrm>
            <a:off x="468360" y="191628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4">
            <a:hlinkClick r:id="rId2" action="ppaction://hlinksldjump"/>
          </p:cNvPr>
          <p:cNvSpPr/>
          <p:nvPr/>
        </p:nvSpPr>
        <p:spPr>
          <a:xfrm>
            <a:off x="468360" y="2349360"/>
            <a:ext cx="358560" cy="35892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>
            <a:hlinkClick r:id="rId3" action="ppaction://hlinksldjump"/>
          </p:cNvPr>
          <p:cNvSpPr/>
          <p:nvPr/>
        </p:nvSpPr>
        <p:spPr>
          <a:xfrm>
            <a:off x="468360" y="3141720"/>
            <a:ext cx="358560" cy="3585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6">
            <a:hlinkClick r:id="rId4" action="ppaction://hlinksldjump"/>
          </p:cNvPr>
          <p:cNvSpPr/>
          <p:nvPr/>
        </p:nvSpPr>
        <p:spPr>
          <a:xfrm>
            <a:off x="468360" y="357336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>
            <a:hlinkClick r:id="rId5" action="ppaction://hlinksldjump"/>
          </p:cNvPr>
          <p:cNvSpPr/>
          <p:nvPr/>
        </p:nvSpPr>
        <p:spPr>
          <a:xfrm>
            <a:off x="468360" y="400536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8">
            <a:hlinkClick r:id="rId6" action="ppaction://hlinksldjump"/>
          </p:cNvPr>
          <p:cNvSpPr/>
          <p:nvPr/>
        </p:nvSpPr>
        <p:spPr>
          <a:xfrm>
            <a:off x="468360" y="443700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9">
            <a:hlinkClick r:id="rId7" action="ppaction://hlinksldjump"/>
          </p:cNvPr>
          <p:cNvSpPr/>
          <p:nvPr/>
        </p:nvSpPr>
        <p:spPr>
          <a:xfrm>
            <a:off x="468360" y="522936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0">
            <a:hlinkClick r:id="rId8" action="ppaction://hlinksldjump"/>
          </p:cNvPr>
          <p:cNvSpPr/>
          <p:nvPr/>
        </p:nvSpPr>
        <p:spPr>
          <a:xfrm>
            <a:off x="468360" y="609300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л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ть, б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едо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право 3"/>
          <p:cNvSpPr/>
          <p:nvPr/>
        </p:nvSpPr>
        <p:spPr>
          <a:xfrm>
            <a:off x="6588000" y="5013360"/>
            <a:ext cx="1729080" cy="12952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ть, к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3"/>
          <p:cNvSpPr/>
          <p:nvPr/>
        </p:nvSpPr>
        <p:spPr>
          <a:xfrm>
            <a:off x="6659640" y="5013360"/>
            <a:ext cx="1728720" cy="1295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барий, приб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право 3"/>
          <p:cNvSpPr/>
          <p:nvPr/>
        </p:nvSpPr>
        <p:spPr>
          <a:xfrm>
            <a:off x="6732720" y="4941720"/>
            <a:ext cx="1726920" cy="129564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8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каком ряду в обоих словах пропущена одна и та же бук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989000"/>
            <a:ext cx="7931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р..клоняться перед талантом, пр..бавить сумму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и..бежать, не..гораем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р..творить мечту, пр…одолеть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ред..юньский, с..гр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Правильный 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оняться перед талантом, п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вить су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 Саврасов ос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ился в селе Молви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ольно большое село со старинной церковью на окраи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вшие от времени избы крес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нские дв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рыш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ют дл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е 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ль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ется, всё отсырело дере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рёвна изб за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врасов п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 на  окраину села чтобы пос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ь вблизи на старую церк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ь он почу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вовал п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нящий мартовский воздух уви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 то чего жд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чи п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Выполните разбо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нетически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ло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образовательны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чувствовал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фологически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ртовский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ческ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предложения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акое слово образовано суффиксальным способом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азгово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красив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ду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6">
            <a:hlinkClick r:id="rId5" action="ppaction://hlinksldjump"/>
          </p:cNvPr>
          <p:cNvSpPr/>
          <p:nvPr/>
        </p:nvSpPr>
        <p:spPr>
          <a:xfrm>
            <a:off x="6300720" y="5013360"/>
            <a:ext cx="2087640" cy="1440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3c8c93">
              <a:alpha val="7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верно! Подумай ещ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право 3">
            <a:hlinkClick r:id="rId1" action="ppaction://hlinksldjump"/>
          </p:cNvPr>
          <p:cNvSpPr/>
          <p:nvPr/>
        </p:nvSpPr>
        <p:spPr>
          <a:xfrm>
            <a:off x="6804000" y="5157720"/>
            <a:ext cx="1655640" cy="10080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00000">
              <a:alpha val="8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Вер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+ -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становите соответствие между выделенным в предложении словом и частью речи: определите, к какой части речи относится выделенное слово в каждом предложении.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Дождливое лето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ХУЖ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 ТРЕТ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 закинул он невод, пришёл невод с одной рыб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ИК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забыт, ничто не забы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3">
            <a:hlinkClick r:id="rId4" action="ppaction://hlinksldjump"/>
          </p:cNvPr>
          <p:cNvSpPr/>
          <p:nvPr/>
        </p:nvSpPr>
        <p:spPr>
          <a:xfrm>
            <a:off x="6516720" y="5013360"/>
            <a:ext cx="2016000" cy="1413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7575d1">
              <a:alpha val="8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е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КРАТКОЕ ПРИЛАГА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3">
            <a:hlinkClick r:id="rId1" action="ppaction://hlinksldjump"/>
          </p:cNvPr>
          <p:cNvSpPr/>
          <p:nvPr/>
        </p:nvSpPr>
        <p:spPr>
          <a:xfrm>
            <a:off x="6732720" y="5084640"/>
            <a:ext cx="1871640" cy="12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>
              <a:alpha val="8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Яна</cp:lastModifiedBy>
  <dcterms:modified xsi:type="dcterms:W3CDTF">2020-12-05T11:25:36Z</dcterms:modified>
  <cp:revision>890</cp:revision>
  <dc:subject/>
  <dc:title>Diapositiva 1</dc:title>
</cp:coreProperties>
</file>