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10F1-9A61-4565-B334-5200E17D9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1B0C-5FC2-4FE8-8DB8-5D93C9F1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438E-2889-48A0-8E48-CE46E2A03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E05B-678A-4A3A-8A63-B886AEB6C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C580-405A-4A35-9625-42AE1D2B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8DBA-ED7A-4A68-B1C1-E8F918A7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CFCD-9F87-4E66-9304-9075AD71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0B65-F8F8-47E4-8BB6-17C429E7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497B-1480-441E-9649-69327DA1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DA0F-BBA8-45DD-B3CB-3A9E2EE9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7040-7F3E-4279-8B94-21BA88D2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3CD3-69DF-4C1B-A4AE-6C3D9903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8F3B-817C-47BA-B4B9-15E7693DEC3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84000" y="4436640"/>
            <a:ext cx="5867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троль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9"/>
          <p:cNvSpPr/>
          <p:nvPr/>
        </p:nvSpPr>
        <p:spPr>
          <a:xfrm>
            <a:off x="5076720" y="4869000"/>
            <a:ext cx="345780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ЧИСЛИТЕЛЬ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трелка вправо 3">
            <a:hlinkClick r:id="rId1" action="ppaction://hlinksldjump"/>
          </p:cNvPr>
          <p:cNvSpPr/>
          <p:nvPr/>
        </p:nvSpPr>
        <p:spPr>
          <a:xfrm>
            <a:off x="6804000" y="5084640"/>
            <a:ext cx="1871640" cy="1224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>
              <a:alpha val="8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МЕСТОИМ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трелка вправо 3">
            <a:hlinkClick r:id="rId1" action="ppaction://hlinksldjump"/>
          </p:cNvPr>
          <p:cNvSpPr/>
          <p:nvPr/>
        </p:nvSpPr>
        <p:spPr>
          <a:xfrm>
            <a:off x="6804000" y="5084640"/>
            <a:ext cx="1871640" cy="1224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>
              <a:alpha val="8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е №5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 характеристике какого выделенного слова допущена ОШИБКА?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ДВЕ ДЕСЯТЫХ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урожая) – собирательное  числи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ТОБ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личное местоим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МОСКОВСК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время) – относительное прилага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СИРО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разносклоняемое существи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трелка вправо 3">
            <a:hlinkClick r:id="rId5" action="ppaction://hlinksldjump"/>
          </p:cNvPr>
          <p:cNvSpPr/>
          <p:nvPr/>
        </p:nvSpPr>
        <p:spPr>
          <a:xfrm>
            <a:off x="6588000" y="5084640"/>
            <a:ext cx="2016360" cy="129708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b3b3b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дание №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1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Правиль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е десятых (урожая) – эт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робно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числи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трелка вправо 3">
            <a:hlinkClick r:id="rId1" action="ppaction://hlinksldjump"/>
          </p:cNvPr>
          <p:cNvSpPr/>
          <p:nvPr/>
        </p:nvSpPr>
        <p:spPr>
          <a:xfrm>
            <a:off x="6516720" y="4941720"/>
            <a:ext cx="1871640" cy="13669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е верно! Подумай ещ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трелка вправо 3"/>
          <p:cNvSpPr/>
          <p:nvPr/>
        </p:nvSpPr>
        <p:spPr>
          <a:xfrm>
            <a:off x="6588000" y="4941720"/>
            <a:ext cx="1871640" cy="13669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c00000">
              <a:alpha val="83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 №6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ом случае в форме слова допущена ОШИБКА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ишите слово, исправив ошибку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оло ДВУХСОТ книг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а ЧУЛОК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ДЕВЯНОСТА пятом году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сивый ТЮ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трелка вправо 3"/>
          <p:cNvSpPr/>
          <p:nvPr/>
        </p:nvSpPr>
        <p:spPr>
          <a:xfrm>
            <a:off x="6516720" y="5084640"/>
            <a:ext cx="1942920" cy="136872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002060">
              <a:alpha val="8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дание №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е верно! Подумай ещ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трелка вправо 3"/>
          <p:cNvSpPr/>
          <p:nvPr/>
        </p:nvSpPr>
        <p:spPr>
          <a:xfrm>
            <a:off x="6732720" y="5084640"/>
            <a:ext cx="1726920" cy="11527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c00000">
              <a:alpha val="84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Правиль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склонении во всех падежах кроме именительного и винительного всегда в окончании будет писаться буква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ДЕВЯНОСТ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трелка вправо 3"/>
          <p:cNvSpPr/>
          <p:nvPr/>
        </p:nvSpPr>
        <p:spPr>
          <a:xfrm>
            <a:off x="6732720" y="5229360"/>
            <a:ext cx="1726920" cy="12240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е№7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каком ряду в обоих словах пропущена одна и та же бук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000" y="2420640"/>
            <a:ext cx="7497720" cy="18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) предл..жение, сл..гаемое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) бл..стеть, б..седовать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) г..реть, к..сательная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) г..рбарий, приб..ра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трелка вправо 4"/>
          <p:cNvSpPr/>
          <p:nvPr/>
        </p:nvSpPr>
        <p:spPr>
          <a:xfrm>
            <a:off x="6372360" y="4869000"/>
            <a:ext cx="2160360" cy="151272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дание №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836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л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жение, сл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гаем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трелка вправо 3"/>
          <p:cNvSpPr/>
          <p:nvPr/>
        </p:nvSpPr>
        <p:spPr>
          <a:xfrm>
            <a:off x="6875640" y="5084640"/>
            <a:ext cx="1728720" cy="129708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е №1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пишите текс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ставляя пропущенные буквы и недостающие знаки препи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000" y="1844640"/>
            <a:ext cx="843588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удожник Саврасов ост..новился в селе Молвит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вольно большое село со стари..ой церковью на окраин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..мневшие от времени избы крест..янские дв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рыш.. св..сают(1) дли..ые с..суль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ется, всё отсырело дерев..я брёвна изб заб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врасов пр..ш..л на  окраину села чтобы посм..треть вблизи на старую церков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З,с)десь он почу..ствовал п..янящий мартовский воздух увид..л то чего жда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чи пр..летел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 О.М. Добровольском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Овал 3">
            <a:hlinkClick r:id="rId1" action="ppaction://hlinksldjump"/>
          </p:cNvPr>
          <p:cNvSpPr/>
          <p:nvPr/>
        </p:nvSpPr>
        <p:spPr>
          <a:xfrm>
            <a:off x="468360" y="1916280"/>
            <a:ext cx="358560" cy="360360"/>
          </a:xfrm>
          <a:prstGeom prst="ellipse">
            <a:avLst/>
          </a:prstGeom>
          <a:solidFill>
            <a:srgbClr val="00b050">
              <a:alpha val="4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вал 4">
            <a:hlinkClick r:id="rId2" action="ppaction://hlinksldjump"/>
          </p:cNvPr>
          <p:cNvSpPr/>
          <p:nvPr/>
        </p:nvSpPr>
        <p:spPr>
          <a:xfrm>
            <a:off x="468360" y="2349360"/>
            <a:ext cx="358560" cy="358920"/>
          </a:xfrm>
          <a:prstGeom prst="ellipse">
            <a:avLst/>
          </a:prstGeom>
          <a:solidFill>
            <a:srgbClr val="00b050">
              <a:alpha val="4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5">
            <a:hlinkClick r:id="rId3" action="ppaction://hlinksldjump"/>
          </p:cNvPr>
          <p:cNvSpPr/>
          <p:nvPr/>
        </p:nvSpPr>
        <p:spPr>
          <a:xfrm>
            <a:off x="468360" y="3141720"/>
            <a:ext cx="358560" cy="358560"/>
          </a:xfrm>
          <a:prstGeom prst="ellipse">
            <a:avLst/>
          </a:prstGeom>
          <a:solidFill>
            <a:srgbClr val="00b050">
              <a:alpha val="4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Овал 6">
            <a:hlinkClick r:id="rId4" action="ppaction://hlinksldjump"/>
          </p:cNvPr>
          <p:cNvSpPr/>
          <p:nvPr/>
        </p:nvSpPr>
        <p:spPr>
          <a:xfrm>
            <a:off x="468360" y="3573360"/>
            <a:ext cx="358560" cy="360360"/>
          </a:xfrm>
          <a:prstGeom prst="ellipse">
            <a:avLst/>
          </a:prstGeom>
          <a:solidFill>
            <a:srgbClr val="00b050">
              <a:alpha val="4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>
            <a:hlinkClick r:id="rId5" action="ppaction://hlinksldjump"/>
          </p:cNvPr>
          <p:cNvSpPr/>
          <p:nvPr/>
        </p:nvSpPr>
        <p:spPr>
          <a:xfrm>
            <a:off x="468360" y="4005360"/>
            <a:ext cx="358560" cy="360360"/>
          </a:xfrm>
          <a:prstGeom prst="ellipse">
            <a:avLst/>
          </a:prstGeom>
          <a:solidFill>
            <a:srgbClr val="00b050">
              <a:alpha val="4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8">
            <a:hlinkClick r:id="rId6" action="ppaction://hlinksldjump"/>
          </p:cNvPr>
          <p:cNvSpPr/>
          <p:nvPr/>
        </p:nvSpPr>
        <p:spPr>
          <a:xfrm>
            <a:off x="468360" y="4437000"/>
            <a:ext cx="358560" cy="360360"/>
          </a:xfrm>
          <a:prstGeom prst="ellipse">
            <a:avLst/>
          </a:prstGeom>
          <a:solidFill>
            <a:srgbClr val="00b050">
              <a:alpha val="4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вал 9">
            <a:hlinkClick r:id="rId7" action="ppaction://hlinksldjump"/>
          </p:cNvPr>
          <p:cNvSpPr/>
          <p:nvPr/>
        </p:nvSpPr>
        <p:spPr>
          <a:xfrm>
            <a:off x="468360" y="5229360"/>
            <a:ext cx="358560" cy="360360"/>
          </a:xfrm>
          <a:prstGeom prst="ellipse">
            <a:avLst/>
          </a:prstGeom>
          <a:solidFill>
            <a:srgbClr val="00b050">
              <a:alpha val="4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0">
            <a:hlinkClick r:id="rId8" action="ppaction://hlinksldjump"/>
          </p:cNvPr>
          <p:cNvSpPr/>
          <p:nvPr/>
        </p:nvSpPr>
        <p:spPr>
          <a:xfrm>
            <a:off x="468360" y="6093000"/>
            <a:ext cx="358560" cy="360360"/>
          </a:xfrm>
          <a:prstGeom prst="ellipse">
            <a:avLst/>
          </a:prstGeom>
          <a:solidFill>
            <a:srgbClr val="00b050">
              <a:alpha val="4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5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5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5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5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Правиль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бл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стеть, б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седова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трелка вправо 3"/>
          <p:cNvSpPr/>
          <p:nvPr/>
        </p:nvSpPr>
        <p:spPr>
          <a:xfrm>
            <a:off x="6588000" y="5013360"/>
            <a:ext cx="1729080" cy="129528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г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реть, к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сатель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трелка вправо 3"/>
          <p:cNvSpPr/>
          <p:nvPr/>
        </p:nvSpPr>
        <p:spPr>
          <a:xfrm>
            <a:off x="6659640" y="5013360"/>
            <a:ext cx="1728720" cy="1295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г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рбарий, приб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ра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трелка вправо 3"/>
          <p:cNvSpPr/>
          <p:nvPr/>
        </p:nvSpPr>
        <p:spPr>
          <a:xfrm>
            <a:off x="6732720" y="4941720"/>
            <a:ext cx="1726920" cy="129564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е №8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 каком ряду в обоих словах пропущена одна и та же бук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1989000"/>
            <a:ext cx="793116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пр..клоняться перед талантом, пр..бавить сумму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и..бежать, не..гораем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пр..творить мечту, пр…одолеть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пред..юньский, с..гра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Arial"/>
              </a:rPr>
              <a:t>Правильный отв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оняться перед талантом, пр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вить сум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1700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удожник Саврасов ос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ился в селе Молвит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вольно большое село со старинной церковью на окраин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евшие от времени избы крес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нские дв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рыш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в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ют дли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ые с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ль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ется, всё отсырело дерев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брёвна изб заб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врасов пр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 на  окраину села чтобы посм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ь вблизи на старую церков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сь он почу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вовал п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нящий мартовский воздух увид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 то чего жда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чи пр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тел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1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ние №2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Выполните разбор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нетический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ело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ообразовательный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чувствовал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рфологический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артовский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нтаксический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предложения тек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е №3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Какое слово образовано суффиксальным способом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разговор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екрасив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что-т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подум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трелка вправо 6">
            <a:hlinkClick r:id="rId5" action="ppaction://hlinksldjump"/>
          </p:cNvPr>
          <p:cNvSpPr/>
          <p:nvPr/>
        </p:nvSpPr>
        <p:spPr>
          <a:xfrm>
            <a:off x="6300720" y="5013360"/>
            <a:ext cx="2087640" cy="144000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3c8c93">
              <a:alpha val="71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дание №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е верно! Подумай еще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трелка вправо 3">
            <a:hlinkClick r:id="rId1" action="ppaction://hlinksldjump"/>
          </p:cNvPr>
          <p:cNvSpPr/>
          <p:nvPr/>
        </p:nvSpPr>
        <p:spPr>
          <a:xfrm>
            <a:off x="6804000" y="5157720"/>
            <a:ext cx="1655640" cy="10080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c00000">
              <a:alpha val="81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Arial"/>
              </a:rPr>
              <a:t>Верно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то + -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 №4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Установите соответствие между выделенным в предложении словом и частью речи: определите, к какой части речи относится выделенное слово в каждом предложении.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421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Дождливое лето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ХУЖ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с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В ТРЕТИЙ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 закинул он невод, пришёл невод с одной рыб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НИКТ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е забыт, ничто не забыт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трелка вправо 3">
            <a:hlinkClick r:id="rId4" action="ppaction://hlinksldjump"/>
          </p:cNvPr>
          <p:cNvSpPr/>
          <p:nvPr/>
        </p:nvSpPr>
        <p:spPr>
          <a:xfrm>
            <a:off x="6516720" y="5013360"/>
            <a:ext cx="2016000" cy="141300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7575d1">
              <a:alpha val="8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дание №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КРАТКОЕ ПРИЛАГАТЕЛЬ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право 3">
            <a:hlinkClick r:id="rId1" action="ppaction://hlinksldjump"/>
          </p:cNvPr>
          <p:cNvSpPr/>
          <p:nvPr/>
        </p:nvSpPr>
        <p:spPr>
          <a:xfrm>
            <a:off x="6732720" y="5084640"/>
            <a:ext cx="1871640" cy="1224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>
              <a:alpha val="8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Яна</cp:lastModifiedBy>
  <dcterms:modified xsi:type="dcterms:W3CDTF">2020-12-05T11:25:36Z</dcterms:modified>
  <cp:revision>890</cp:revision>
  <dc:subject/>
  <dc:title>Diapositiva 1</dc:title>
</cp:coreProperties>
</file>