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CD7-22AF-44FD-AA20-C1ABC6CA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65A-A6B9-4CDF-A824-20385C67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ADC-C910-4FE2-B578-D407792E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4BF-D3EC-4D01-A7AB-A46E3CF8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5FA-AD93-46EB-A291-DDC55C9A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C07-DC05-43BB-8F96-FEA876D8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670-B600-4725-8EA8-50036B5D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F36-E4A4-499E-ABFC-29893663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A94-70B6-4598-A740-DB2D6008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929-C0AA-4E7B-8430-710E7937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A0A-FB16-4B97-A990-BF815B18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A88-8C61-419D-82E2-038AB69A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9D77-A9A8-404D-ABCA-DC62F9BF5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российский Урок Победы, посвященный </a:t>
            </a: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у Памяти и Славы - </a:t>
            </a:r>
            <a:r>
              <a:rPr b="0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5-летию Победы в Великой Отечественной войне 1941-1945 годов.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http://static.wixstatic.com/media/e60c7e_d86dd25975754c1f86b9801574e6b442~mv2.jpg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http://alarsec.ru/upload/medialibrary/5a9/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300024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ие людские потери СССР в ходе войны составил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,6 млн.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. Из них боле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,7 млн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гибли на полях сражений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42 млн.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были истреблены нацистами на оккупированных территориях, боле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млн.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гибли от жестоких условий оккупационного режи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s://avatars.mds.yandex.net/get-pdb/1209255/ab9b3973-a253-4602-a1fc-5ed421ae1099/orig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s://avatars.mds.yandex.net/get-pdb/906476/b940f298-de46-427b-b031-80877498e677/orig"/>
          <p:cNvPicPr/>
          <p:nvPr/>
        </p:nvPicPr>
        <p:blipFill>
          <a:blip r:embed="rId2"/>
          <a:stretch/>
        </p:blipFill>
        <p:spPr>
          <a:xfrm>
            <a:off x="4643280" y="0"/>
            <a:ext cx="4286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3214800"/>
            <a:ext cx="9144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,27 млн.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были угнаны на каторжные работы в Германию. Из них вернулись на родину чуть больше половины -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65 млн.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,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0 тысяч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игрировали,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16 млн.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погибли и умерли в плен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http://waralbum.ru/wp-content/uploads/2015/01/0215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2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s://avatars.mds.yandex.net/get-pdb/28866/414e42be-9c34-4139-909b-b29b6a597a4a/s1200?webp=false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4357440"/>
            <a:ext cx="91440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день войны стоил жизни более чем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- ти тысячам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. Эт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82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еловека ежечасно,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еловек ежеминут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ttps://fs3.fotoload.ru/f/0219/1550408384/c6d61f105c.jpg"/>
          <p:cNvPicPr/>
          <p:nvPr/>
        </p:nvPicPr>
        <p:blipFill>
          <a:blip r:embed="rId1"/>
          <a:stretch/>
        </p:blipFill>
        <p:spPr>
          <a:xfrm>
            <a:off x="0" y="0"/>
            <a:ext cx="5572080" cy="435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s://avatars.mds.yandex.net/get-pdb/1341737/3ccb58b9-7e67-456b-94a5-bd4693a780b6/s1200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3571920"/>
            <a:ext cx="9144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6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е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секунд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ойне погибал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 человек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cdnimg.rg.ru/pril/article/170/48/50/TASS_7180125.jpg"/>
          <p:cNvPicPr/>
          <p:nvPr/>
        </p:nvPicPr>
        <p:blipFill>
          <a:blip r:embed="rId1"/>
          <a:stretch/>
        </p:blipFill>
        <p:spPr>
          <a:xfrm>
            <a:off x="0" y="0"/>
            <a:ext cx="500364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s://art-apple.ru/albums/worldwar-photos/world-war-photo-170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5T03:06:56Z</dcterms:created>
  <dc:creator>Sveta Blajenko</dc:creator>
  <dc:description/>
  <dc:language>en-US</dc:language>
  <cp:lastModifiedBy>Пользователь</cp:lastModifiedBy>
  <dcterms:modified xsi:type="dcterms:W3CDTF">2020-05-06T12:10:27Z</dcterms:modified>
  <cp:revision>30</cp:revision>
  <dc:subject/>
  <dc:title>Сергей Палагин</dc:title>
</cp:coreProperties>
</file>