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21D-FAE8-4B7D-A324-1E083F18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BAE-C43C-460A-AD84-71868F33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030-F7E3-4B7E-88FC-AE108175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379-5403-4DCF-B654-34DB2CC1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990-7646-495D-976F-7FA24C6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C00-CFCF-41BB-AB3C-13C034E7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AFD-1CC6-499B-A686-E94A3BE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376-162A-43F4-B360-593F0B10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B2D-2E27-402F-84B5-4B88EAFF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04C-C8EE-4638-92C4-F80A5FB2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E72-2F17-4A1F-954C-9B7D14C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820-704A-4A85-B8F6-B3AB4B8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0351-7382-415C-B927-A098FE3F4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российский Урок Победы, посвященный 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у Памяти и Славы - </a:t>
            </a:r>
            <a:r>
              <a:rPr b="0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-летию Победы в Великой Отечественной войне 1941-1945 годов.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http://static.wixstatic.com/media/e60c7e_d86dd25975754c1f86b9801574e6b442~mv2.jpg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http://alarsec.ru/upload/medialibrary/5a9/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300024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ие людские потери СССР в ходе войны составил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,6 млн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. Из них бол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,7 млн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гибли на полях сражений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42 млн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были истреблены нацистами на оккупированных территориях, бол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млн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гибли от жестоких условий оккупационного режи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s://avatars.mds.yandex.net/get-pdb/1209255/ab9b3973-a253-4602-a1fc-5ed421ae1099/orig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s://avatars.mds.yandex.net/get-pdb/906476/b940f298-de46-427b-b031-80877498e677/orig"/>
          <p:cNvPicPr/>
          <p:nvPr/>
        </p:nvPicPr>
        <p:blipFill>
          <a:blip r:embed="rId2"/>
          <a:stretch/>
        </p:blipFill>
        <p:spPr>
          <a:xfrm>
            <a:off x="4643280" y="0"/>
            <a:ext cx="4286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3214800"/>
            <a:ext cx="914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,27 млн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были угнаны на каторжные работы в Германию. Из них вернулись на родину чуть больше половины -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65 млн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0 тысяч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игрировали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16 млн.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погибли и умерли в плен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ttp://waralbum.ru/wp-content/uploads/2015/01/0215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2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s://avatars.mds.yandex.net/get-pdb/28866/414e42be-9c34-4139-909b-b29b6a597a4a/s1200?webp=false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435744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день войны стоил жизни более чем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- ти тысячам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. Эт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2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еловека ежечасно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еловек ежемину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s://fs3.fotoload.ru/f/0219/1550408384/c6d61f105c.jpg"/>
          <p:cNvPicPr/>
          <p:nvPr/>
        </p:nvPicPr>
        <p:blipFill>
          <a:blip r:embed="rId1"/>
          <a:stretch/>
        </p:blipFill>
        <p:spPr>
          <a:xfrm>
            <a:off x="0" y="0"/>
            <a:ext cx="5572080" cy="435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s://avatars.mds.yandex.net/get-pdb/1341737/3ccb58b9-7e67-456b-94a5-bd4693a780b6/s1200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е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секунд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ойне погибал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человек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cdnimg.rg.ru/pril/article/170/48/50/TASS_7180125.jpg"/>
          <p:cNvPicPr/>
          <p:nvPr/>
        </p:nvPicPr>
        <p:blipFill>
          <a:blip r:embed="rId1"/>
          <a:stretch/>
        </p:blipFill>
        <p:spPr>
          <a:xfrm>
            <a:off x="0" y="0"/>
            <a:ext cx="500364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s://art-apple.ru/albums/worldwar-photos/world-war-photo-170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03:06:56Z</dcterms:created>
  <dc:creator>Sveta Blajenko</dc:creator>
  <dc:description/>
  <dc:language>en-US</dc:language>
  <cp:lastModifiedBy>Пользователь</cp:lastModifiedBy>
  <dcterms:modified xsi:type="dcterms:W3CDTF">2020-05-06T12:10:27Z</dcterms:modified>
  <cp:revision>30</cp:revision>
  <dc:subject/>
  <dc:title>Сергей Палагин</dc:title>
</cp:coreProperties>
</file>