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5A6-4714-4196-9B43-CDB43B8B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06A-68B0-4DB1-8533-0EC72ECE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FFE-CECF-402E-AD48-43FCBFE6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E06-6D1F-4148-871C-B0DA03CC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16-4623-4417-BD60-70ED5560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CD8-A6AA-4D97-A5CB-176C40DB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9A0-F4FF-4710-B1C3-FE7BD99C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099-1FFD-4D43-8650-85167D6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73D-FDAD-4D1A-9A44-8909C7B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047-D3F2-4F77-B446-84BCE43B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EEE-53AE-42D5-B594-C57911FC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BF4-7BF3-401A-813E-8FD42FA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DC7-A7B6-4A5E-818C-0B76F36C3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ремя инженер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005000"/>
            <a:ext cx="69055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, что сегодня наука, - завтра тех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.Гел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и изобретатель Владимир Григорьевич Шухов (1853-1939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способ переработки нефти и резервуары для хранения нефте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ам Шухова во всем мире рассчитывают нефтепров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башня на Шаболовке высотой 148,3 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-строител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Васильевич Никитин (1907-19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участвовал в возведении Московского государственного университета на Ленинских гор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его творение - Останкинская радиотелевизионная башня, построенная в Москве в 1976 г. Это самое высокое свободностоящее сооружение в Европ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нжен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о люди, которые умеют воплощать в жизнь замыслы фантастов, умеют делать открытия, облегчающие нашу жизн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нженер» произошло от латинского ingenium - способность, изобретатель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это человек, которые способен к работе с техникой, к техническому творчеств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геодез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одит съемку на местности и составляет планы и карты, осуществляет геодезический контроль за взаиморасположением важных промышленных, жилых соору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мелиор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ет работу по улучшению земель, эксплуатации необходимой техники, осуществляет мероприятия по осушению и орошению земель, участвует в приемке земель, контролирует выполнение природоохранных мероприятий в процессе мелио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машино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атывает, планирует и организует технологические процессы обработки деталей и сборки машин; проектирует технологическое оборудование, машины, станки и механизмы; рассчитывает экономическую эффективность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энерге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ет бесперебойную работу и правильную эксплуатацию энергетического оборудования и коммуникаций на промышленных предприятиях; разрабатывает нормы расхода энергии и мероприятия по ее эконо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 по кадаст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ет работу по эффективному использованию земель, контролирует соблюдение земельного законодательства; внедряет проекты землеустройства и освоения новых земель; ведет кадастровые книги; дает заключение об использования терр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т станции и узлы связи; разрабатывает структурные и принципиальные схемы сетей связи; проводит пусконаладочные и ремонтные работы; осуществляет контроль и диагностику оборудования; рассчитывает эффективность внедряем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дез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лиор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шиностро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х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нерг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женер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йтинг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отрасль – 3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ная отрасль – 24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й сектор – 18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продаж –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с-менеджеры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кетинг –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енеджеры –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 инженерах с улыб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настоящего инженера все существующие в природе предметы делятся на 2 категории: те, которые требуют ремонта и те, которые потребуют ремонта, как только кто-нибудь до них дотрон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нженеров больше всего важны две вещи: собственный интеллект (IQ) и умение применять свои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ы любят решать проблемы. Если нет никаких проблем, будьте уверены: инженер обязательно создаст их сам. Обычные люди придерживаются такой точки зрения: «Если вещь работает, ее не нужно ремонтировать». Инженеры же думают так: «Если вещь работает, ее работа может быть улучше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ециаль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 трудовой деятельности  человека, владеющего комплексом специальных теоретических знаний и практических навыков, приобретённых в результате специальной подготовки, опыта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еци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приобретённых путём специальной подготовки и опыта работы знаний, умений и навыков, необходимых для определённого вида деятельности в рамках той или иной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ебное место, связанное с определённым кругом обязанностей и полномо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епень и вид профессиональной обученности работника, наличие у него знаний, умения и навыков, необходимых для выполнения им определё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Выбрал (а) ли ты професс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 Да               Б.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  Если да, то как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ы знаешь о своей будущей профессии? (несколько вариан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   предмет, содержание, условия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профессионально важные ка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 места, где можно получить эту професс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 спрос на эту профессию на рынке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 медицинские противопо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дрей Константинович Нарт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698-175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 способ отливки пушек, оптический приц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(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ебе мешает выбрать профессию? (несколько вариа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    плохо знаю мир професс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лохо знаю свои возмож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 не могу выбрать из нескольких вариа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 не знаю, как выбирать професс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    еще не думал(а) о выборе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Какой предмет труда тебя привлек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ети и взрослые, ученики и студенты, клиенты и пациенты, покупатели и пассажиры, зрители и читатели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тексты, формулы, схемы, коды, чертежи, иностранные языки, языки программирова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еньги, акции, фонды, лимиты, кредит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хн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еханизмы, станки, здания, конструкции, приборы, машин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кус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литература, музыка, театр, кино, балет, живопись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вотные и раст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икие, домашние, декоративные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делия и продук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еталл, ткани, мех, кожа, дерево, камень, лекарства, хлеб, мясо, молоко, плоды, овощи, фрукты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родные ресур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емля, леса, горы, водоемы, месторождения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Какой вид деятельности тебя привлекает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уководство чьей-либо деятельност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лу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азание различных услу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спитание, обучение, формирование лич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зготовление проду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ру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ектирование деталей и объек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учное изучение чего-либо или кого-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храна от болезней и враждебных действ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верка и наблю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, немного разобраться вам в себе самом поможет шуточный тест с геометрическими фигурами. Используя три геометрические фигуры- треугольник, круг и квадрат, нарисуйте человечка. Состоящего из 10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ы быть использованы все три вида фигур. Качество рисунка не имеет значения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подсчитаем колич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-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уголь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ервый тип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ип руководителя, хорошие преподава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рко выражено стремление к лидерству, хорошо разбираются в люд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треуголь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торой тип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чень ответственные люди. хорошие организаторские способ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 мелочей продумывает свою дея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етий тип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нообразие интересов и талант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лонность к индивидуальной рабо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твёртый тип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учён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ционален, объективен, легко переключается с одного вида деятельности н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ый тип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нтерес к искусству и челове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нко чувствует всё новое и необычно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естой тип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обретатель, конструктор, худож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адает богатым вообра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ван Петрович Кулибин (1735-18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форный теле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до-мо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жентельменский наб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плом о профессиональном образовании. Причем, чем выше полученные во время учебы оценки, тем более привлекательно в глазах работодателя выглядит обладатель дип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ладение компьютером. Знание компьютера не подразумевает достижения заоблачных высот программирования - достаточно просто уметь самостоятельно включить машину, найти там нужную программу, поработать в ней и, сохранив все на диске, выйти из системы. "Нужными программами" обычно являются Microsoft Word, Microsoft Exс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Знание иностранных яз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доровый образ жизни, хорошая физическая форма. Сегодня в моде не субтильные кашляющие очкарики, а крепкие и энергичные парни и дев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бщая эрудиция, кругозор, начита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резентабельный внешн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Ораторские способности, коммуникабельность, обаяние, сообраз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 Наличие второй специальности; дополнительные профессиональные навыки. Лишних знаний и навыков не быв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обретатели отец и сын Черепановы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Ефим Алексеевич (1774-1842)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н Ефимович (1803-18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в России парово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железная дор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тех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Александр Николаевич Лодыгин (1847-1923)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ел Николаевич Яблочков (1847-18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атели электрич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зик и электротехник Александр Степанович Попо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1859- 190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атель радио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Егорович  Жуковский (1847-19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ель аэродинам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иаконструкто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дрей Николаевич Туполев (1887-19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ь отечественного самолето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2:43:02Z</dcterms:created>
  <dc:creator>Пользователь</dc:creator>
  <dc:description/>
  <dc:language>en-US</dc:language>
  <cp:lastModifiedBy>Irins</cp:lastModifiedBy>
  <dcterms:modified xsi:type="dcterms:W3CDTF">2020-12-06T01:13:58Z</dcterms:modified>
  <cp:revision>2</cp:revision>
  <dc:subject/>
  <dc:title>Время инженеров</dc:title>
</cp:coreProperties>
</file>