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C58-1E1E-45E8-8B04-45EBC31E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520-AEE3-4AB1-B222-4ED683CA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8C0-70D6-42EC-B7BE-2562DB8E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075-C1B9-448F-8E75-00CCEA89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3BD-147A-430F-A6FB-D51820F7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C52-0705-4A58-8602-2F8C0173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613-C0FF-46B7-B990-53E2E991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85F-76F6-4BCF-B136-01AA9EEA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4D0-F0E2-4455-8EFC-C6A59F69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C1B-78FD-426C-89BF-B5C54B5A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BC5-3166-4547-85BE-90DBE82C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835-2472-4695-BAA9-6F050258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4DC1-755B-40BA-8F3C-4E26B4084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Время инженер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4005000"/>
            <a:ext cx="69055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, что сегодня наука, - завтра тех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.Гел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женер и изобретатель Владимир Григорьевич Шухов (1853-1939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й способ переработки нефти и резервуары для хранения нефтепроду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ам Шухова во всем мире рассчитывают нефтепров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башня на Шаболовке высотой 148,3 ме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женер-строитель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олай Васильевич Никитин (1907-19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участвовал в возведении Московского государственного университета на Ленинских гор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его творение - Останкинская радиотелевизионная башня, построенная в Москве в 1976 г. Это самое высокое свободностоящее сооружение в Европ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нжене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то люди, которые умеют воплощать в жизнь замыслы фантастов, умеют делать открытия, облегчающие нашу жизнь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нжене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инженер» произошло от латинского ingenium - способность, изобретательност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это человек, которые способен к работе с техникой, к техническому творчеств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женер-геодез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одит съемку на местности и составляет планы и карты, осуществляет геодезический контроль за взаиморасположением важных промышленных, жилых соору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женер-мелиор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ует работу по улучшению земель, эксплуатации необходимой техники, осуществляет мероприятия по осушению и орошению земель, участвует в приемке земель, контролирует выполнение природоохранных мероприятий в процессе мелио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женер-машиностро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атывает, планирует и организует технологические процессы обработки деталей и сборки машин; проектирует технологическое оборудование, машины, станки и механизмы; рассчитывает экономическую эффективность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женер-энерге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ует бесперебойную работу и правильную эксплуатацию энергетического оборудования и коммуникаций на промышленных предприятиях; разрабатывает нормы расхода энергии и мероприятия по ее эконо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женер по кадаст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ует работу по эффективному использованию земель, контролирует соблюдение земельного законодательства; внедряет проекты землеустройства и освоения новых земель; ведет кадастровые книги; дает заключение об использования терр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женер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ует станции и узлы связи; разрабатывает структурные и принципиальные схемы сетей связи; проводит пусконаладочные и ремонтные работы; осуществляет контроль и диагностику оборудования; рассчитывает эффективность внедряемы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дез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лиор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шиностро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ха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о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нерге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женер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йтинг професс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отрасль – 3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енерная отрасль – 24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й сектор – 18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продаж –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с-менеджеры – 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кетинг –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енеджеры – 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 инженерах с улыб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настоящего инженера все существующие в природе предметы делятся на 2 категории: те, которые требуют ремонта и те, которые потребуют ремонта, как только кто-нибудь до них дотрон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инженеров больше всего важны две вещи: собственный интеллект (IQ) и умение применять свои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енеры любят решать проблемы. Если нет никаких проблем, будьте уверены: инженер обязательно создаст их сам. Обычные люди придерживаются такой точки зрения: «Если вещь работает, ее не нужно ремонтировать». Инженеры же думают так: «Если вещь работает, ее работа может быть улучшен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ециально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Квалификац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 трудовой деятельности  человека, владеющего комплексом специальных теоретических знаний и практических навыков, приобретённых в результате специальной подготовки, опыта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еци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 приобретённых путём специальной подготовки и опыта работы знаний, умений и навыков, необходимых для определённого вида деятельности в рамках той или иной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жебное место, связанное с определённым кругом обязанностей и полномо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вал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тепень и вид профессиональной обученности работника, наличие у него знаний, умения и навыков, необходимых для выполнения им определё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  Выбрал (а) ли ты професс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 Да               Б.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   Если да, то каку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 (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ы знаешь о своей будущей профессии? (несколько вариан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    предмет, содержание, условия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 профессионально важные ка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 места, где можно получить эту професс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 спрос на эту профессию на рынке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 медицинские противопоказ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к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дрей Константинович Нарто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1698-1756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78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л способ отливки пушек, оптический приц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(Б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ебе мешает выбрать профессию? (несколько вариа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    плохо знаю мир професс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 плохо знаю свои возмож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 не могу выбрать из нескольких вариа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 не знаю, как выбирать професс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    еще не думал(а) о выборе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Какой предмет труда тебя привлека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лове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дети и взрослые, ученики и студенты, клиенты и пациенты, покупатели и пассажиры, зрители и читатели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тексты, формулы, схемы, коды, чертежи, иностранные языки, языки программировани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деньги, акции, фонды, лимиты, кредиты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хни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механизмы, станки, здания, конструкции, приборы, машины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кусств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литература, музыка, театр, кино, балет, живопись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ивотные и раст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дикие, домашние, декоративные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делия и продук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металл, ткани, мех, кожа, дерево, камень, лекарства, хлеб, мясо, молоко, плоды, овощи, фрукты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родные ресурс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емля, леса, горы, водоемы, месторождения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Какой вид деятельности тебя привлекает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уководство чьей-либо деятельность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луж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казание различных услу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спитание, обучение, формирование лич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изготовление продук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ру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ектирование деталей и объект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учное изучение чего-либо или кого-либ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храна от болезней и враждебных действ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верка и наблюд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быть, немного разобраться вам в себе самом поможет шуточный тест с геометрическими фигурами. Используя три геометрические фигуры- треугольник, круг и квадрат, нарисуйте человечка. Состоящего из 10 эле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ы быть использованы все три вида фигур. Качество рисунка не имеет значения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ерь подсчитаем количеств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уг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-8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еуголь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ервый тип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тип руководителя, хорошие преподават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рко выражено стремление к лидерству, хорошо разбираются в люд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 треуголь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торой тип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чень ответственные люди. хорошие организаторские способнос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 мелочей продумывает свою деятель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етий тип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нообразие интересов и талант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лонность к индивидуальной рабо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твёртый тип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п учёног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ционален, объективен, легко переключается с одного вида деятельности н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ятый тип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нтерес к искусству и человек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нко чувствует всё новое и необычно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 тре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естой тип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зобретатель, конструктор, художн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ладает богатым воображ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к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ван Петрович Кулибин (1735-18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афорный теле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до-мо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жентельменский набо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иплом о профессиональном образовании. Причем, чем выше полученные во время учебы оценки, тем более привлекательно в глазах работодателя выглядит обладатель дипл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ладение компьютером. Знание компьютера не подразумевает достижения заоблачных высот программирования - достаточно просто уметь самостоятельно включить машину, найти там нужную программу, поработать в ней и, сохранив все на диске, выйти из системы. "Нужными программами" обычно являются Microsoft Word, Microsoft Exс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Знание иностранных яз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доровый образ жизни, хорошая физическая форма. Сегодня в моде не субтильные кашляющие очкарики, а крепкие и энергичные парни и дев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Общая эрудиция, кругозор, начита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Презентабельный внешни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) Ораторские способности, коммуникабельность, обаяние, сообраз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) Наличие второй специальности; дополнительные профессиональные навыки. Лишних знаний и навыков не быва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обретатели отец и сын Черепановы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Ефим Алексеевич (1774-1842) 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он Ефимович (1803-18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е в России паровоз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железная дор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техни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Александр Николаевич Лодыгин (1847-1923) 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вел Николаевич Яблочков (1847-18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етатели электрич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зик и электротехник Александр Степанович Попов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1859- 1906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етатель радио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женер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олай Егорович  Жуковский (1847-192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тель аэродинам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виаконструктор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дрей Николаевич Туполев (1887-197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тель отечественного самолетостро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2:43:02Z</dcterms:created>
  <dc:creator>Пользователь</dc:creator>
  <dc:description/>
  <dc:language>en-US</dc:language>
  <cp:lastModifiedBy>Irins</cp:lastModifiedBy>
  <dcterms:modified xsi:type="dcterms:W3CDTF">2020-12-06T01:13:58Z</dcterms:modified>
  <cp:revision>2</cp:revision>
  <dc:subject/>
  <dc:title>Время инженеров</dc:title>
</cp:coreProperties>
</file>