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FB0-D71A-4D0C-A874-AC1F2C41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3B7-3C58-437F-B906-47772BEA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0608C-46C1-493E-887B-5B836535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10B95-CBF6-434D-8300-EA66ECD0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C5C6C-E65B-49A5-AD53-0EF13A3A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332AC-A2CA-41C5-9EBE-53CE0510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00F2B-2F8D-4DE3-8B26-1CFC5DC0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40B3A-F56A-4C4A-A414-21E2C24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92E82-7034-43AD-80A8-B7F0869A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1F367-58CF-4D2F-A6F6-ADA041A9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B3FC1-09CC-4183-9948-02A9A648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9CA11-4232-45A9-92CD-FD5A30B8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C17-1C90-4C86-9297-DE6F3FFC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E0EE4-BF81-43EB-8CA1-1811B399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ED6C3-0DAA-46FB-8374-135C5594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37FD9-3148-49D6-A3C0-1142A8C4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93C9D-DD71-4E5E-960F-6013C96F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23BA3-FF0F-45E5-A972-05CA2CCC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E4AC9-FBCD-46E8-A50A-E83B1A0D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9B508-07A9-4D00-B851-B39688A9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9A63A-298A-433F-A1AD-F9EA1187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955E9-A18F-42C4-B2BF-CB121B50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8DE1A-4EE7-46A9-B546-E0EAB7C8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D21-EF12-4EE5-B8F7-9D2A99AC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B1C55-884C-482E-8296-87B7DD45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5CE14-A236-4532-B0DB-EBCD9FF4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CB0DE-2374-428F-B8A9-21548018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A3037-0937-4CAA-BC11-6C74FB36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5AA44-C6C4-473A-ACED-2C47A906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5EF10-B4C3-450E-90F8-85B43BB0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8FE48-B464-4130-BE61-33C5C872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7C35E-6254-4358-8B55-468F72C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32308-6563-4C4A-B484-F3519134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9961A-055A-419D-9AF7-4BC94CFF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131B-CA0A-49B9-8EE8-8712DCA4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E4809-6A2F-4EA0-9D67-754AA43F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0961D-6FF0-487E-A8A9-A85DC8F1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F1387-087A-40A6-9302-D0E8E306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EA221-2BE6-4629-B3AA-94E58E2D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A8D3E-5062-452B-B138-F106E6E4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B31AC-2F46-4084-89C8-95ABA9EF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0025E-73EA-49AE-BB4D-9317F700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A3AE6-BCC6-4EB4-85AF-21661C81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9D74B-77FE-4C4C-9641-D0775C5D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5093A-95AF-474B-89F7-FF0E3B23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2E05-3946-468C-ACD1-4EB3C98E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DEEC3-C1F1-4709-8479-145F621C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18381-8CEC-44A5-91A4-CE901B5D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61E98-6BDF-494F-951E-C0F235AB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25192-1641-4420-BE34-5A602E06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0EE32-1F16-42B5-BD49-875617B6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430C-2863-425E-AB92-18EB3ECC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D1DF-0AA4-44B3-ADD0-02CA6C36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B89F-D422-4271-BA90-1360E0C7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F459-9E42-42BD-8371-34C96627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B80F-725B-4A6C-927C-0D465CE7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E01-F538-4AFC-BE69-16472120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9213-044F-470C-9FEC-BE8911B6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89D9-F251-401D-AC5F-AC4ADC30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B79A-C404-4F73-80AF-46ABCBAC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57C3-D92C-4A2F-A8A2-8F69A03A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1E8D-13BA-44D1-B5DE-55985E23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E63A-173D-45C7-901F-E245BCA1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C17C-ECE0-4432-B9E4-EC678F18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03C8-7762-4F9E-8519-93968B04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24FF-FF09-44DD-AC64-D2B771B7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1A24-92C4-4FA2-A7DD-201A2184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2A1-ED31-4FF6-A53B-42F95FFD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AFCB-CA39-4E8B-85D0-1054D7BB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7846-E4E0-46BC-B55E-EDE467B6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1BE9-5CF4-4029-B921-77688D4A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A4AE-B26C-47F7-A913-24E9E1D4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4288-3885-45D1-9F48-86447B6B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A24B0-8BB9-46F6-90A9-88256C5B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526E-BD7A-46D2-99B7-47BB7914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82174-6E39-4F02-A464-5FEB3004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19AC-9032-490F-A943-C71952C8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B9EB-E777-4629-A4D0-4CBE2E74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04D-8B04-4000-B37A-FBF5A6D1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4240-F3DD-480A-A5BE-16ED8008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8C7B7-27B3-4C78-86F6-56549CAB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AE55-010D-4984-82CA-0DE7F678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4C06D-C3B4-427E-B3B3-7AB699F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CC4B0-AF79-431E-89A3-091804B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32830-368A-47E5-A346-C78594CB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EB147-9E0D-4CC8-A236-0F481B07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DBA9E-E7E1-4664-AA4E-3E4E119D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D2516-30F0-42BD-8EE6-43BD3623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5E16B-25B1-4074-80F3-C20776BC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DA4-21A6-4827-A0B8-0299C421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B2D0-4674-4EC6-B3B6-63F946EC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4A80-59AA-4414-9C5F-9CF1C6F9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648BA-429A-4E07-99CC-103C9A69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DBEEB-EB6A-4FD5-AA84-B5948DB9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11D53-4737-4775-8FF1-B9897421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FD9C9-16E0-4848-90A8-2B4DC82B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56897-5ED1-4556-A082-D6EEE382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FF321-5991-4419-AAC1-65441900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A69B1-2C61-4F4C-8403-6C67896F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1DD16-6447-4859-B179-81977D57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924-8077-4514-9BA4-F2D77AFA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671B2-0A45-410D-9A3F-ECB219A1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2C522-68CC-4EC8-B4E3-7BDD5906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A35C3-BE29-443E-9736-F2404EF8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8509D-5326-4712-B290-872BB7FE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83F83-83D7-4F17-BF89-EAA5AC10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6FA75-C478-43C5-AA14-777D8B3E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21863-54DD-4A41-A68F-59F2CA0F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C020C-4310-4623-8AE6-B3EECBA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F6084-2585-40CA-A5DE-44720051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DB0A2-E6CD-45A5-9468-556B5922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90C-AD4E-4D64-9F75-34F0DA51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3EA05-1C81-4ED0-90F5-78E50CD8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EB0C4-2E29-4E3B-8604-0207EEBB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438AF-A18E-41BD-82F6-BE5AA600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E0026-DF38-4649-B294-6A5CCC56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B07D6-6B98-4791-B4D6-D52CC1EE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2C26D-9190-4A44-8FAC-39F1D482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BDB5E-D8D9-49AE-91AE-AFAF601C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B1FFC-547C-4F12-A053-48B303E7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590D5-12D6-4E55-92C3-B93B40C2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11420-A947-40AC-9B9F-E6EB88C5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5AA-E4CD-402D-9975-465AA868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D5695-2AEF-4B5B-BF4D-B840F826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EA97B-3120-47DE-A917-9C19E56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F03F5-5481-4236-A317-BD1FD177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46319-8F5E-4223-BEBC-D2444EBE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19325-3F42-4338-BECF-FCB4BDC5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9F9AE-75A5-44BE-97F0-C95A1D7A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5013E-F64F-414E-98D7-AA38BBB0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D02F3-CD4A-4970-9099-1ECEFA7A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4A389-E41D-4639-A3BE-75809B5C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D33E3-A5DB-42CE-91F6-4880F303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89F-6558-4D45-AE0A-576D8B88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E4FB5-DA56-4C88-B25D-3373563E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69EBF-CEB7-4CBE-8CEA-BEB88270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DB247-3DAC-4907-866F-A9A9F276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26C5-080E-4194-A6E6-2879CA7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5D5E6-1D6F-44F6-B32D-3E11FEA7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D5BDB-8BF1-4E32-9AE4-12300ACC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60D26-6FB6-4487-8B62-1F6F8DB9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34380-754E-48FB-B815-DE6340B2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40880-90FB-49FD-9490-D960BC47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47921-2F87-46E9-B1E6-DEB04E9E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051B-8AC4-489F-9748-FB3BB0F2BA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1E4C-E1C6-4A47-AB67-9BCEEA894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5A20-C3E4-47E4-AC95-06E3F1CF7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4EC5-872B-4C31-90B4-9D4E4AD57C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FF37-8A48-413F-A21C-7E5BBA1A8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E157-5F3E-4EC5-8055-DD29E5498A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6385-DD25-4EF1-BB74-A4BA5213A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564F-DCDC-4880-9AB7-9EAC0AF5B2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0774-FCE7-4BAE-84A9-7EF0E55E8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7250-715C-4F4E-A04E-34709B34B4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C4A8-83F5-4D0C-90E5-F891E08DF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F3A9-E6B8-4F51-BED8-3DB82FDF70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6.png"/><Relationship Id="rId5" Type="http://schemas.openxmlformats.org/officeDocument/2006/relationships/slide" Target="slide22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5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5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3" name="5-конечная звезда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06" name="5-конечная звезда 2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7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2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33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36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с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0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4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64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9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65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65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12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5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34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5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ятаева</cp:lastModifiedBy>
  <dcterms:modified xsi:type="dcterms:W3CDTF">2013-06-21T18:02:05Z</dcterms:modified>
  <cp:revision>49</cp:revision>
  <dc:subject/>
  <dc:title>Дети - герои ВОВ</dc:title>
</cp:coreProperties>
</file>