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gif" ContentType="image/gif"/>
  <Override PartName="/ppt/media/image25.png" ContentType="image/png"/>
  <Override PartName="/ppt/media/image24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2.png" ContentType="image/png"/>
  <Override PartName="/ppt/media/image17.gif" ContentType="image/gif"/>
  <Override PartName="/ppt/media/image15.gif" ContentType="image/gif"/>
  <Override PartName="/ppt/media/image20.png" ContentType="image/png"/>
  <Override PartName="/ppt/media/image2.jpeg" ContentType="image/jpeg"/>
  <Override PartName="/ppt/media/image16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A8C-C083-4B30-93A6-C1026F8E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C4EF-603E-49D7-BD6A-8BAC7AF2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D36-D644-484A-A92F-6DB90193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41BF-D42B-4763-A165-E33DCB31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008A-C0D5-4646-BA39-B5ABC7A3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0DE2-14E7-40BD-8ADD-5AE9EEC6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4D70-BCB7-4284-ACD3-6741ADBA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93E9-F7D0-41F3-AD07-50740552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09F6-D368-4859-B1F1-9449BE52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32C0-7923-417D-BC32-AAF5CB18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6EB8-E8BA-4E01-960F-FFBEB7FE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0B8-C522-457E-BA61-23969416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DEF1-29E5-4BED-AC8B-5862C177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4397-940C-4894-B0BB-CF9819BE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A152-1E07-4E5D-9FC3-BB706397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3400-1C9C-417D-B02B-DF67E386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F589-8F7E-4FF3-94CB-05FC4979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0BF-254B-439F-8FD0-916B3C27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E05-F736-439E-B949-82F91C68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99CA-C828-42E0-B81C-AC0C21C0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2C9-CD04-442C-9923-A8B54082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98BC-2EE1-4B69-8B6A-1A42B7B3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472-502F-4CE4-BAE1-24603984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B4E3-E6E8-49D3-BEC4-D890BBC3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AC0A-72F0-406B-AF31-1D96922B8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F252-486B-44B5-A297-337EFF2BD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0520" y="992160"/>
            <a:ext cx="5005440" cy="29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12 декабря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–</a:t>
            </a:r>
            <a:br>
              <a:rPr sz="3600"/>
            </a:b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День </a:t>
            </a:r>
            <a:br>
              <a:rPr sz="4800"/>
            </a:b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Конституции Р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rcRect l="0" t="0" r="0" b="4222"/>
          <a:stretch/>
        </p:blipFill>
        <p:spPr>
          <a:xfrm>
            <a:off x="5356080" y="304920"/>
            <a:ext cx="3421080" cy="4643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3646440" y="5398920"/>
            <a:ext cx="531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Конституция – основной закон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47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 1993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Всенародны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голосованием была принята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нституция Российской Федерации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С 2005 года 12 декабря не является в России выходным днём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ень Конститу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причислен к памятным датам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435640" y="4221000"/>
            <a:ext cx="2925720" cy="2291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347400"/>
            <a:ext cx="60102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К 15-летию Конституции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в 2008 году Президент России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Дмитрий Медведев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сказа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82640" y="2507760"/>
            <a:ext cx="5435640" cy="41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02a51"/>
                </a:solidFill>
                <a:latin typeface="Arial"/>
              </a:rPr>
              <a:t>«12 декабря 1993 года в нашей стране впервые за её историю был принят принципиально новый Основной закон – такой Закон, который признал высшей ценностью человека, его права и свободы, который установил основы демократического порядка России и обязавший государство на деле соблюдать и защищать эти новые базовые ценности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80px-Dmitry_Medvedev_official_large_photo_-5"/>
          <p:cNvPicPr/>
          <p:nvPr/>
        </p:nvPicPr>
        <p:blipFill>
          <a:blip r:embed="rId1"/>
          <a:srcRect l="0" t="4140" r="0" b="13051"/>
          <a:stretch/>
        </p:blipFill>
        <p:spPr>
          <a:xfrm>
            <a:off x="6827760" y="333360"/>
            <a:ext cx="1685880" cy="195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388800" y="2027160"/>
            <a:ext cx="207324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Конституция Российской Федерации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 - это </a:t>
            </a:r>
            <a:r>
              <a:rPr b="1" i="1" lang="ru-RU" sz="2600" spc="-1" strike="noStrike">
                <a:solidFill>
                  <a:srgbClr val="cc0000"/>
                </a:solidFill>
                <a:latin typeface="Times New Roman"/>
              </a:rPr>
              <a:t>основной закон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нашего государства, который имеет высшую юридическую силу, прямое действие и применяется на всей территории Р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Конституция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- это основной закон государства, к которому должны быть подлажены все остальные законы. Если какой-то закон все же противоречит Конституции, то поступать следует так, как указывает 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390600"/>
            <a:ext cx="9074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398597733"/>
          <p:cNvPicPr/>
          <p:nvPr/>
        </p:nvPicPr>
        <p:blipFill>
          <a:blip r:embed="rId1"/>
          <a:stretch/>
        </p:blipFill>
        <p:spPr>
          <a:xfrm>
            <a:off x="6351480" y="5267160"/>
            <a:ext cx="1533600" cy="1047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" y="31392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труктура Конститу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9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амб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сновы конституционного строя (ст.1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а и свободы человека и гражданина (ст.17-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устройство (ст.65-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4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зидент Российской Федерации (ст.80-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5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собрание (ст.94-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6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ительство Российской Федерации (ст.110-1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7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Судебная власть (ст.118-1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8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Местное самоуправление (ст.130-1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9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онные поправки и пересмо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и (ст.134-1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второй. Заключительные и переходные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96760" y="1936800"/>
            <a:ext cx="662472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онституция РФ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закрепляет</a:t>
            </a: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 основы конституционного строя России, права и свободы человека и гражданина, федеративное устройство, организацию высших органов государственн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34920" y="523800"/>
            <a:ext cx="676584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russia_symbols"/>
          <p:cNvPicPr/>
          <p:nvPr/>
        </p:nvPicPr>
        <p:blipFill>
          <a:blip r:embed="rId1"/>
          <a:srcRect l="66644" t="0" r="0" b="0"/>
          <a:stretch/>
        </p:blipFill>
        <p:spPr>
          <a:xfrm>
            <a:off x="7050240" y="195120"/>
            <a:ext cx="191268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Все люди равны перед законом, и каждого из нас защищает государство, через полицию и су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794300152"/>
          <p:cNvPicPr/>
          <p:nvPr/>
        </p:nvPicPr>
        <p:blipFill>
          <a:blip r:embed="rId1"/>
          <a:stretch/>
        </p:blipFill>
        <p:spPr>
          <a:xfrm>
            <a:off x="6073920" y="4818240"/>
            <a:ext cx="181440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920" y="29340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своб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6944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ши свободы – свобода слова, вероисповедания и со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По этому закону все права и свободы, данные нам государством, не должны нарушать или ущемлять права и свободы других гражд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пример, свобода слова – мы имеем право искать, собирать и распространять информацию, но не имеем права вмешиваться в личную жизнь других людей, разглашать государственную тай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для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5121360" cy="28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аждый ученик может подробнее узнать о Конституции РФ, прочитав сам закон, или специальный справочник для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613480" y="1538280"/>
            <a:ext cx="290988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54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01720" y="1606680"/>
          <a:ext cx="8229600" cy="447012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9160"/>
                <a:gridCol w="747720"/>
                <a:gridCol w="749520"/>
                <a:gridCol w="747720"/>
                <a:gridCol w="749160"/>
                <a:gridCol w="747720"/>
                <a:gridCol w="747720"/>
                <a:gridCol w="7477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6396120" y="262080"/>
            <a:ext cx="2112840" cy="2120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6326280" y="4665600"/>
            <a:ext cx="2530440" cy="1581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63"/>
          <p:cNvSpPr/>
          <p:nvPr/>
        </p:nvSpPr>
        <p:spPr>
          <a:xfrm>
            <a:off x="1706400" y="1684440"/>
            <a:ext cx="26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   Е    Р   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64"/>
          <p:cNvSpPr/>
          <p:nvPr/>
        </p:nvSpPr>
        <p:spPr>
          <a:xfrm>
            <a:off x="3135240" y="2452680"/>
            <a:ext cx="623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65"/>
          <p:cNvSpPr/>
          <p:nvPr/>
        </p:nvSpPr>
        <p:spPr>
          <a:xfrm>
            <a:off x="746280" y="3211560"/>
            <a:ext cx="82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   О     Н          Т      И    Т    У    Ц     И  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67"/>
          <p:cNvSpPr/>
          <p:nvPr/>
        </p:nvSpPr>
        <p:spPr>
          <a:xfrm>
            <a:off x="2297160" y="4683240"/>
            <a:ext cx="29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            М   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157320" y="301680"/>
            <a:ext cx="91440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С праздником,</a:t>
            </a:r>
            <a:br>
              <a:rPr sz="5400"/>
            </a:b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 Днём Конституци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740040" y="2570040"/>
            <a:ext cx="51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оздравляю вас с Дн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Конституци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 желаю, чтоб нашу стра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Обошли стороной револю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Чтоб она не познала вой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усть живет, процветает Велик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аша Родина, гордость и че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еприятели пусть многоли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озабудут коварство и л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321080" y="4497480"/>
            <a:ext cx="4484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rcRect l="0" t="0" r="4179" b="2942"/>
          <a:stretch/>
        </p:blipFill>
        <p:spPr>
          <a:xfrm>
            <a:off x="506520" y="2158920"/>
            <a:ext cx="2120760" cy="2692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306360" y="4921200"/>
            <a:ext cx="25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экземпл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1720" y="855720"/>
            <a:ext cx="821376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Любая конституция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 – это доку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который закрепляет основы конституционного строя государства, права и свободы человека и гражданина, основы общественного строя, форму правления и территориального устройства, организацию высших органов государственной власти, столицу государства и государственную символику.</a:t>
            </a:r>
            <a:r>
              <a:rPr b="0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8440" y="274320"/>
            <a:ext cx="839628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 праздником,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Днём Конституци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4510080" y="1339920"/>
            <a:ext cx="2286000" cy="2571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6772320" y="1344600"/>
            <a:ext cx="2214360" cy="2571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4481640" y="3921120"/>
            <a:ext cx="2214360" cy="2571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4"/>
          <a:stretch/>
        </p:blipFill>
        <p:spPr>
          <a:xfrm>
            <a:off x="6713640" y="3903840"/>
            <a:ext cx="2286000" cy="2584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55520" y="1382760"/>
            <a:ext cx="5108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день Конституции Россий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Я от души хочу вам пожел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Лишь счастья, независимо от на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И чаще толерантность проявл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России нашей множ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народнос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Так пусть же между нами будет ми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свободиться нужно от условнос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Чтоб всех нас флаг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бъедин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532138653"/>
          <p:cNvPicPr/>
          <p:nvPr/>
        </p:nvPicPr>
        <p:blipFill>
          <a:blip r:embed="rId5"/>
          <a:stretch/>
        </p:blipFill>
        <p:spPr>
          <a:xfrm>
            <a:off x="993600" y="4334040"/>
            <a:ext cx="1165320" cy="87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4600" y="274320"/>
            <a:ext cx="85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4800" y="1665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4197240" y="1587600"/>
            <a:ext cx="4600800" cy="420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пасибо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нимание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99284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1960" y="612360"/>
            <a:ext cx="423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ГИМН РОСС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48240" y="628560"/>
            <a:ext cx="45957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Россия - священная наша держа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Россия - любимая наша стран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Могучая воля, великая слава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Твоё достоянье на все време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Припев: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Славься, Отечество наше свободное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Братских народов союз веко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Предками данная мудрость народ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Славься, страна! Мы гордимся тобой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От южных морей до полярного кр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Раскинулись наши леса и 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Одна ты на свете! Одна ты такая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Хранимая Богом родная зем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Припев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Славься, Отечество наше свободное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Братских народов союз веко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Предками данная мудрость народ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Славься, страна! Мы гордимся тобой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Широкий простор для мечты и для жизн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Грядущие нам открывают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Нам силу даёт наша верность Отчиз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Так было, так есть и так будет всегда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Припев.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55560" y="2416320"/>
            <a:ext cx="3268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лова: Михалков С.В. советский пис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(д.р. 1913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узыка: Александров А.В. композитор и дирижё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(1883 – 1946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83040" y="518760"/>
            <a:ext cx="340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ЛАГ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691240" y="2279520"/>
            <a:ext cx="1905120" cy="1266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1082520" y="2171880"/>
            <a:ext cx="1857600" cy="2189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523800" y="379440"/>
            <a:ext cx="31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ЕРБ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253120" y="4037040"/>
            <a:ext cx="30988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нерусское понимание мира в символике цве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ый – цвет мира Божеств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ий цвет – небе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й – цвет мира физического (природного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История Конституци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661212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18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СФ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24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36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77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93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6920" y="256680"/>
            <a:ext cx="7961400" cy="12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РСФСР 1918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г.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9440" y="1444320"/>
            <a:ext cx="52959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содержала 6 разделов, 17 глав и 90 статей. Конституция 1918 г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закрепила диктатуру пролетари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Лица, жившие на нетрудовые доходы или использовавшие наемный труд были лишены политических пра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Данная Конституция была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самой идеологизированной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из всех советских конституций. Она утратила силу в связи с принятием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и 1924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220px-Обложка_Конституции_РСФСР_1918_года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40520" y="1571760"/>
            <a:ext cx="2697120" cy="3935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8960" y="460440"/>
            <a:ext cx="53532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24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87680" y="2018880"/>
            <a:ext cx="51516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В 1922 года I съез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Советов СССР утвер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Договор об образовании СССР. Договор подписали четыре республики: Россия, Украина, Белоруссия и Закавказье (в состав которой входили Грузия, Армения, Азербайджан). Каждая из республик уже имела свою конституцию. Съезд принял решение о разработке общесоюзной конститу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1924 года Конституция была единогласно принята II съездом Со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ussr"/>
          <p:cNvPicPr/>
          <p:nvPr/>
        </p:nvPicPr>
        <p:blipFill>
          <a:blip r:embed="rId1"/>
          <a:stretch/>
        </p:blipFill>
        <p:spPr>
          <a:xfrm>
            <a:off x="6488280" y="146160"/>
            <a:ext cx="2261880" cy="2317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595440" y="1960560"/>
            <a:ext cx="2012760" cy="3127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5480" y="379080"/>
            <a:ext cx="52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36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69448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Неофициальное название: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Сталинская конституция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 Несмотря на свое название, основным автором конституции был впоследствии репрессированный Николай Бухарин. В работе над текстом конституции непосредственно принимал участие И.В. Стали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0_1c0d6_199e7891_XL"/>
          <p:cNvPicPr/>
          <p:nvPr/>
        </p:nvPicPr>
        <p:blipFill>
          <a:blip r:embed="rId1"/>
          <a:srcRect l="3045" t="1386" r="2149" b="1890"/>
          <a:stretch/>
        </p:blipFill>
        <p:spPr>
          <a:xfrm>
            <a:off x="6000840" y="438120"/>
            <a:ext cx="2766960" cy="40114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564000" y="4724280"/>
            <a:ext cx="56037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1936 года по замыслу авторов должна была отразить важный этап в истории Советского государства – построение социализма. В ее обсуждении впервые участвовало 75 млн.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3080" y="374400"/>
            <a:ext cx="60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1977 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24120" y="3016080"/>
            <a:ext cx="52610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Эта конституция закрепляла однопартийную политическую систему (КПСС). Несмотря на распад СССР действовала на территории России до 199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Вошла в историю как конституция развитого социализма» ил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Брежневская конституция»</a:t>
            </a: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brezh"/>
          <p:cNvPicPr/>
          <p:nvPr/>
        </p:nvPicPr>
        <p:blipFill>
          <a:blip r:embed="rId1">
            <a:lum bright="-6000"/>
          </a:blip>
          <a:srcRect l="0" t="1087" r="0" b="0"/>
          <a:stretch/>
        </p:blipFill>
        <p:spPr>
          <a:xfrm>
            <a:off x="6324480" y="166680"/>
            <a:ext cx="1933560" cy="2644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493560" y="1882800"/>
            <a:ext cx="2252880" cy="3014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1</cp:lastModifiedBy>
  <dcterms:modified xsi:type="dcterms:W3CDTF">2015-11-30T09:55:48Z</dcterms:modified>
  <cp:revision>64</cp:revision>
  <dc:subject/>
  <dc:title>Слайд 1</dc:title>
</cp:coreProperties>
</file>