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7E4-18E2-4EA3-822D-518753F5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E72-00C6-47A2-A530-0C87D043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CBC-A9A7-419F-ADFE-F1DC9134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6477-A0FD-4ED3-98E7-02842024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64E3-30FC-4F91-B228-D5D4E43E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F577-D814-4789-A51C-88002795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B00D-D7D5-4200-A8DF-48364757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565D-8DBD-4CD6-A085-559C9413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5640-6E7A-4F0E-BECC-2FF97765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DAF7-2C0D-424A-BC43-62C11AD5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048E-5F20-486E-B613-E02B657B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2559-0FFD-463B-B2E6-04177CC9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4EBF-DAB3-4071-A95D-9B31450F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ACC0-77EA-4617-9524-2FAFD1FC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C5D7-EA3C-42E3-9244-94107AC7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E9EE-978E-4332-9B09-E4886E3D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86FF-07B0-4D4A-9275-76B85497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B87A-E492-4A36-B6B9-C4B00EFA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B9C-B954-463F-8E7F-E73821C4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EFF-8738-427B-93D6-B826F582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87D-A7FF-4A22-8898-13DBA178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1BDE-2F4D-4BA7-8A67-278E2A59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224B-CB09-4E6C-9DDB-DD5820DD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8DA-DAFF-49E6-8306-130CF40A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0B44-08A3-4FB1-97A0-A602EEC24B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86D1-CF93-4A0F-A4F9-466878C229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336666"/>
                </a:solidFill>
                <a:latin typeface="Arial Black"/>
              </a:rPr>
              <a:t>Презентация для родителей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2920" y="2349360"/>
            <a:ext cx="756144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«Домашняя игротека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ставитель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нтус Ирина Игорев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web-tutor_jpg_1296906cl-8"/>
          <p:cNvPicPr/>
          <p:nvPr/>
        </p:nvPicPr>
        <p:blipFill>
          <a:blip r:embed="rId1"/>
          <a:stretch/>
        </p:blipFill>
        <p:spPr>
          <a:xfrm>
            <a:off x="1619280" y="3573360"/>
            <a:ext cx="230508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201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66"/>
                </a:solidFill>
                <a:latin typeface="Arial"/>
              </a:rPr>
              <a:t>«Игра с мячом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«Я буду называть предметы и бросать тебе мяч. Ты будешь ловить только тогда, когда в слове услышишь звук «с» (называете любой звук). Если в слове звука нет, то мяч ловить не надо. Начинаем…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i?id=192814597-22-72&amp;n=21"/>
          <p:cNvPicPr/>
          <p:nvPr/>
        </p:nvPicPr>
        <p:blipFill>
          <a:blip r:embed="rId1"/>
          <a:stretch/>
        </p:blipFill>
        <p:spPr>
          <a:xfrm>
            <a:off x="6804000" y="4653000"/>
            <a:ext cx="1467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i?id=148123792-56-72&amp;n=21"/>
          <p:cNvPicPr/>
          <p:nvPr/>
        </p:nvPicPr>
        <p:blipFill>
          <a:blip r:embed="rId1"/>
          <a:stretch/>
        </p:blipFill>
        <p:spPr>
          <a:xfrm>
            <a:off x="7308720" y="4724280"/>
            <a:ext cx="1390680" cy="14288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1280" y="549360"/>
            <a:ext cx="6627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6666"/>
                </a:solidFill>
                <a:latin typeface="Arial Black"/>
              </a:rPr>
              <a:t>Игры на развитие мелкой моторики рук</a:t>
            </a:r>
            <a:endParaRPr b="0" lang="en-US" sz="2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673452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66"/>
                </a:solidFill>
                <a:latin typeface="Arial"/>
              </a:rPr>
              <a:t>«Помогаю маме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Большую часть времени вы проводите на кухне. Вы заняты приготовлением ужина. Малыш крутится возле вас. Предложите ему перебрать горох, рис, гречку. Тем самым он окажет вам посильную помощь и потренирует свои пальчики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920" y="980640"/>
            <a:ext cx="73440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66"/>
                </a:solidFill>
                <a:latin typeface="Arial"/>
              </a:rPr>
              <a:t>«Волшебные палочки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Дайте ребенку счетные палочки. Пусть он выкладывает из них простейшие геометрические фигуры, узоры, буквы, предметы. А дополнить можно вырезанными из бумаги детал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0_54594_1da35c40_XL"/>
          <p:cNvPicPr/>
          <p:nvPr/>
        </p:nvPicPr>
        <p:blipFill>
          <a:blip r:embed="rId1"/>
          <a:stretch/>
        </p:blipFill>
        <p:spPr>
          <a:xfrm>
            <a:off x="324000" y="4581360"/>
            <a:ext cx="208728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6666"/>
                </a:solidFill>
                <a:latin typeface="Arial Black"/>
              </a:rPr>
              <a:t>Игры на обогащение словаря ребенка</a:t>
            </a:r>
            <a:endParaRPr b="0" lang="en-US" sz="2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«Доскажи словечк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Вы начинаете фразу, а ребенок заканчивает ее. Например: ворона каркает, а воробей …(чирикает). Сова летает, а заяц…(бегает, прыгает). У коровы теленок, а у лошади …(жеребенок) и т.д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i?id=462244335-05-72&amp;n=21"/>
          <p:cNvPicPr/>
          <p:nvPr/>
        </p:nvPicPr>
        <p:blipFill>
          <a:blip r:embed="rId1"/>
          <a:stretch/>
        </p:blipFill>
        <p:spPr>
          <a:xfrm>
            <a:off x="324000" y="4724280"/>
            <a:ext cx="876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15640" y="2133360"/>
            <a:ext cx="698508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На кухне можно проводить игры на обогащение словаря ребенк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3100" spc="-1" strike="noStrike">
                <a:solidFill>
                  <a:srgbClr val="000066"/>
                </a:solidFill>
                <a:latin typeface="Arial"/>
              </a:rPr>
              <a:t>«Давай искать на кухне слова»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Какие слова можно вынуть из борща? Винегрета? Кухонного шкафа? Плиты? и п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i?id=431390827-13-72&amp;n=21"/>
          <p:cNvPicPr/>
          <p:nvPr/>
        </p:nvPicPr>
        <p:blipFill>
          <a:blip r:embed="rId1"/>
          <a:stretch/>
        </p:blipFill>
        <p:spPr>
          <a:xfrm>
            <a:off x="6804000" y="4724280"/>
            <a:ext cx="180972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03280" y="980640"/>
            <a:ext cx="7010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«Угощаю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Давай вспомним слова и угостим друг друга. Ребенок называет «вкусное» слово и кладет вам на ладошку, затем вы ему, и так до тех пор, пока все не «съедите». Можно поиграть в «сладкие», «кислые», «соленые», «горькие» слов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i?id=189131877-30-72&amp;n=21"/>
          <p:cNvPicPr/>
          <p:nvPr/>
        </p:nvPicPr>
        <p:blipFill>
          <a:blip r:embed="rId1"/>
          <a:stretch/>
        </p:blipFill>
        <p:spPr>
          <a:xfrm>
            <a:off x="395280" y="4653000"/>
            <a:ext cx="135252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7086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6666"/>
                </a:solidFill>
                <a:latin typeface="Arial Black"/>
              </a:rPr>
              <a:t>Игры на развитие грамматического строя речи</a:t>
            </a:r>
            <a:endParaRPr b="0" lang="en-US" sz="2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625284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66"/>
                </a:solidFill>
                <a:latin typeface="Arial"/>
              </a:rPr>
              <a:t>«Упрямые слова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Расскажите ребенку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что есть на свете «упрямые» слова, которые никогда не изменяются (кофе, платье, метро, пианино). Например: я надеваю пальто, на вешалке висит пальто, у меня красивое пальто. Задавайте ребенку вопросы и следите, чтобы он не изменял слова в предложениях – отве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Картинка 103 из 761"/>
          <p:cNvPicPr/>
          <p:nvPr/>
        </p:nvPicPr>
        <p:blipFill>
          <a:blip r:embed="rId1"/>
          <a:stretch/>
        </p:blipFill>
        <p:spPr>
          <a:xfrm>
            <a:off x="6983280" y="170028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«Я замети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По дороге из детского сада (в детский сад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Давай проверим кто из нас самый внимательный. Будем называть предметы, мимо которых мы проходим, а еще обязательно укажем какие он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Вот почтовый ящик – он синий. Я заметил кошку – она пушистая. Ребенок и взрослый могут называть увиденные объекты по очеред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99640" y="907560"/>
            <a:ext cx="720108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«Приготовим с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Из яблок…(яблочный); из груш…(грушевый); из моркови, сливы, вишни, апельсина, лимона и т.п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Справились? А теперь наоборот : апельсиновый сок из чего? И т.д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0_54574_f703ed54_XL"/>
          <p:cNvPicPr/>
          <p:nvPr/>
        </p:nvPicPr>
        <p:blipFill>
          <a:blip r:embed="rId1"/>
          <a:stretch/>
        </p:blipFill>
        <p:spPr>
          <a:xfrm>
            <a:off x="6659640" y="549360"/>
            <a:ext cx="19447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i?id=410915817-66-72&amp;n=21"/>
          <p:cNvPicPr/>
          <p:nvPr/>
        </p:nvPicPr>
        <p:blipFill>
          <a:blip r:embed="rId1"/>
          <a:stretch/>
        </p:blipFill>
        <p:spPr>
          <a:xfrm>
            <a:off x="468360" y="4365720"/>
            <a:ext cx="1425600" cy="1942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1197000"/>
            <a:ext cx="6912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66"/>
                </a:solidFill>
                <a:latin typeface="Arial"/>
              </a:rPr>
              <a:t>«Волшебные очки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66"/>
                </a:solidFill>
                <a:latin typeface="Arial"/>
              </a:rPr>
              <a:t>«Представь, что у нас есть волшебные очки. Когда их надеваешь, то все становиться красным (синим, зеленым, прозрачным и т.д.).Посмотри вокруг, какого цвета все стало скажи?» (красный стол, красный нос, красная собака и пр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Картинка 31 из 765"/>
          <p:cNvPicPr/>
          <p:nvPr/>
        </p:nvPicPr>
        <p:blipFill>
          <a:blip r:embed="rId2"/>
          <a:stretch/>
        </p:blipFill>
        <p:spPr>
          <a:xfrm>
            <a:off x="7020000" y="189000"/>
            <a:ext cx="15825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i?id=59417920-56-72&amp;n=21"/>
          <p:cNvPicPr/>
          <p:nvPr/>
        </p:nvPicPr>
        <p:blipFill>
          <a:blip r:embed="rId1"/>
          <a:stretch/>
        </p:blipFill>
        <p:spPr>
          <a:xfrm>
            <a:off x="324000" y="4653000"/>
            <a:ext cx="1247760" cy="14288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9800" y="615960"/>
            <a:ext cx="7231320" cy="8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6666"/>
                </a:solidFill>
                <a:latin typeface="Arial Black"/>
              </a:rPr>
              <a:t>Подвижные игры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6877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«Зайчи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Выделение звука из ряда гласных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а, и, у, ю, я, э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«Будешь прыгать как лягушка, если услышишь «а», на другие звуки опускаешь низко руки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66"/>
                </a:solidFill>
                <a:latin typeface="Arial"/>
              </a:rPr>
              <a:t>По аналогии проводиться игра на другие гласные звуки. Позже можно проводить игру на согласные звук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22:33:05Z</dcterms:created>
  <dc:creator>Слепнева</dc:creator>
  <dc:description/>
  <dc:language>en-US</dc:language>
  <cp:lastModifiedBy>0</cp:lastModifiedBy>
  <dcterms:modified xsi:type="dcterms:W3CDTF">2020-12-10T08:22:59Z</dcterms:modified>
  <cp:revision>6</cp:revision>
  <dc:subject/>
  <dc:title>Презентация для родителей</dc:title>
</cp:coreProperties>
</file>